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laser.wav" ContentType="audio/x-wav"/>
  <Override PartName="/ppt/media/image16.jpeg" ContentType="image/jpeg"/>
  <Override PartName="/ppt/media/image22.png" ContentType="image/png"/>
  <Override PartName="/ppt/media/projctor.wav" ContentType="audio/x-wav"/>
  <Override PartName="/ppt/media/image24.png" ContentType="image/png"/>
  <Override PartName="/ppt/media/image11.jpeg" ContentType="image/jpeg"/>
  <Override PartName="/ppt/media/image21.gif" ContentType="image/gif"/>
  <Override PartName="/ppt/media/image20.gif" ContentType="image/gif"/>
  <Override PartName="/ppt/media/image19.png" ContentType="image/png"/>
  <Override PartName="/ppt/media/image18.jpeg" ContentType="image/jpeg"/>
  <Override PartName="/ppt/media/image17.jpeg" ContentType="image/jpeg"/>
  <Override PartName="/ppt/media/image12.gif" ContentType="image/gif"/>
  <Override PartName="/ppt/media/image15.jpeg" ContentType="image/jpeg"/>
  <Override PartName="/ppt/media/image25.wmf" ContentType="image/x-wmf"/>
  <Override PartName="/ppt/media/type.wav" ContentType="audio/x-wav"/>
  <Override PartName="/ppt/media/image6.jpeg" ContentType="image/jpeg"/>
  <Override PartName="/ppt/media/image14.gif" ContentType="image/gif"/>
  <Override PartName="/ppt/media/image1.jpeg" ContentType="image/jpeg"/>
  <Override PartName="/ppt/media/image10.png" ContentType="image/png"/>
  <Override PartName="/ppt/media/image35.jpeg" ContentType="image/jpeg"/>
  <Override PartName="/ppt/media/image2.jpeg" ContentType="image/jpeg"/>
  <Override PartName="/ppt/media/image4.jpeg" ContentType="image/jpeg"/>
  <Override PartName="/ppt/media/image40.png" ContentType="image/png"/>
  <Override PartName="/ppt/media/chimes.wav" ContentType="audio/x-wav"/>
  <Override PartName="/ppt/media/image13.gif" ContentType="image/gif"/>
  <Override PartName="/ppt/media/image34.png" ContentType="image/png"/>
  <Override PartName="/ppt/media/image9.png" ContentType="image/png"/>
  <Override PartName="/ppt/media/image37.png" ContentType="image/png"/>
  <Override PartName="/ppt/media/image41.png" ContentType="image/png"/>
  <Override PartName="/ppt/media/image42.jpeg" ContentType="image/jpeg"/>
  <Override PartName="/ppt/media/image44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5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27.png" ContentType="image/png"/>
  <Override PartName="/ppt/media/image36.png" ContentType="image/png"/>
  <Override PartName="/ppt/media/image48.png" ContentType="image/png"/>
  <Override PartName="/ppt/media/image49.jpeg" ContentType="image/jpeg"/>
  <Override PartName="/ppt/media/image32.png" ContentType="image/png"/>
  <Override PartName="/ppt/media/image31.png" ContentType="image/png"/>
  <Override PartName="/ppt/media/image29.wmf" ContentType="image/x-wmf"/>
  <Override PartName="/ppt/media/image26.png" ContentType="image/png"/>
  <Override PartName="/ppt/media/image30.png" ContentType="image/png"/>
  <Override PartName="/ppt/media/image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23.wmf" ContentType="image/x-wmf"/>
  <Override PartName="/ppt/media/image50.png" ContentType="image/png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7AF-B389-4BA1-AD31-B63FB380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517-B810-49F8-803B-C507B983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4E556-4686-40CB-A78B-E83904D9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82065-314A-4B48-8553-3EC5A698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AC0AC-3DE1-4C59-9F71-D9E17561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929AA-2085-42EA-960A-F8C4D06D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413D5-B095-4C1B-9935-370F473D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0B77A-CE0F-42A9-9AA7-65D847E1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9FF91-9791-48CF-B6BC-74F4116A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C406F-9C0F-4425-9950-7308B181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14496-32FD-458F-97A7-98C3609C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F4F-A92C-4E91-8319-5FE4D96A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56D-8375-45B5-B32F-2F7D9FCC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6652-F336-4DEB-99D2-A61C7F8F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CFAA-9B8C-4289-9D03-0EC5445B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31FF-53B2-45B9-A50F-0C797FEF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9E5F-B2C3-456A-B405-F40E96B2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43F1-5CA2-44D2-8D1E-0146954B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2A37-B6A8-46B2-9650-94D7A317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0F2F-4313-4835-869D-25E9381C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6FC-2B97-4859-81E5-CD9CF02D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C23E-1EC4-47F4-80AD-864B9F6C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E99D-CB65-4538-9A28-4838DE57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9B32-B4EF-44FD-9D99-FD2664C9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2B8D-0F25-4329-B8E2-2980CB3C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2172-EF91-4B51-9C1C-019F6436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7062-4771-48CE-B276-88D886C4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93B41-BA03-4E06-9113-AC05A681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A2EE5-39AE-4756-B68A-66246067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DDAF6-48CA-4968-8380-60A539B3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F913-C64D-4F12-9BC2-549BEE31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AA7-055F-4179-B774-2F45C3F8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B051-AF9B-40D3-ABDD-3ABE02FF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9C1B4-D763-4D4D-985B-5FE5159C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05277-9E7E-4149-8624-EC2880DB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453A8-2CCA-4A08-8544-7C0E1637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9175-0D09-467A-8990-FF7145EB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FDEBF-65CD-444B-9308-FFFE2854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61701-E309-4813-B3A1-8CDC514E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27FF3-0508-454B-B2D5-D8827D1B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B3F2C-07FD-411A-854A-E8219B85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2C144-90FC-4D42-82C4-37959F57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944-ECFE-4B35-A78B-ACB76236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2313D-359D-414F-8EB2-4F08A72B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71D53-554A-4B26-BF13-111C7725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5BD44-61DE-4DB2-A524-1939B6BD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F9E1E-FE57-44B2-B8D6-A21648B2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1F11E-AB2D-4D75-8DB3-6084F3EF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616CD-52DD-40C8-B754-E5839FF1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FB6CC-F553-4179-B8EA-0AC95E7D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C7033-61FF-4737-ADDF-FEB17ED5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C1B69-BC8C-4EE7-873A-6DB512A1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3CB30-7AA2-47E1-8E78-9F329316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AEA-4F8A-4BC7-82F8-F26B9016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A7B87-F913-4A5A-9ABB-72D5C0A2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005AB-B4AC-4CBC-B0EF-4181EE44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B0080-E796-4F8F-BB14-CEA64AF9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D46DA-C85C-4ABB-8AC2-3A75B021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5F074-F0D2-4C97-A02A-87BA1E11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FA191-F927-4F70-892A-FC1310E8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F2380-B952-4FD2-84BF-CE7F729D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4BB4E-99EA-4E22-A619-9C3A4AC2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A5BF6-BCD7-40FE-B77C-7C21AF57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F93CC-A734-4080-A6A6-3CD1DEDF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7F1-C7EA-41BB-B2FC-CACBF1B2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B7A06-B03E-4100-9543-DDF1CB85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3F917-3214-4602-A3E9-3E1E5F37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82DE1-AA3F-4DDE-9EC0-85E60DFB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AE2FF-DAE4-407F-863E-DE50C022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EFB5E-6033-4DD0-B173-DAE15592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B50BD-E671-4D37-B67F-C9BD879A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BF476-6DE8-4425-B46B-E941673B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783A7-2ECC-48E0-943E-C6480FE9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34431-A1EC-49F6-BBA5-C3306C6A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38893-5FDB-457F-8F8F-3FB265CC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63B-6147-417B-904D-AFB85E0C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E61FE-9AC0-4EAF-AED1-D7982082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0FCE2-40CC-4E3C-8C48-5226D0B8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11919-69DC-4A0A-BCFB-D318DE60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8A6BC-9827-42A1-901F-9D4BD4BD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E7299-C5F2-4070-A687-A2C82D91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BE1322-7FE2-4C27-AC3E-95147122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6B96E4-E2F2-42D4-968F-5D9B3D4C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E30C3-4BF4-4892-A95D-60C8D2CB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9B7134-C89B-4A35-8868-784FB106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8525A3-662B-49A7-8899-1907F1B4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CF5-8DFB-4B13-8CC7-55CBDEEC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D16B8-E4CE-435D-8A76-4ABB5996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072AF-96F4-4AB7-B43B-3E2BB2A0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D7F1F-A3D5-4C26-807A-BAA92E1C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EC49E4-953C-43D6-934C-90333647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7F8914-0616-42E3-A811-40EDD409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76991-FD6C-426D-92ED-734AFA67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645B5-CC40-4536-B130-D8532863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A8DA9-D82A-4A41-8001-55820F12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5A0F1-6BDB-43BB-A3E0-5063368C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5DF6C-8CAD-4D12-AB38-C7EFBC0B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ECE-F7E7-4E46-82E4-394DAAD7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691B3-7B45-4B01-9456-0A6AE0B2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516AB-9DD0-42A7-A713-A9D24B0F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B9ACB-9773-4847-8487-39C7B010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CC81A-E7E2-4379-AF87-034F112B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B57FA-8A39-4F14-B1F9-889DB99A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8E9B9-38E4-4C0A-BE4A-85B38491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6B3EA-7F7C-4EE1-98A6-C20DA971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66255-D147-4DEE-AD1E-E4315A00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97ECF-D00F-43DE-AEE4-4D1B4ACE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9666C-1ED9-426C-A226-2E37B4FE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6AA6-4859-4E5D-B219-F402B61F46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1C83-AB9C-4E2E-934D-41B23CA7D9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9959-B4EF-4788-B2FB-F287452DA6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7768-A99E-45E0-8929-C039275DB9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D11B-8334-4FB0-92CB-6C54DED4D4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86660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0322-05DE-4D6B-9826-DB3CCED113C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A163-B084-4007-92D9-860A4310F9B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AB81-98E6-4059-86DE-91CB3956CD5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7FB5-1496-4423-92C1-B631A586CF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0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9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9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57.xml"/><Relationship Id="rId3" Type="http://schemas.openxmlformats.org/officeDocument/2006/relationships/slide" Target="slide58.xml"/><Relationship Id="rId4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Layout" Target="../slideLayouts/slideLayout9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9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9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projctor.wav" TargetMode="External"/><Relationship Id="rId4" Type="http://schemas.openxmlformats.org/officeDocument/2006/relationships/slideLayout" Target="../slideLayouts/slideLayout9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2340000" y="3032280"/>
            <a:ext cx="388764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29.2 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三视图（第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1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课时）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4360" y="477720"/>
            <a:ext cx="4248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义务教育课程标准实验教科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692360" y="981000"/>
            <a:ext cx="165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九年级 上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300720" y="6165720"/>
            <a:ext cx="2016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人民教育出版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"/>
          <p:cNvGrpSpPr/>
          <p:nvPr/>
        </p:nvGrpSpPr>
        <p:grpSpPr>
          <a:xfrm>
            <a:off x="4572000" y="691200"/>
            <a:ext cx="4571640" cy="4718520"/>
            <a:chOff x="4572000" y="691200"/>
            <a:chExt cx="4571640" cy="4718520"/>
          </a:xfrm>
        </p:grpSpPr>
        <p:sp>
          <p:nvSpPr>
            <p:cNvPr id="522" name=""/>
            <p:cNvSpPr/>
            <p:nvPr/>
          </p:nvSpPr>
          <p:spPr>
            <a:xfrm>
              <a:off x="4572000" y="838080"/>
              <a:ext cx="4457880" cy="4571640"/>
            </a:xfrm>
            <a:prstGeom prst="bevel">
              <a:avLst>
                <a:gd name="adj" fmla="val 131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99240" y="1566720"/>
              <a:ext cx="903240" cy="1148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10800000">
              <a:off x="5137200" y="3749760"/>
              <a:ext cx="1540080" cy="106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64360" y="1027080"/>
              <a:ext cx="123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主视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82000" y="47480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俯视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07800" y="1027080"/>
              <a:ext cx="163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左视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49080" y="1581120"/>
              <a:ext cx="1540080" cy="1142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6709320" y="1557720"/>
              <a:ext cx="855720" cy="1149120"/>
              <a:chOff x="6709320" y="1557720"/>
              <a:chExt cx="855720" cy="1149120"/>
            </a:xfrm>
          </p:grpSpPr>
          <p:sp>
            <p:nvSpPr>
              <p:cNvPr id="530" name=""/>
              <p:cNvSpPr/>
              <p:nvPr/>
            </p:nvSpPr>
            <p:spPr>
              <a:xfrm>
                <a:off x="6720840" y="1557720"/>
                <a:ext cx="338400" cy="0"/>
              </a:xfrm>
              <a:prstGeom prst="line">
                <a:avLst/>
              </a:prstGeom>
              <a:ln w="3168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709320" y="2706840"/>
                <a:ext cx="338040" cy="0"/>
              </a:xfrm>
              <a:prstGeom prst="line">
                <a:avLst/>
              </a:prstGeom>
              <a:ln w="3168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172640" y="1557720"/>
                <a:ext cx="338400" cy="0"/>
              </a:xfrm>
              <a:prstGeom prst="line">
                <a:avLst/>
              </a:prstGeom>
              <a:ln w="3168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226640" y="2706840"/>
                <a:ext cx="338400" cy="0"/>
              </a:xfrm>
              <a:prstGeom prst="line">
                <a:avLst/>
              </a:prstGeom>
              <a:ln w="3168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90040" y="1557720"/>
                <a:ext cx="0" cy="112572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362000" y="1564920"/>
                <a:ext cx="0" cy="112536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840360" y="180540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5133240" y="2759040"/>
              <a:ext cx="1551960" cy="948600"/>
              <a:chOff x="5133240" y="2759040"/>
              <a:chExt cx="1551960" cy="948600"/>
            </a:xfrm>
          </p:grpSpPr>
          <p:sp>
            <p:nvSpPr>
              <p:cNvPr id="538" name=""/>
              <p:cNvSpPr/>
              <p:nvPr/>
            </p:nvSpPr>
            <p:spPr>
              <a:xfrm>
                <a:off x="5137200" y="2759040"/>
                <a:ext cx="0" cy="332280"/>
              </a:xfrm>
              <a:prstGeom prst="line">
                <a:avLst/>
              </a:prstGeom>
              <a:ln w="3168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685200" y="2759040"/>
                <a:ext cx="0" cy="332280"/>
              </a:xfrm>
              <a:prstGeom prst="line">
                <a:avLst/>
              </a:prstGeom>
              <a:ln w="3168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679080" y="3376080"/>
                <a:ext cx="0" cy="331560"/>
              </a:xfrm>
              <a:prstGeom prst="line">
                <a:avLst/>
              </a:prstGeom>
              <a:ln w="3168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133240" y="3376080"/>
                <a:ext cx="0" cy="331560"/>
              </a:xfrm>
              <a:prstGeom prst="line">
                <a:avLst/>
              </a:prstGeom>
              <a:ln w="3168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137200" y="2892240"/>
                <a:ext cx="152424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37200" y="3553920"/>
                <a:ext cx="152424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644440" y="2892240"/>
                <a:ext cx="62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4921560" y="691200"/>
              <a:ext cx="3583440" cy="4121640"/>
              <a:chOff x="4921560" y="691200"/>
              <a:chExt cx="3583440" cy="412164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4921560" y="691200"/>
                <a:ext cx="3583440" cy="4111920"/>
                <a:chOff x="4921560" y="691200"/>
                <a:chExt cx="3583440" cy="4111920"/>
              </a:xfrm>
            </p:grpSpPr>
            <p:sp>
              <p:nvSpPr>
                <p:cNvPr id="547" name=""/>
                <p:cNvSpPr/>
                <p:nvPr/>
              </p:nvSpPr>
              <p:spPr>
                <a:xfrm rot="5400000">
                  <a:off x="5674680" y="1831680"/>
                  <a:ext cx="2045880" cy="179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4921560" y="690840"/>
                  <a:ext cx="3583440" cy="4111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4" y="1"/>
                      </a:moveTo>
                      <a:arcTo wR="10800" hR="10800" stAng="-5433870" swAng="54682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4" y="1"/>
                      </a:moveTo>
                      <a:arcTo wR="10800" hR="10800" stAng="-5433870" swAng="5468266"/>
                    </a:path>
                  </a:pathLst>
                </a:custGeom>
                <a:noFill/>
                <a:ln w="3168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7562880" y="2892240"/>
                <a:ext cx="90324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886440" y="3751920"/>
                <a:ext cx="0" cy="106092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830280" y="394164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765920" y="277992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"/>
          <p:cNvSpPr/>
          <p:nvPr/>
        </p:nvSpPr>
        <p:spPr>
          <a:xfrm>
            <a:off x="115920" y="-123840"/>
            <a:ext cx="89820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三视图的位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位置规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主视图要在左上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它的下方应是俯视图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左视图坐落在右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练习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下面的四组图中，如图所示的圆柱体的三视图是（   ）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5400000">
            <a:off x="7716600" y="780840"/>
            <a:ext cx="765000" cy="1485720"/>
          </a:xfrm>
          <a:prstGeom prst="can">
            <a:avLst>
              <a:gd name="adj" fmla="val 174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9680" y="1800360"/>
            <a:ext cx="1440000" cy="76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40040" y="1800360"/>
            <a:ext cx="1439640" cy="76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90400" y="3173400"/>
            <a:ext cx="765360" cy="765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0000" y="2664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主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363760" y="2700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左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8040" y="39387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俯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11120" y="3408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隶书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95760" y="1763640"/>
            <a:ext cx="1440000" cy="765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95760" y="3060720"/>
            <a:ext cx="1440000" cy="76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72360" y="1763640"/>
            <a:ext cx="765000" cy="765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032440" y="2529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主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435720" y="2664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左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077080" y="3825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俯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638760" y="3359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隶书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8080" y="5632560"/>
            <a:ext cx="1439640" cy="76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052720" y="4335480"/>
            <a:ext cx="1439640" cy="76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35040" y="4397400"/>
            <a:ext cx="765000" cy="765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08040" y="5199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主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476440" y="52354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左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8040" y="64371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俯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323800" y="5857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隶书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57840" y="4299120"/>
            <a:ext cx="1440000" cy="76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60880" y="5460840"/>
            <a:ext cx="765360" cy="765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878360" y="5064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主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81920" y="5199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左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22800" y="62262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俯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86240" y="5907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隶书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084640" y="4299120"/>
            <a:ext cx="765360" cy="765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4067280" y="260280"/>
            <a:ext cx="4787640" cy="35910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541440" y="400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俯视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68360" y="242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左视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65840" y="907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主视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3995640" y="4941720"/>
            <a:ext cx="1482840" cy="96372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403280" y="5013360"/>
            <a:ext cx="1582920" cy="792000"/>
          </a:xfrm>
          <a:custGeom>
            <a:avLst/>
            <a:gdLst>
              <a:gd name="textAreaLeft" fmla="*/ 348120 w 1582920"/>
              <a:gd name="textAreaRight" fmla="*/ 1234800 w 1582920"/>
              <a:gd name="textAreaTop" fmla="*/ 174240 h 792000"/>
              <a:gd name="textAreaBottom" fmla="*/ 6177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789560" y="595008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500720" y="5950080"/>
            <a:ext cx="4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908760" y="602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332000" y="907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74840" y="4005360"/>
            <a:ext cx="20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332000" y="24066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38600" y="227664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939680" y="395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866960" y="83664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16720" y="4653000"/>
            <a:ext cx="1224000" cy="12240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33289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231840" y="62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14920" y="1773360"/>
            <a:ext cx="823320" cy="2680920"/>
            <a:chOff x="214920" y="1773360"/>
            <a:chExt cx="823320" cy="2680920"/>
          </a:xfrm>
        </p:grpSpPr>
        <p:sp>
          <p:nvSpPr>
            <p:cNvPr id="603" name=""/>
            <p:cNvSpPr/>
            <p:nvPr/>
          </p:nvSpPr>
          <p:spPr>
            <a:xfrm>
              <a:off x="217440" y="3933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俯视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7440" y="2852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左视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4920" y="1773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主视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862280" y="604044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0" y="6040440"/>
            <a:ext cx="4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772320" y="602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42920" y="184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87280" y="400536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187280" y="285264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717920" y="170028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908000" y="191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050920" y="29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789560" y="270828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794240" y="386064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619280" y="4869000"/>
            <a:ext cx="6264000" cy="1152360"/>
            <a:chOff x="1619280" y="4869000"/>
            <a:chExt cx="6264000" cy="1152360"/>
          </a:xfrm>
        </p:grpSpPr>
        <p:pic>
          <p:nvPicPr>
            <p:cNvPr id="618" name="" descr=""/>
            <p:cNvPicPr/>
            <p:nvPr/>
          </p:nvPicPr>
          <p:blipFill>
            <a:blip r:embed="rId2"/>
            <a:stretch/>
          </p:blipFill>
          <p:spPr>
            <a:xfrm>
              <a:off x="1619280" y="5013360"/>
              <a:ext cx="14828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 rot="10800000">
              <a:off x="6300360" y="5013360"/>
              <a:ext cx="1582920" cy="792000"/>
            </a:xfrm>
            <a:custGeom>
              <a:avLst/>
              <a:gdLst>
                <a:gd name="textAreaLeft" fmla="*/ 348120 w 1582920"/>
                <a:gd name="textAreaRight" fmla="*/ 1234800 w 1582920"/>
                <a:gd name="textAreaTop" fmla="*/ 174240 h 792000"/>
                <a:gd name="textAreaBottom" fmla="*/ 6177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3995640" y="4869000"/>
              <a:ext cx="1224000" cy="1152360"/>
              <a:chOff x="3995640" y="4869000"/>
              <a:chExt cx="1224000" cy="1152360"/>
            </a:xfrm>
          </p:grpSpPr>
          <p:sp>
            <p:nvSpPr>
              <p:cNvPr id="621" name=""/>
              <p:cNvSpPr/>
              <p:nvPr/>
            </p:nvSpPr>
            <p:spPr>
              <a:xfrm>
                <a:off x="3995640" y="4869000"/>
                <a:ext cx="1224000" cy="1152360"/>
              </a:xfrm>
              <a:prstGeom prst="donut">
                <a:avLst>
                  <a:gd name="adj" fmla="val 2500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404600" y="5252760"/>
                <a:ext cx="408600" cy="3844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395280" y="620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考考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5425920" y="1763640"/>
            <a:ext cx="3556080" cy="4005360"/>
          </a:xfrm>
          <a:prstGeom prst="bevel">
            <a:avLst>
              <a:gd name="adj" fmla="val 1310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 rot="10800000">
            <a:off x="340200" y="1852560"/>
            <a:ext cx="4995720" cy="3781440"/>
          </a:xfrm>
          <a:prstGeom prst="cube">
            <a:avLst>
              <a:gd name="adj" fmla="val 25023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463760" y="1763640"/>
            <a:ext cx="1214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058080" y="1827360"/>
            <a:ext cx="9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902720" y="1839960"/>
            <a:ext cx="13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左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222720" y="2324160"/>
            <a:ext cx="103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主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7182000" y="2303640"/>
            <a:ext cx="682560" cy="1414080"/>
            <a:chOff x="7182000" y="2303640"/>
            <a:chExt cx="682560" cy="1414080"/>
          </a:xfrm>
        </p:grpSpPr>
        <p:sp>
          <p:nvSpPr>
            <p:cNvPr id="631" name=""/>
            <p:cNvSpPr/>
            <p:nvPr/>
          </p:nvSpPr>
          <p:spPr>
            <a:xfrm>
              <a:off x="7191360" y="2303640"/>
              <a:ext cx="270000" cy="0"/>
            </a:xfrm>
            <a:prstGeom prst="line">
              <a:avLst/>
            </a:prstGeom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82000" y="3717720"/>
              <a:ext cx="269640" cy="0"/>
            </a:xfrm>
            <a:prstGeom prst="line">
              <a:avLst/>
            </a:prstGeom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551720" y="2303640"/>
              <a:ext cx="270000" cy="0"/>
            </a:xfrm>
            <a:prstGeom prst="line">
              <a:avLst/>
            </a:prstGeom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94560" y="3717720"/>
              <a:ext cx="270000" cy="0"/>
            </a:xfrm>
            <a:prstGeom prst="line">
              <a:avLst/>
            </a:prstGeom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26360" y="2303640"/>
              <a:ext cx="0" cy="1385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02560" y="2312640"/>
              <a:ext cx="0" cy="13845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86760" y="2608560"/>
              <a:ext cx="31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724360" y="3773520"/>
            <a:ext cx="1438200" cy="644040"/>
            <a:chOff x="5724360" y="3773520"/>
            <a:chExt cx="1438200" cy="644040"/>
          </a:xfrm>
        </p:grpSpPr>
        <p:sp>
          <p:nvSpPr>
            <p:cNvPr id="639" name=""/>
            <p:cNvSpPr/>
            <p:nvPr/>
          </p:nvSpPr>
          <p:spPr>
            <a:xfrm>
              <a:off x="5727960" y="3773520"/>
              <a:ext cx="0" cy="225360"/>
            </a:xfrm>
            <a:prstGeom prst="line">
              <a:avLst/>
            </a:prstGeom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62560" y="3773520"/>
              <a:ext cx="0" cy="225360"/>
            </a:xfrm>
            <a:prstGeom prst="line">
              <a:avLst/>
            </a:prstGeom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56800" y="4192560"/>
              <a:ext cx="0" cy="225000"/>
            </a:xfrm>
            <a:prstGeom prst="line">
              <a:avLst/>
            </a:prstGeom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4192560"/>
              <a:ext cx="0" cy="225000"/>
            </a:xfrm>
            <a:prstGeom prst="line">
              <a:avLst/>
            </a:prstGeom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727960" y="3863880"/>
              <a:ext cx="14122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27960" y="4313160"/>
              <a:ext cx="14122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98120" y="3863880"/>
              <a:ext cx="57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5681520" y="2226960"/>
            <a:ext cx="3100320" cy="3123000"/>
            <a:chOff x="5681520" y="2226960"/>
            <a:chExt cx="3100320" cy="3123000"/>
          </a:xfrm>
        </p:grpSpPr>
        <p:sp>
          <p:nvSpPr>
            <p:cNvPr id="647" name=""/>
            <p:cNvSpPr/>
            <p:nvPr/>
          </p:nvSpPr>
          <p:spPr>
            <a:xfrm rot="5400000">
              <a:off x="6422040" y="2986560"/>
              <a:ext cx="150120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75" y="13"/>
                  </a:moveTo>
                  <a:arcTo wR="10800" hR="10800" stAng="-5567235" swAng="5947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75" y="13"/>
                  </a:moveTo>
                  <a:arcTo wR="10800" hR="10800" stAng="-5567235" swAng="5947267"/>
                </a:path>
              </a:pathLst>
            </a:custGeom>
            <a:noFill/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5681520" y="2226600"/>
              <a:ext cx="3100320" cy="310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22" y="28"/>
                  </a:moveTo>
                  <a:arcTo wR="10800" hR="10800" stAng="-5647852" swAng="5682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22" y="28"/>
                  </a:moveTo>
                  <a:arcTo wR="10800" hR="10800" stAng="-5647852" swAng="5682248"/>
                </a:path>
              </a:pathLst>
            </a:custGeom>
            <a:noFill/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61320" y="3865680"/>
              <a:ext cx="9000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316640" y="4438800"/>
              <a:ext cx="0" cy="911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72360" y="46339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123400" y="3787920"/>
              <a:ext cx="40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"/>
          <p:cNvSpPr txBox="1"/>
          <p:nvPr/>
        </p:nvSpPr>
        <p:spPr>
          <a:xfrm>
            <a:off x="4572000" y="2529000"/>
            <a:ext cx="31428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2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黑体"/>
              </a:rPr>
              <a:t>左视图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911840" y="4643280"/>
            <a:ext cx="3348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黑体"/>
              </a:rPr>
              <a:t>侧面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241280" y="5183280"/>
            <a:ext cx="763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黑体"/>
              </a:rPr>
              <a:t>水平面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398680" y="4951440"/>
            <a:ext cx="86832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黑体"/>
              </a:rPr>
              <a:t>俯视图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57" name=""/>
          <p:cNvSpPr/>
          <p:nvPr/>
        </p:nvSpPr>
        <p:spPr>
          <a:xfrm>
            <a:off x="6012000" y="5364000"/>
            <a:ext cx="121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俯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1273320" y="2297160"/>
            <a:ext cx="1409400" cy="1409760"/>
            <a:chOff x="1273320" y="2297160"/>
            <a:chExt cx="1409400" cy="1409760"/>
          </a:xfrm>
        </p:grpSpPr>
        <p:sp>
          <p:nvSpPr>
            <p:cNvPr id="659" name=""/>
            <p:cNvSpPr/>
            <p:nvPr/>
          </p:nvSpPr>
          <p:spPr>
            <a:xfrm>
              <a:off x="1273320" y="3002040"/>
              <a:ext cx="1409400" cy="704880"/>
            </a:xfrm>
            <a:prstGeom prst="rect">
              <a:avLst/>
            </a:prstGeom>
            <a:solidFill>
              <a:srgbClr val="ff65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78200" y="2297160"/>
              <a:ext cx="704520" cy="709560"/>
            </a:xfrm>
            <a:prstGeom prst="rect">
              <a:avLst/>
            </a:prstGeom>
            <a:solidFill>
              <a:srgbClr val="ff65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4571640" y="3121200"/>
            <a:ext cx="254520" cy="1647720"/>
            <a:chOff x="4571640" y="3121200"/>
            <a:chExt cx="254520" cy="1647720"/>
          </a:xfrm>
        </p:grpSpPr>
        <p:sp>
          <p:nvSpPr>
            <p:cNvPr id="662" name=""/>
            <p:cNvSpPr/>
            <p:nvPr/>
          </p:nvSpPr>
          <p:spPr>
            <a:xfrm rot="5400000">
              <a:off x="3873960" y="3818880"/>
              <a:ext cx="1647720" cy="252360"/>
            </a:xfrm>
            <a:prstGeom prst="parallelogram">
              <a:avLst>
                <a:gd name="adj" fmla="val 95037"/>
              </a:avLst>
            </a:prstGeom>
            <a:solidFill>
              <a:srgbClr val="ff65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3800" y="3818160"/>
              <a:ext cx="252360" cy="2476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2111400" y="5273640"/>
            <a:ext cx="1660320" cy="241200"/>
            <a:chOff x="2111400" y="5273640"/>
            <a:chExt cx="1660320" cy="241200"/>
          </a:xfrm>
        </p:grpSpPr>
        <p:sp>
          <p:nvSpPr>
            <p:cNvPr id="665" name=""/>
            <p:cNvSpPr/>
            <p:nvPr/>
          </p:nvSpPr>
          <p:spPr>
            <a:xfrm flipH="1">
              <a:off x="2111400" y="5273640"/>
              <a:ext cx="1660320" cy="241200"/>
            </a:xfrm>
            <a:prstGeom prst="parallelogram">
              <a:avLst>
                <a:gd name="adj" fmla="val 97007"/>
              </a:avLst>
            </a:prstGeom>
            <a:solidFill>
              <a:srgbClr val="ff65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30680" y="5276880"/>
              <a:ext cx="214200" cy="2379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5742000" y="2303640"/>
            <a:ext cx="1409400" cy="1409040"/>
            <a:chOff x="5742000" y="2303640"/>
            <a:chExt cx="1409400" cy="1409040"/>
          </a:xfrm>
        </p:grpSpPr>
        <p:sp>
          <p:nvSpPr>
            <p:cNvPr id="668" name=""/>
            <p:cNvSpPr/>
            <p:nvPr/>
          </p:nvSpPr>
          <p:spPr>
            <a:xfrm>
              <a:off x="5742000" y="3008160"/>
              <a:ext cx="1409400" cy="704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446880" y="2303640"/>
              <a:ext cx="704520" cy="709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"/>
          <p:cNvSpPr/>
          <p:nvPr/>
        </p:nvSpPr>
        <p:spPr>
          <a:xfrm flipH="1" flipV="1">
            <a:off x="2681280" y="2296800"/>
            <a:ext cx="82872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1976400" y="2287080"/>
            <a:ext cx="84312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1971360" y="3002040"/>
            <a:ext cx="847800" cy="82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2685600" y="3706920"/>
            <a:ext cx="824040" cy="814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1271160" y="3002040"/>
            <a:ext cx="833400" cy="823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 flipV="1">
            <a:off x="2685600" y="3002040"/>
            <a:ext cx="824040" cy="823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1270080" y="3708000"/>
            <a:ext cx="838080" cy="833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510000" y="3121200"/>
            <a:ext cx="1057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809800" y="3830760"/>
            <a:ext cx="1757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057480" y="4073400"/>
            <a:ext cx="1766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510000" y="4525920"/>
            <a:ext cx="106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767040" y="4778280"/>
            <a:ext cx="1057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762360" y="3359160"/>
            <a:ext cx="1057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767040" y="4773600"/>
            <a:ext cx="0" cy="73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519360" y="4521240"/>
            <a:ext cx="0" cy="743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052800" y="4073400"/>
            <a:ext cx="0" cy="1443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814480" y="3830760"/>
            <a:ext cx="0" cy="1442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343240" y="4778280"/>
            <a:ext cx="0" cy="73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100240" y="4545000"/>
            <a:ext cx="0" cy="728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2096640" y="3112920"/>
            <a:ext cx="1664280" cy="1663920"/>
            <a:chOff x="2096640" y="3112920"/>
            <a:chExt cx="1664280" cy="1663920"/>
          </a:xfrm>
        </p:grpSpPr>
        <p:sp>
          <p:nvSpPr>
            <p:cNvPr id="690" name=""/>
            <p:cNvSpPr/>
            <p:nvPr/>
          </p:nvSpPr>
          <p:spPr>
            <a:xfrm rot="5400000">
              <a:off x="2808360" y="3810600"/>
              <a:ext cx="1648080" cy="252360"/>
            </a:xfrm>
            <a:prstGeom prst="parallelogram">
              <a:avLst>
                <a:gd name="adj" fmla="val 95058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2096280" y="4527720"/>
              <a:ext cx="1660680" cy="241200"/>
            </a:xfrm>
            <a:prstGeom prst="parallelogram">
              <a:avLst>
                <a:gd name="adj" fmla="val 97028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103480" y="3127320"/>
              <a:ext cx="1657440" cy="1649520"/>
              <a:chOff x="2103480" y="3127320"/>
              <a:chExt cx="1657440" cy="164952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2816280" y="3832200"/>
                <a:ext cx="944640" cy="944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0000ff">
                      <a:alpha val="52156"/>
                    </a:srgbClr>
                  </a:gs>
                </a:gsLst>
                <a:lin ang="5400000"/>
              </a:gra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2816280" y="3127320"/>
                <a:ext cx="944640" cy="944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0000ff">
                      <a:alpha val="52156"/>
                    </a:srgbClr>
                  </a:gs>
                </a:gsLst>
                <a:lin ang="5400000"/>
              </a:gra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2103480" y="3832200"/>
                <a:ext cx="944640" cy="944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0000ff">
                      <a:alpha val="52156"/>
                    </a:srgbClr>
                  </a:gs>
                </a:gsLst>
                <a:lin ang="5400000"/>
              </a:gra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7902720" y="2300400"/>
            <a:ext cx="888840" cy="1419120"/>
            <a:chOff x="7902720" y="2300400"/>
            <a:chExt cx="888840" cy="1419120"/>
          </a:xfrm>
        </p:grpSpPr>
        <p:sp>
          <p:nvSpPr>
            <p:cNvPr id="697" name=""/>
            <p:cNvSpPr/>
            <p:nvPr/>
          </p:nvSpPr>
          <p:spPr>
            <a:xfrm>
              <a:off x="7905960" y="2300400"/>
              <a:ext cx="885600" cy="1419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02720" y="3008520"/>
              <a:ext cx="888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738760" y="4464000"/>
            <a:ext cx="1390680" cy="866880"/>
            <a:chOff x="5738760" y="4464000"/>
            <a:chExt cx="1390680" cy="866880"/>
          </a:xfrm>
        </p:grpSpPr>
        <p:sp>
          <p:nvSpPr>
            <p:cNvPr id="700" name=""/>
            <p:cNvSpPr/>
            <p:nvPr/>
          </p:nvSpPr>
          <p:spPr>
            <a:xfrm>
              <a:off x="5738760" y="4464000"/>
              <a:ext cx="1390680" cy="866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434280" y="4475160"/>
              <a:ext cx="0" cy="85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115920" y="-63360"/>
            <a:ext cx="898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三个视图的区别与联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31640" y="606600"/>
            <a:ext cx="819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区别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影方向即看物体的方向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联系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它们是同一物体的投影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41280" y="5967360"/>
            <a:ext cx="8640720" cy="70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大小关系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长对主，高平齐，宽相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 0.00208 L -0.49045 0.00208 E">
                                      <p:cBhvr>
                                        <p:cTn id="663" dur="1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0185 L -0.39809 0.13704 E">
                                      <p:cBhvr>
                                        <p:cTn id="673" dur="10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-0.38611 0.06851 E">
                                      <p:cBhvr>
                                        <p:cTn id="683" dur="1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1295280" y="2819520"/>
            <a:ext cx="2879640" cy="2808000"/>
            <a:chOff x="1295280" y="2819520"/>
            <a:chExt cx="2879640" cy="2808000"/>
          </a:xfrm>
        </p:grpSpPr>
        <p:grpSp>
          <p:nvGrpSpPr>
            <p:cNvPr id="706" name=""/>
            <p:cNvGrpSpPr/>
            <p:nvPr/>
          </p:nvGrpSpPr>
          <p:grpSpPr>
            <a:xfrm>
              <a:off x="1295280" y="2819520"/>
              <a:ext cx="2879640" cy="2808000"/>
              <a:chOff x="1295280" y="2819520"/>
              <a:chExt cx="2879640" cy="2808000"/>
            </a:xfrm>
          </p:grpSpPr>
          <p:sp>
            <p:nvSpPr>
              <p:cNvPr id="707" name=""/>
              <p:cNvSpPr/>
              <p:nvPr/>
            </p:nvSpPr>
            <p:spPr>
              <a:xfrm>
                <a:off x="1295280" y="2819520"/>
                <a:ext cx="2158920" cy="2063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5400000">
                <a:off x="2410200" y="3863160"/>
                <a:ext cx="2808000" cy="720720"/>
              </a:xfrm>
              <a:prstGeom prst="parallelogram">
                <a:avLst>
                  <a:gd name="adj" fmla="val 9740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 rot="21580800">
                <a:off x="1298160" y="4888800"/>
                <a:ext cx="2873160" cy="693360"/>
              </a:xfrm>
              <a:prstGeom prst="parallelogram">
                <a:avLst>
                  <a:gd name="adj" fmla="val 103596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 flipH="1" rot="10800000">
              <a:off x="2081880" y="4979880"/>
              <a:ext cx="718920" cy="215280"/>
            </a:xfrm>
            <a:prstGeom prst="parallelogram">
              <a:avLst>
                <a:gd name="adj" fmla="val 91402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2087640" y="3684240"/>
              <a:ext cx="720720" cy="792000"/>
              <a:chOff x="2087640" y="3684240"/>
              <a:chExt cx="720720" cy="792000"/>
            </a:xfrm>
          </p:grpSpPr>
          <p:sp>
            <p:nvSpPr>
              <p:cNvPr id="712" name=""/>
              <p:cNvSpPr/>
              <p:nvPr/>
            </p:nvSpPr>
            <p:spPr>
              <a:xfrm flipH="1">
                <a:off x="2089080" y="3684240"/>
                <a:ext cx="719280" cy="792000"/>
              </a:xfrm>
              <a:prstGeom prst="cube">
                <a:avLst>
                  <a:gd name="adj" fmla="val 25000"/>
                </a:avLst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087640" y="428868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592360" y="3684240"/>
                <a:ext cx="1800" cy="604440"/>
              </a:xfrm>
              <a:custGeom>
                <a:avLst/>
                <a:gdLst/>
                <a:ahLst/>
                <a:rect l="l" t="t" r="r" b="b"/>
                <a:pathLst>
                  <a:path w="1" h="381">
                    <a:moveTo>
                      <a:pt x="0" y="0"/>
                    </a:moveTo>
                    <a:lnTo>
                      <a:pt x="1" y="3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603520" y="4288680"/>
                <a:ext cx="204840" cy="187200"/>
              </a:xfrm>
              <a:custGeom>
                <a:avLst/>
                <a:gdLst/>
                <a:ahLst/>
                <a:rect l="l" t="t" r="r" b="b"/>
                <a:pathLst>
                  <a:path w="129" h="118">
                    <a:moveTo>
                      <a:pt x="0" y="0"/>
                    </a:moveTo>
                    <a:lnTo>
                      <a:pt x="129" y="1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>
              <a:off x="1462320" y="2963520"/>
              <a:ext cx="504720" cy="647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19520" y="38653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35280" y="3684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602080" y="36842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621160" y="427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22760" y="44748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65480" y="4487760"/>
              <a:ext cx="7920" cy="725040"/>
            </a:xfrm>
            <a:custGeom>
              <a:avLst/>
              <a:gdLst/>
              <a:ahLst/>
              <a:rect l="l" t="t" r="r" b="b"/>
              <a:pathLst>
                <a:path w="5" h="457">
                  <a:moveTo>
                    <a:pt x="0" y="0"/>
                  </a:moveTo>
                  <a:lnTo>
                    <a:pt x="5" y="457"/>
                  </a:lnTo>
                </a:path>
              </a:pathLst>
            </a:custGeom>
            <a:noFill/>
            <a:ln w="9360">
              <a:solidFill>
                <a:srgbClr val="cc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93960" y="4489200"/>
              <a:ext cx="4680" cy="713880"/>
            </a:xfrm>
            <a:custGeom>
              <a:avLst/>
              <a:gdLst/>
              <a:ahLst/>
              <a:rect l="l" t="t" r="r" b="b"/>
              <a:pathLst>
                <a:path w="3" h="450">
                  <a:moveTo>
                    <a:pt x="3" y="0"/>
                  </a:moveTo>
                  <a:lnTo>
                    <a:pt x="0" y="450"/>
                  </a:lnTo>
                </a:path>
              </a:pathLst>
            </a:custGeom>
            <a:noFill/>
            <a:ln w="9360">
              <a:solidFill>
                <a:srgbClr val="cc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089080" y="4284360"/>
              <a:ext cx="5040" cy="695160"/>
            </a:xfrm>
            <a:custGeom>
              <a:avLst/>
              <a:gdLst/>
              <a:ahLst/>
              <a:rect l="l" t="t" r="r" b="b"/>
              <a:pathLst>
                <a:path w="3" h="438">
                  <a:moveTo>
                    <a:pt x="3" y="0"/>
                  </a:moveTo>
                  <a:lnTo>
                    <a:pt x="0" y="438"/>
                  </a:lnTo>
                </a:path>
              </a:pathLst>
            </a:custGeom>
            <a:noFill/>
            <a:ln w="9360">
              <a:solidFill>
                <a:srgbClr val="cc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90920" y="4259160"/>
              <a:ext cx="0" cy="720360"/>
            </a:xfrm>
            <a:prstGeom prst="line">
              <a:avLst/>
            </a:prstGeom>
            <a:ln w="93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465200" y="2974680"/>
              <a:ext cx="636840" cy="718920"/>
            </a:xfrm>
            <a:custGeom>
              <a:avLst/>
              <a:gdLst/>
              <a:ahLst/>
              <a:rect l="l" t="t" r="r" b="b"/>
              <a:pathLst>
                <a:path w="401" h="453">
                  <a:moveTo>
                    <a:pt x="401" y="453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470240" y="3608280"/>
              <a:ext cx="618840" cy="678960"/>
            </a:xfrm>
            <a:custGeom>
              <a:avLst/>
              <a:gdLst/>
              <a:ahLst/>
              <a:rect l="l" t="t" r="r" b="b"/>
              <a:pathLst>
                <a:path w="390" h="428">
                  <a:moveTo>
                    <a:pt x="390" y="42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1963800" y="2963160"/>
              <a:ext cx="660240" cy="7203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5400000">
              <a:off x="3304440" y="3978360"/>
              <a:ext cx="790200" cy="201600"/>
            </a:xfrm>
            <a:prstGeom prst="parallelogram">
              <a:avLst>
                <a:gd name="adj" fmla="val 92075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55880" y="3608280"/>
              <a:ext cx="851040" cy="866160"/>
            </a:xfrm>
            <a:custGeom>
              <a:avLst/>
              <a:gdLst/>
              <a:ahLst/>
              <a:rect l="l" t="t" r="r" b="b"/>
              <a:pathLst>
                <a:path w="536" h="546">
                  <a:moveTo>
                    <a:pt x="0" y="0"/>
                  </a:moveTo>
                  <a:lnTo>
                    <a:pt x="536" y="546"/>
                  </a:lnTo>
                </a:path>
              </a:pathLst>
            </a:custGeom>
            <a:noFill/>
            <a:ln w="9360">
              <a:solidFill>
                <a:srgbClr val="0099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533520" y="1676520"/>
            <a:ext cx="820872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画视图时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主视图与俯视图的长对主，主视图与左视图的高平齐，左视图与俯视图的宽相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5280" y="54864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实际生活中人们经常遇到各类种物体，这些物体的现状虽然经常各不相同，但是它们一般是由一些基本几何体（柱体、锥体、球等）组合或切割而成的，因此会画、会看基本几何体的视图是非常必要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80880" y="0"/>
            <a:ext cx="81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视图中，主视图与俯视图表示同一物体的长，主视图与左视图表示同一物体的高，左视图与俯视图表示同一物体的宽，因此三个视图的大小是互相联系的，画三视图时，三个视图要放在主确的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770200" y="3502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635280" y="46465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130560" y="50068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平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906560" y="28764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122560" y="50371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851280" y="37400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460680" y="2565360"/>
            <a:ext cx="2262240" cy="459720"/>
            <a:chOff x="3460680" y="2565360"/>
            <a:chExt cx="2262240" cy="459720"/>
          </a:xfrm>
        </p:grpSpPr>
        <p:sp>
          <p:nvSpPr>
            <p:cNvPr id="741" name=""/>
            <p:cNvSpPr/>
            <p:nvPr/>
          </p:nvSpPr>
          <p:spPr>
            <a:xfrm>
              <a:off x="4425840" y="256536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投影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460680" y="2722320"/>
              <a:ext cx="1009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486400" y="2666880"/>
            <a:ext cx="3428280" cy="2931840"/>
            <a:chOff x="5486400" y="2666880"/>
            <a:chExt cx="3428280" cy="2931840"/>
          </a:xfrm>
        </p:grpSpPr>
        <p:sp>
          <p:nvSpPr>
            <p:cNvPr id="744" name=""/>
            <p:cNvSpPr/>
            <p:nvPr/>
          </p:nvSpPr>
          <p:spPr>
            <a:xfrm>
              <a:off x="6103080" y="2666880"/>
              <a:ext cx="703080" cy="10983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49880" y="2666880"/>
              <a:ext cx="350640" cy="10983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103080" y="4591440"/>
              <a:ext cx="703080" cy="3654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806160" y="2666880"/>
              <a:ext cx="35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825960" y="3765240"/>
              <a:ext cx="35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070040" y="2666880"/>
              <a:ext cx="0" cy="10983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578000" y="2666880"/>
              <a:ext cx="35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97440" y="3765240"/>
              <a:ext cx="35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41160" y="2666880"/>
              <a:ext cx="0" cy="10983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103080" y="376524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806160" y="376524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03080" y="3910680"/>
              <a:ext cx="7030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03080" y="376524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06160" y="431496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03080" y="4460040"/>
              <a:ext cx="7030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103080" y="431496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6893640" y="3783240"/>
              <a:ext cx="1370160" cy="1173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86400" y="2666880"/>
              <a:ext cx="52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主视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388000" y="2666880"/>
              <a:ext cx="526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左视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26320" y="5139000"/>
              <a:ext cx="13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俯视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189840" y="4072320"/>
              <a:ext cx="43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89840" y="3702960"/>
              <a:ext cx="43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980760" y="3123000"/>
              <a:ext cx="43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20680" y="3123000"/>
              <a:ext cx="43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33560" y="4407840"/>
              <a:ext cx="131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宽相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5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95280" y="260280"/>
            <a:ext cx="532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视图的对应规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4508640"/>
            <a:ext cx="3564000" cy="64260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俯视图和左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1268280"/>
            <a:ext cx="3564000" cy="6426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主视图和俯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31240" y="2781360"/>
            <a:ext cx="2100960" cy="6426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主视图和左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25240" y="197316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对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03720" y="348444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平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19720" y="535788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宽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5105520" y="1418040"/>
            <a:ext cx="3809520" cy="3382200"/>
            <a:chOff x="5105520" y="1418040"/>
            <a:chExt cx="3809520" cy="3382200"/>
          </a:xfrm>
        </p:grpSpPr>
        <p:sp>
          <p:nvSpPr>
            <p:cNvPr id="777" name=""/>
            <p:cNvSpPr/>
            <p:nvPr/>
          </p:nvSpPr>
          <p:spPr>
            <a:xfrm>
              <a:off x="5105520" y="1523880"/>
              <a:ext cx="3714840" cy="3276360"/>
            </a:xfrm>
            <a:prstGeom prst="bevel">
              <a:avLst>
                <a:gd name="adj" fmla="val 131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628040" y="2046240"/>
              <a:ext cx="752760" cy="822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0800000">
              <a:off x="5576400" y="3610800"/>
              <a:ext cx="1283400" cy="761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65760" y="1659240"/>
              <a:ext cx="103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主视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80520" y="432612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俯视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51720" y="1659240"/>
              <a:ext cx="13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左视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86480" y="2056320"/>
              <a:ext cx="1283400" cy="819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886440" y="2039760"/>
              <a:ext cx="712800" cy="823320"/>
              <a:chOff x="6886440" y="2039760"/>
              <a:chExt cx="712800" cy="823320"/>
            </a:xfrm>
          </p:grpSpPr>
          <p:sp>
            <p:nvSpPr>
              <p:cNvPr id="785" name=""/>
              <p:cNvSpPr/>
              <p:nvPr/>
            </p:nvSpPr>
            <p:spPr>
              <a:xfrm>
                <a:off x="6896160" y="2039760"/>
                <a:ext cx="281880" cy="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886440" y="2863080"/>
                <a:ext cx="281520" cy="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272720" y="2039760"/>
                <a:ext cx="281880" cy="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317360" y="2863080"/>
                <a:ext cx="281880" cy="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036920" y="2039760"/>
                <a:ext cx="0" cy="8067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430040" y="2044800"/>
                <a:ext cx="0" cy="806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995880" y="2217240"/>
                <a:ext cx="33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5573160" y="2900520"/>
              <a:ext cx="1293120" cy="680040"/>
              <a:chOff x="5573160" y="2900520"/>
              <a:chExt cx="1293120" cy="680040"/>
            </a:xfrm>
          </p:grpSpPr>
          <p:sp>
            <p:nvSpPr>
              <p:cNvPr id="793" name=""/>
              <p:cNvSpPr/>
              <p:nvPr/>
            </p:nvSpPr>
            <p:spPr>
              <a:xfrm>
                <a:off x="5576400" y="2900520"/>
                <a:ext cx="0" cy="237960"/>
              </a:xfrm>
              <a:prstGeom prst="line">
                <a:avLst/>
              </a:prstGeom>
              <a:ln w="64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66280" y="2900520"/>
                <a:ext cx="0" cy="23796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861240" y="3342960"/>
                <a:ext cx="0" cy="23760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573160" y="3342960"/>
                <a:ext cx="0" cy="23760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576400" y="2995920"/>
                <a:ext cx="12700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576400" y="3470040"/>
                <a:ext cx="12700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999040" y="2995920"/>
                <a:ext cx="51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长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5396760" y="1418040"/>
              <a:ext cx="2986200" cy="2954520"/>
              <a:chOff x="5396760" y="1418040"/>
              <a:chExt cx="2986200" cy="2954520"/>
            </a:xfrm>
          </p:grpSpPr>
          <p:grpSp>
            <p:nvGrpSpPr>
              <p:cNvPr id="801" name=""/>
              <p:cNvGrpSpPr/>
              <p:nvPr/>
            </p:nvGrpSpPr>
            <p:grpSpPr>
              <a:xfrm>
                <a:off x="5396760" y="1418040"/>
                <a:ext cx="2986200" cy="2947320"/>
                <a:chOff x="5396760" y="1418040"/>
                <a:chExt cx="2986200" cy="2947320"/>
              </a:xfrm>
            </p:grpSpPr>
            <p:sp>
              <p:nvSpPr>
                <p:cNvPr id="802" name=""/>
                <p:cNvSpPr/>
                <p:nvPr/>
              </p:nvSpPr>
              <p:spPr>
                <a:xfrm rot="5400000">
                  <a:off x="6143400" y="2131200"/>
                  <a:ext cx="1465920" cy="1495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V="1">
                  <a:off x="5396760" y="1417320"/>
                  <a:ext cx="2986200" cy="29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4" y="1"/>
                      </a:moveTo>
                      <a:arcTo wR="10800" hR="10800" stAng="-5433870" swAng="54682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4" y="1"/>
                      </a:moveTo>
                      <a:arcTo wR="10800" hR="10800" stAng="-5433870" swAng="5468266"/>
                    </a:path>
                  </a:pathLst>
                </a:custGeom>
                <a:noFill/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7597800" y="2996280"/>
                <a:ext cx="7527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034040" y="3612240"/>
                <a:ext cx="0" cy="760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987600" y="3748320"/>
                <a:ext cx="42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767000" y="2915640"/>
                <a:ext cx="42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8" name=""/>
          <p:cNvSpPr/>
          <p:nvPr/>
        </p:nvSpPr>
        <p:spPr>
          <a:xfrm>
            <a:off x="6553080" y="762120"/>
            <a:ext cx="2210040" cy="723960"/>
          </a:xfrm>
          <a:prstGeom prst="cloudCallout">
            <a:avLst>
              <a:gd name="adj1" fmla="val -23203"/>
              <a:gd name="adj2" fmla="val 136625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高平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505320" y="2590920"/>
            <a:ext cx="2076480" cy="857160"/>
          </a:xfrm>
          <a:prstGeom prst="cloudCallout">
            <a:avLst>
              <a:gd name="adj1" fmla="val 65518"/>
              <a:gd name="adj2" fmla="val 8518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长对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553080" y="4724280"/>
            <a:ext cx="2381400" cy="685800"/>
          </a:xfrm>
          <a:prstGeom prst="cloudCallout">
            <a:avLst>
              <a:gd name="adj1" fmla="val -11731"/>
              <a:gd name="adj2" fmla="val -16550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宽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0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836520" y="274320"/>
            <a:ext cx="455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三视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三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主视图—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主面看到的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左视图—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左面看到的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俯视图—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上面看到的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画物体的三视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要符合如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主视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左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俯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大小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对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平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宽相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09480" y="0"/>
            <a:ext cx="3692160" cy="929880"/>
            <a:chOff x="609480" y="0"/>
            <a:chExt cx="3692160" cy="929880"/>
          </a:xfrm>
        </p:grpSpPr>
        <p:grpSp>
          <p:nvGrpSpPr>
            <p:cNvPr id="814" name=""/>
            <p:cNvGrpSpPr/>
            <p:nvPr/>
          </p:nvGrpSpPr>
          <p:grpSpPr>
            <a:xfrm>
              <a:off x="609480" y="0"/>
              <a:ext cx="3492360" cy="929880"/>
              <a:chOff x="609480" y="0"/>
              <a:chExt cx="3492360" cy="929880"/>
            </a:xfrm>
          </p:grpSpPr>
          <p:sp>
            <p:nvSpPr>
              <p:cNvPr id="815" name=""/>
              <p:cNvSpPr/>
              <p:nvPr/>
            </p:nvSpPr>
            <p:spPr>
              <a:xfrm>
                <a:off x="609480" y="101880"/>
                <a:ext cx="341244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8720" y="0"/>
                <a:ext cx="345312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7" name="" descr=""/>
            <p:cNvPicPr/>
            <p:nvPr/>
          </p:nvPicPr>
          <p:blipFill>
            <a:blip r:embed="rId2"/>
            <a:stretch/>
          </p:blipFill>
          <p:spPr>
            <a:xfrm>
              <a:off x="2006280" y="228600"/>
              <a:ext cx="8229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708840" y="228600"/>
              <a:ext cx="359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小结       反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9" name="" descr=""/>
          <p:cNvPicPr/>
          <p:nvPr/>
        </p:nvPicPr>
        <p:blipFill>
          <a:blip r:embed="rId3"/>
          <a:stretch/>
        </p:blipFill>
        <p:spPr>
          <a:xfrm>
            <a:off x="7093080" y="276120"/>
            <a:ext cx="522000" cy="60984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1962000" y="3968640"/>
            <a:ext cx="3392640" cy="1216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11280" y="4011480"/>
            <a:ext cx="16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位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8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8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"/>
          <p:cNvSpPr/>
          <p:nvPr/>
        </p:nvSpPr>
        <p:spPr>
          <a:xfrm>
            <a:off x="468360" y="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所示的长方体的长、宽、高分别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画出这个长方体的三视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"/>
          <p:cNvSpPr/>
          <p:nvPr/>
        </p:nvSpPr>
        <p:spPr>
          <a:xfrm flipV="1">
            <a:off x="2362320" y="4799520"/>
            <a:ext cx="11048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"/>
          <p:cNvSpPr/>
          <p:nvPr/>
        </p:nvSpPr>
        <p:spPr>
          <a:xfrm>
            <a:off x="152280" y="35812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讨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这个长方体的三视图分别是什么形状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1066680" y="4648320"/>
            <a:ext cx="67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视图、左视图和俯视图的长方形的长、宽、高分别为多少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762120" y="5791320"/>
            <a:ext cx="747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视图和左视图中有没有相同的段？主视图和俯视图呢？左视图和俯视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2057040" y="1066680"/>
            <a:ext cx="4572360" cy="2415960"/>
            <a:chOff x="2057040" y="1066680"/>
            <a:chExt cx="4572360" cy="2415960"/>
          </a:xfrm>
        </p:grpSpPr>
        <p:sp>
          <p:nvSpPr>
            <p:cNvPr id="828" name="Rectangle 10"/>
            <p:cNvSpPr/>
            <p:nvPr/>
          </p:nvSpPr>
          <p:spPr>
            <a:xfrm>
              <a:off x="2057400" y="1893240"/>
              <a:ext cx="3429000" cy="158940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AutoShape 11"/>
            <p:cNvSpPr/>
            <p:nvPr/>
          </p:nvSpPr>
          <p:spPr>
            <a:xfrm>
              <a:off x="2057400" y="1066680"/>
              <a:ext cx="4572000" cy="826560"/>
            </a:xfrm>
            <a:prstGeom prst="parallelogram">
              <a:avLst>
                <a:gd name="adj" fmla="val 138284"/>
              </a:avLst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2"/>
            <p:cNvSpPr/>
            <p:nvPr/>
          </p:nvSpPr>
          <p:spPr>
            <a:xfrm flipH="1">
              <a:off x="5486040" y="2656440"/>
              <a:ext cx="1143000" cy="826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3"/>
            <p:cNvSpPr/>
            <p:nvPr/>
          </p:nvSpPr>
          <p:spPr>
            <a:xfrm>
              <a:off x="6629400" y="1066680"/>
              <a:ext cx="0" cy="15897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4"/>
            <p:cNvSpPr/>
            <p:nvPr/>
          </p:nvSpPr>
          <p:spPr>
            <a:xfrm flipH="1">
              <a:off x="2057040" y="2656440"/>
              <a:ext cx="1143000" cy="8262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5"/>
            <p:cNvSpPr/>
            <p:nvPr/>
          </p:nvSpPr>
          <p:spPr>
            <a:xfrm>
              <a:off x="3200400" y="1066680"/>
              <a:ext cx="0" cy="158976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6"/>
            <p:cNvSpPr/>
            <p:nvPr/>
          </p:nvSpPr>
          <p:spPr>
            <a:xfrm>
              <a:off x="3200400" y="265644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Text Box 25"/>
          <p:cNvSpPr/>
          <p:nvPr/>
        </p:nvSpPr>
        <p:spPr>
          <a:xfrm>
            <a:off x="3352680" y="2971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7"/>
          <p:cNvSpPr/>
          <p:nvPr/>
        </p:nvSpPr>
        <p:spPr>
          <a:xfrm>
            <a:off x="1066680" y="2362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1"/>
          <p:cNvSpPr/>
          <p:nvPr/>
        </p:nvSpPr>
        <p:spPr>
          <a:xfrm>
            <a:off x="5245920" y="11430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"/>
          <p:cNvGrpSpPr/>
          <p:nvPr/>
        </p:nvGrpSpPr>
        <p:grpSpPr>
          <a:xfrm>
            <a:off x="5219640" y="4581360"/>
            <a:ext cx="3529080" cy="1943280"/>
            <a:chOff x="5219640" y="4581360"/>
            <a:chExt cx="3529080" cy="1943280"/>
          </a:xfrm>
        </p:grpSpPr>
        <p:sp>
          <p:nvSpPr>
            <p:cNvPr id="839" name="Rectangle 103"/>
            <p:cNvSpPr/>
            <p:nvPr/>
          </p:nvSpPr>
          <p:spPr>
            <a:xfrm>
              <a:off x="5219640" y="5246280"/>
              <a:ext cx="2646720" cy="127836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104"/>
            <p:cNvSpPr/>
            <p:nvPr/>
          </p:nvSpPr>
          <p:spPr>
            <a:xfrm>
              <a:off x="5219640" y="4581360"/>
              <a:ext cx="3529080" cy="664920"/>
            </a:xfrm>
            <a:prstGeom prst="parallelogram">
              <a:avLst>
                <a:gd name="adj" fmla="val 132688"/>
              </a:avLst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105"/>
            <p:cNvSpPr/>
            <p:nvPr/>
          </p:nvSpPr>
          <p:spPr>
            <a:xfrm flipH="1">
              <a:off x="7866360" y="5859720"/>
              <a:ext cx="882000" cy="6645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106"/>
            <p:cNvSpPr/>
            <p:nvPr/>
          </p:nvSpPr>
          <p:spPr>
            <a:xfrm>
              <a:off x="8748720" y="4581360"/>
              <a:ext cx="0" cy="12783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107"/>
            <p:cNvSpPr/>
            <p:nvPr/>
          </p:nvSpPr>
          <p:spPr>
            <a:xfrm flipH="1">
              <a:off x="5219640" y="5859720"/>
              <a:ext cx="882000" cy="66456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108"/>
            <p:cNvSpPr/>
            <p:nvPr/>
          </p:nvSpPr>
          <p:spPr>
            <a:xfrm>
              <a:off x="6101640" y="4581360"/>
              <a:ext cx="0" cy="127836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109"/>
            <p:cNvSpPr/>
            <p:nvPr/>
          </p:nvSpPr>
          <p:spPr>
            <a:xfrm>
              <a:off x="6101640" y="5859720"/>
              <a:ext cx="2646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1071720" y="419040"/>
            <a:ext cx="3809880" cy="1951200"/>
            <a:chOff x="1071720" y="419040"/>
            <a:chExt cx="3809880" cy="1951200"/>
          </a:xfrm>
        </p:grpSpPr>
        <p:sp>
          <p:nvSpPr>
            <p:cNvPr id="847" name="Text Box 3"/>
            <p:cNvSpPr/>
            <p:nvPr/>
          </p:nvSpPr>
          <p:spPr>
            <a:xfrm>
              <a:off x="1148040" y="41904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4"/>
            <p:cNvSpPr/>
            <p:nvPr/>
          </p:nvSpPr>
          <p:spPr>
            <a:xfrm>
              <a:off x="4272120" y="419040"/>
              <a:ext cx="533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5"/>
            <p:cNvSpPr/>
            <p:nvPr/>
          </p:nvSpPr>
          <p:spPr>
            <a:xfrm>
              <a:off x="1071720" y="1790640"/>
              <a:ext cx="533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6"/>
            <p:cNvSpPr/>
            <p:nvPr/>
          </p:nvSpPr>
          <p:spPr>
            <a:xfrm>
              <a:off x="4348440" y="171432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957920" y="419040"/>
            <a:ext cx="3124080" cy="1951200"/>
            <a:chOff x="4957920" y="419040"/>
            <a:chExt cx="3124080" cy="1951200"/>
          </a:xfrm>
        </p:grpSpPr>
        <p:sp>
          <p:nvSpPr>
            <p:cNvPr id="852" name="Text Box 8"/>
            <p:cNvSpPr/>
            <p:nvPr/>
          </p:nvSpPr>
          <p:spPr>
            <a:xfrm>
              <a:off x="4957920" y="419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9"/>
            <p:cNvSpPr/>
            <p:nvPr/>
          </p:nvSpPr>
          <p:spPr>
            <a:xfrm>
              <a:off x="4957920" y="1714320"/>
              <a:ext cx="533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10"/>
            <p:cNvSpPr/>
            <p:nvPr/>
          </p:nvSpPr>
          <p:spPr>
            <a:xfrm>
              <a:off x="7396200" y="41904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11"/>
            <p:cNvSpPr/>
            <p:nvPr/>
          </p:nvSpPr>
          <p:spPr>
            <a:xfrm>
              <a:off x="7320240" y="179064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995400" y="2857680"/>
            <a:ext cx="3962520" cy="2331360"/>
            <a:chOff x="995400" y="2857680"/>
            <a:chExt cx="3962520" cy="2331360"/>
          </a:xfrm>
        </p:grpSpPr>
        <p:sp>
          <p:nvSpPr>
            <p:cNvPr id="857" name="Text Box 13"/>
            <p:cNvSpPr/>
            <p:nvPr/>
          </p:nvSpPr>
          <p:spPr>
            <a:xfrm>
              <a:off x="995400" y="2857680"/>
              <a:ext cx="533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14"/>
            <p:cNvSpPr/>
            <p:nvPr/>
          </p:nvSpPr>
          <p:spPr>
            <a:xfrm>
              <a:off x="4195800" y="2857680"/>
              <a:ext cx="762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15"/>
            <p:cNvSpPr/>
            <p:nvPr/>
          </p:nvSpPr>
          <p:spPr>
            <a:xfrm>
              <a:off x="1071720" y="4609800"/>
              <a:ext cx="533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 Box 16"/>
            <p:cNvSpPr/>
            <p:nvPr/>
          </p:nvSpPr>
          <p:spPr>
            <a:xfrm>
              <a:off x="4272120" y="4609800"/>
              <a:ext cx="533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843120" y="266760"/>
            <a:ext cx="3200400" cy="1358640"/>
            <a:chOff x="843120" y="266760"/>
            <a:chExt cx="3200400" cy="1358640"/>
          </a:xfrm>
        </p:grpSpPr>
        <p:sp>
          <p:nvSpPr>
            <p:cNvPr id="862" name="Text Box 19"/>
            <p:cNvSpPr/>
            <p:nvPr/>
          </p:nvSpPr>
          <p:spPr>
            <a:xfrm>
              <a:off x="2519640" y="26676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5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20"/>
            <p:cNvSpPr/>
            <p:nvPr/>
          </p:nvSpPr>
          <p:spPr>
            <a:xfrm>
              <a:off x="843120" y="110484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3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5948280" y="266760"/>
            <a:ext cx="2438280" cy="1358640"/>
            <a:chOff x="5948280" y="266760"/>
            <a:chExt cx="2438280" cy="1358640"/>
          </a:xfrm>
        </p:grpSpPr>
        <p:sp>
          <p:nvSpPr>
            <p:cNvPr id="865" name="Text Box 22"/>
            <p:cNvSpPr/>
            <p:nvPr/>
          </p:nvSpPr>
          <p:spPr>
            <a:xfrm>
              <a:off x="7396200" y="11048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3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23"/>
            <p:cNvSpPr/>
            <p:nvPr/>
          </p:nvSpPr>
          <p:spPr>
            <a:xfrm>
              <a:off x="5948280" y="2667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4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843120" y="2629080"/>
            <a:ext cx="3124080" cy="1587240"/>
            <a:chOff x="843120" y="2629080"/>
            <a:chExt cx="3124080" cy="1587240"/>
          </a:xfrm>
        </p:grpSpPr>
        <p:sp>
          <p:nvSpPr>
            <p:cNvPr id="868" name="Text Box 25"/>
            <p:cNvSpPr/>
            <p:nvPr/>
          </p:nvSpPr>
          <p:spPr>
            <a:xfrm>
              <a:off x="2595600" y="262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5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 Box 26"/>
            <p:cNvSpPr/>
            <p:nvPr/>
          </p:nvSpPr>
          <p:spPr>
            <a:xfrm>
              <a:off x="843120" y="369576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4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681200" y="723960"/>
            <a:ext cx="2514600" cy="1831320"/>
            <a:chOff x="1681200" y="723960"/>
            <a:chExt cx="2514600" cy="1831320"/>
          </a:xfrm>
        </p:grpSpPr>
        <p:sp>
          <p:nvSpPr>
            <p:cNvPr id="871" name="Rectangle 28"/>
            <p:cNvSpPr/>
            <p:nvPr/>
          </p:nvSpPr>
          <p:spPr>
            <a:xfrm>
              <a:off x="1681200" y="723960"/>
              <a:ext cx="2514600" cy="12952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 Box 29"/>
            <p:cNvSpPr/>
            <p:nvPr/>
          </p:nvSpPr>
          <p:spPr>
            <a:xfrm>
              <a:off x="2290680" y="20955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主视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5491080" y="723960"/>
            <a:ext cx="1828800" cy="1831320"/>
            <a:chOff x="5491080" y="723960"/>
            <a:chExt cx="1828800" cy="1831320"/>
          </a:xfrm>
        </p:grpSpPr>
        <p:sp>
          <p:nvSpPr>
            <p:cNvPr id="874" name="Rectangle 31"/>
            <p:cNvSpPr/>
            <p:nvPr/>
          </p:nvSpPr>
          <p:spPr>
            <a:xfrm>
              <a:off x="5491080" y="723960"/>
              <a:ext cx="1828800" cy="12952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32"/>
            <p:cNvSpPr/>
            <p:nvPr/>
          </p:nvSpPr>
          <p:spPr>
            <a:xfrm>
              <a:off x="5871960" y="20955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左视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1681200" y="3162240"/>
            <a:ext cx="2514600" cy="2288520"/>
            <a:chOff x="1681200" y="3162240"/>
            <a:chExt cx="2514600" cy="2288520"/>
          </a:xfrm>
        </p:grpSpPr>
        <p:sp>
          <p:nvSpPr>
            <p:cNvPr id="877" name="Rectangle 34"/>
            <p:cNvSpPr/>
            <p:nvPr/>
          </p:nvSpPr>
          <p:spPr>
            <a:xfrm>
              <a:off x="1681200" y="3162240"/>
              <a:ext cx="2514600" cy="1752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 Box 35"/>
            <p:cNvSpPr/>
            <p:nvPr/>
          </p:nvSpPr>
          <p:spPr>
            <a:xfrm>
              <a:off x="2290680" y="499104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俯视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Line 36"/>
          <p:cNvSpPr/>
          <p:nvPr/>
        </p:nvSpPr>
        <p:spPr>
          <a:xfrm>
            <a:off x="1674720" y="7192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37"/>
          <p:cNvSpPr/>
          <p:nvPr/>
        </p:nvSpPr>
        <p:spPr>
          <a:xfrm>
            <a:off x="1681200" y="49150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38"/>
          <p:cNvSpPr/>
          <p:nvPr/>
        </p:nvSpPr>
        <p:spPr>
          <a:xfrm>
            <a:off x="1681200" y="723960"/>
            <a:ext cx="0" cy="129528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39"/>
          <p:cNvSpPr/>
          <p:nvPr/>
        </p:nvSpPr>
        <p:spPr>
          <a:xfrm>
            <a:off x="7319880" y="723960"/>
            <a:ext cx="0" cy="129528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40"/>
          <p:cNvSpPr/>
          <p:nvPr/>
        </p:nvSpPr>
        <p:spPr>
          <a:xfrm>
            <a:off x="5491080" y="723960"/>
            <a:ext cx="1828800" cy="0"/>
          </a:xfrm>
          <a:prstGeom prst="line">
            <a:avLst/>
          </a:prstGeom>
          <a:ln cap="sq"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41"/>
          <p:cNvSpPr/>
          <p:nvPr/>
        </p:nvSpPr>
        <p:spPr>
          <a:xfrm>
            <a:off x="1674720" y="3141720"/>
            <a:ext cx="0" cy="1752480"/>
          </a:xfrm>
          <a:prstGeom prst="line">
            <a:avLst/>
          </a:prstGeom>
          <a:ln cap="sq"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42"/>
          <p:cNvSpPr/>
          <p:nvPr/>
        </p:nvSpPr>
        <p:spPr>
          <a:xfrm>
            <a:off x="3691080" y="1890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左高平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43"/>
          <p:cNvSpPr/>
          <p:nvPr/>
        </p:nvSpPr>
        <p:spPr>
          <a:xfrm>
            <a:off x="250920" y="2925720"/>
            <a:ext cx="71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左俯宽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4"/>
          <p:cNvSpPr/>
          <p:nvPr/>
        </p:nvSpPr>
        <p:spPr>
          <a:xfrm>
            <a:off x="322200" y="260280"/>
            <a:ext cx="72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俯长对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46"/>
          <p:cNvSpPr/>
          <p:nvPr/>
        </p:nvSpPr>
        <p:spPr>
          <a:xfrm>
            <a:off x="4195800" y="706320"/>
            <a:ext cx="0" cy="12956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47"/>
          <p:cNvSpPr/>
          <p:nvPr/>
        </p:nvSpPr>
        <p:spPr>
          <a:xfrm>
            <a:off x="5491080" y="739800"/>
            <a:ext cx="0" cy="129528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48"/>
          <p:cNvSpPr/>
          <p:nvPr/>
        </p:nvSpPr>
        <p:spPr>
          <a:xfrm>
            <a:off x="1674720" y="20350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49"/>
          <p:cNvSpPr/>
          <p:nvPr/>
        </p:nvSpPr>
        <p:spPr>
          <a:xfrm>
            <a:off x="1674720" y="31543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51"/>
          <p:cNvSpPr/>
          <p:nvPr/>
        </p:nvSpPr>
        <p:spPr>
          <a:xfrm>
            <a:off x="4210200" y="3141720"/>
            <a:ext cx="0" cy="1752480"/>
          </a:xfrm>
          <a:prstGeom prst="line">
            <a:avLst/>
          </a:prstGeom>
          <a:ln cap="sq"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52"/>
          <p:cNvSpPr/>
          <p:nvPr/>
        </p:nvSpPr>
        <p:spPr>
          <a:xfrm>
            <a:off x="5491080" y="2022480"/>
            <a:ext cx="1828800" cy="0"/>
          </a:xfrm>
          <a:prstGeom prst="line">
            <a:avLst/>
          </a:prstGeom>
          <a:ln cap="sq"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1674720" y="2060640"/>
            <a:ext cx="2521080" cy="1020600"/>
            <a:chOff x="1674720" y="2060640"/>
            <a:chExt cx="2521080" cy="1020600"/>
          </a:xfrm>
        </p:grpSpPr>
        <p:sp>
          <p:nvSpPr>
            <p:cNvPr id="895" name="Line 53"/>
            <p:cNvSpPr/>
            <p:nvPr/>
          </p:nvSpPr>
          <p:spPr>
            <a:xfrm>
              <a:off x="1674720" y="2073240"/>
              <a:ext cx="0" cy="1008000"/>
            </a:xfrm>
            <a:prstGeom prst="line">
              <a:avLst/>
            </a:prstGeom>
            <a:ln w="1908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54"/>
            <p:cNvSpPr/>
            <p:nvPr/>
          </p:nvSpPr>
          <p:spPr>
            <a:xfrm>
              <a:off x="4195800" y="2060640"/>
              <a:ext cx="0" cy="1008000"/>
            </a:xfrm>
            <a:prstGeom prst="line">
              <a:avLst/>
            </a:prstGeom>
            <a:ln w="1908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195800" y="727200"/>
            <a:ext cx="1295280" cy="1282680"/>
            <a:chOff x="4195800" y="727200"/>
            <a:chExt cx="1295280" cy="1282680"/>
          </a:xfrm>
        </p:grpSpPr>
        <p:sp>
          <p:nvSpPr>
            <p:cNvPr id="898" name="Line 56"/>
            <p:cNvSpPr/>
            <p:nvPr/>
          </p:nvSpPr>
          <p:spPr>
            <a:xfrm>
              <a:off x="4195800" y="727200"/>
              <a:ext cx="1295280" cy="0"/>
            </a:xfrm>
            <a:prstGeom prst="line">
              <a:avLst/>
            </a:prstGeom>
            <a:ln w="936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57"/>
            <p:cNvSpPr/>
            <p:nvPr/>
          </p:nvSpPr>
          <p:spPr>
            <a:xfrm>
              <a:off x="4195800" y="2009880"/>
              <a:ext cx="1295280" cy="0"/>
            </a:xfrm>
            <a:prstGeom prst="line">
              <a:avLst/>
            </a:prstGeom>
            <a:ln w="936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4195800" y="1989000"/>
            <a:ext cx="3168720" cy="2952720"/>
            <a:chOff x="4195800" y="1989000"/>
            <a:chExt cx="3168720" cy="2952720"/>
          </a:xfrm>
        </p:grpSpPr>
        <p:sp>
          <p:nvSpPr>
            <p:cNvPr id="901" name="Freeform 62"/>
            <p:cNvSpPr/>
            <p:nvPr/>
          </p:nvSpPr>
          <p:spPr>
            <a:xfrm>
              <a:off x="4195800" y="2060280"/>
              <a:ext cx="1295280" cy="1081080"/>
            </a:xfrm>
            <a:prstGeom prst="pie">
              <a:avLst/>
            </a:prstGeom>
            <a:noFill/>
            <a:ln w="936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65"/>
            <p:cNvSpPr/>
            <p:nvPr/>
          </p:nvSpPr>
          <p:spPr>
            <a:xfrm>
              <a:off x="4195800" y="1989000"/>
              <a:ext cx="3168720" cy="2952720"/>
            </a:xfrm>
            <a:prstGeom prst="pie">
              <a:avLst/>
            </a:prstGeom>
            <a:noFill/>
            <a:ln w="936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Line 99"/>
          <p:cNvSpPr/>
          <p:nvPr/>
        </p:nvSpPr>
        <p:spPr>
          <a:xfrm>
            <a:off x="5219640" y="5243400"/>
            <a:ext cx="0" cy="1295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101"/>
          <p:cNvSpPr/>
          <p:nvPr/>
        </p:nvSpPr>
        <p:spPr>
          <a:xfrm>
            <a:off x="5207040" y="5241960"/>
            <a:ext cx="266544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110"/>
          <p:cNvSpPr/>
          <p:nvPr/>
        </p:nvSpPr>
        <p:spPr>
          <a:xfrm flipV="1">
            <a:off x="5219640" y="4581360"/>
            <a:ext cx="865080" cy="648000"/>
          </a:xfrm>
          <a:prstGeom prst="line">
            <a:avLst/>
          </a:prstGeom>
          <a:ln cap="sq" w="381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12"/>
          <p:cNvSpPr/>
          <p:nvPr/>
        </p:nvSpPr>
        <p:spPr>
          <a:xfrm>
            <a:off x="6732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3"/>
          <p:cNvSpPr/>
          <p:nvPr/>
        </p:nvSpPr>
        <p:spPr>
          <a:xfrm>
            <a:off x="4211640" y="5734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14"/>
          <p:cNvSpPr/>
          <p:nvPr/>
        </p:nvSpPr>
        <p:spPr>
          <a:xfrm>
            <a:off x="8029080" y="4653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8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3" dur="2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7" dur="2000" fill="hold"/>
                                        <p:tgtEl>
                                          <p:spTgt spid="8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0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0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17520" y="228240"/>
            <a:ext cx="88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横看成岭左成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远近高低各不同．不识庐山真面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只缘身在此山中 ，你能说明是什么原因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38080" y="10666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视图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我们从某一角度观察一个物体时，所看到的图象叫做物体的一个视图．视图也可以看作物体在某一个角度的光线下的投影，对于同一物体，如果从不同角度观察，所得到的视图可能不同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9" name="ShockwaveFlash1"/>
          <p:cNvGraphicFramePr/>
          <p:nvPr/>
        </p:nvGraphicFramePr>
        <p:xfrm>
          <a:off x="3048120" y="1295280"/>
          <a:ext cx="52578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95280"/>
                    <a:ext cx="5257800" cy="4496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11" name=""/>
          <p:cNvSpPr/>
          <p:nvPr/>
        </p:nvSpPr>
        <p:spPr>
          <a:xfrm>
            <a:off x="5851440" y="3602160"/>
            <a:ext cx="146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57200" y="1676520"/>
            <a:ext cx="1523880" cy="15238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8534520" y="6383160"/>
          <a:ext cx="60948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4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34520" y="6383160"/>
                    <a:ext cx="6094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5" name=""/>
          <p:cNvSpPr/>
          <p:nvPr/>
        </p:nvSpPr>
        <p:spPr>
          <a:xfrm>
            <a:off x="0" y="1522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试一试：你能画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zhe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体的三视图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3182760" y="1231920"/>
            <a:ext cx="1683000" cy="1954080"/>
            <a:chOff x="3182760" y="1231920"/>
            <a:chExt cx="1683000" cy="1954080"/>
          </a:xfrm>
        </p:grpSpPr>
        <p:sp>
          <p:nvSpPr>
            <p:cNvPr id="917" name=""/>
            <p:cNvSpPr/>
            <p:nvPr/>
          </p:nvSpPr>
          <p:spPr>
            <a:xfrm>
              <a:off x="3182760" y="1231920"/>
              <a:ext cx="1536480" cy="1299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182760" y="2748240"/>
              <a:ext cx="168300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</a:rPr>
                <a:t>主 视 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791320" y="1219320"/>
            <a:ext cx="1868400" cy="1988640"/>
            <a:chOff x="5791320" y="1219320"/>
            <a:chExt cx="1868400" cy="1988640"/>
          </a:xfrm>
        </p:grpSpPr>
        <p:sp>
          <p:nvSpPr>
            <p:cNvPr id="920" name=""/>
            <p:cNvSpPr/>
            <p:nvPr/>
          </p:nvSpPr>
          <p:spPr>
            <a:xfrm>
              <a:off x="5873760" y="1219320"/>
              <a:ext cx="1536840" cy="1300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2770200"/>
              <a:ext cx="186840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</a:rPr>
                <a:t>左 视 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181320" y="3936960"/>
            <a:ext cx="1809720" cy="1988640"/>
            <a:chOff x="3181320" y="3936960"/>
            <a:chExt cx="1809720" cy="1988640"/>
          </a:xfrm>
        </p:grpSpPr>
        <p:sp>
          <p:nvSpPr>
            <p:cNvPr id="923" name=""/>
            <p:cNvSpPr/>
            <p:nvPr/>
          </p:nvSpPr>
          <p:spPr>
            <a:xfrm>
              <a:off x="3187440" y="3936960"/>
              <a:ext cx="1536840" cy="1300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181320" y="5487840"/>
              <a:ext cx="180972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</a:rPr>
                <a:t>俯 视 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304920" y="1219320"/>
            <a:ext cx="1974600" cy="1809360"/>
            <a:chOff x="304920" y="1219320"/>
            <a:chExt cx="1974600" cy="1809360"/>
          </a:xfrm>
        </p:grpSpPr>
        <p:sp>
          <p:nvSpPr>
            <p:cNvPr id="926" name=""/>
            <p:cNvSpPr/>
            <p:nvPr/>
          </p:nvSpPr>
          <p:spPr>
            <a:xfrm>
              <a:off x="304920" y="1223640"/>
              <a:ext cx="1974600" cy="180504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4920" y="2589480"/>
              <a:ext cx="470880" cy="43920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292"/>
                  </a:moveTo>
                  <a:lnTo>
                    <a:pt x="30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16840" y="2595600"/>
              <a:ext cx="1462320" cy="1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75800" y="1219320"/>
              <a:ext cx="1080" cy="1389960"/>
            </a:xfrm>
            <a:custGeom>
              <a:avLst/>
              <a:gdLst/>
              <a:ahLst/>
              <a:rect l="l" t="t" r="r" b="b"/>
              <a:pathLst>
                <a:path w="1" h="924">
                  <a:moveTo>
                    <a:pt x="0" y="0"/>
                  </a:moveTo>
                  <a:lnTo>
                    <a:pt x="0" y="9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1033920" y="34596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动手画一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3124080" y="2514600"/>
            <a:ext cx="601992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3124080" y="1219320"/>
            <a:ext cx="601992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467320" y="228600"/>
            <a:ext cx="2629080" cy="876240"/>
          </a:xfrm>
          <a:prstGeom prst="cloudCallout">
            <a:avLst>
              <a:gd name="adj1" fmla="val -50240"/>
              <a:gd name="adj2" fmla="val 75180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高平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200400" y="838080"/>
            <a:ext cx="0" cy="4610160"/>
          </a:xfrm>
          <a:prstGeom prst="line">
            <a:avLst/>
          </a:prstGeom>
          <a:ln cap="sq"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4724280" y="837720"/>
            <a:ext cx="0" cy="4591080"/>
          </a:xfrm>
          <a:prstGeom prst="line">
            <a:avLst/>
          </a:prstGeom>
          <a:ln cap="sq"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28600" y="3809880"/>
            <a:ext cx="2552760" cy="895320"/>
          </a:xfrm>
          <a:prstGeom prst="cloudCallout">
            <a:avLst>
              <a:gd name="adj1" fmla="val 80347"/>
              <a:gd name="adj2" fmla="val -70037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长对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724280" y="2514600"/>
            <a:ext cx="1143000" cy="1447920"/>
          </a:xfrm>
          <a:custGeom>
            <a:avLst/>
            <a:gdLst/>
            <a:ahLst/>
            <a:rect l="l" t="t" r="r" b="b"/>
            <a:pathLst>
              <a:path w="768" h="816">
                <a:moveTo>
                  <a:pt x="0" y="816"/>
                </a:moveTo>
                <a:cubicBezTo>
                  <a:pt x="248" y="764"/>
                  <a:pt x="496" y="712"/>
                  <a:pt x="624" y="576"/>
                </a:cubicBezTo>
                <a:cubicBezTo>
                  <a:pt x="752" y="440"/>
                  <a:pt x="744" y="96"/>
                  <a:pt x="768" y="0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724280" y="2514600"/>
            <a:ext cx="2667240" cy="2743200"/>
          </a:xfrm>
          <a:custGeom>
            <a:avLst/>
            <a:gdLst/>
            <a:ahLst/>
            <a:rect l="l" t="t" r="r" b="b"/>
            <a:pathLst>
              <a:path w="768" h="816">
                <a:moveTo>
                  <a:pt x="0" y="816"/>
                </a:moveTo>
                <a:cubicBezTo>
                  <a:pt x="248" y="764"/>
                  <a:pt x="496" y="712"/>
                  <a:pt x="624" y="576"/>
                </a:cubicBezTo>
                <a:cubicBezTo>
                  <a:pt x="752" y="440"/>
                  <a:pt x="744" y="96"/>
                  <a:pt x="768" y="0"/>
                </a:cubicBezTo>
              </a:path>
            </a:pathLst>
          </a:cu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400800" y="4952880"/>
            <a:ext cx="2381400" cy="685800"/>
          </a:xfrm>
          <a:prstGeom prst="cloudCallout">
            <a:avLst>
              <a:gd name="adj1" fmla="val -57268"/>
              <a:gd name="adj2" fmla="val -2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宽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2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-39240" y="1700280"/>
            <a:ext cx="1155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左面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58920" y="2781360"/>
            <a:ext cx="1152360" cy="142920"/>
          </a:xfrm>
          <a:prstGeom prst="rightArrow">
            <a:avLst>
              <a:gd name="adj1" fmla="val 50000"/>
              <a:gd name="adj2" fmla="val 201574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987640" y="260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上面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924360" y="83664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356000" y="5877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主面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rot="18950400">
            <a:off x="6012000" y="4868640"/>
            <a:ext cx="242640" cy="1012680"/>
          </a:xfrm>
          <a:prstGeom prst="upArrow">
            <a:avLst>
              <a:gd name="adj1" fmla="val 50000"/>
              <a:gd name="adj2" fmla="val 10434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732720" y="59500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主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076720" y="260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俯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-88560" y="3645000"/>
            <a:ext cx="11552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左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7020000" y="4076640"/>
            <a:ext cx="1728720" cy="1582920"/>
            <a:chOff x="7020000" y="4076640"/>
            <a:chExt cx="1728720" cy="1582920"/>
          </a:xfrm>
        </p:grpSpPr>
        <p:sp>
          <p:nvSpPr>
            <p:cNvPr id="950" name=""/>
            <p:cNvSpPr/>
            <p:nvPr/>
          </p:nvSpPr>
          <p:spPr>
            <a:xfrm>
              <a:off x="7883640" y="4868280"/>
              <a:ext cx="865080" cy="79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020000" y="4868280"/>
              <a:ext cx="865080" cy="79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883640" y="4076640"/>
              <a:ext cx="865080" cy="79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7164360" y="620640"/>
            <a:ext cx="1655280" cy="2303280"/>
            <a:chOff x="7164360" y="620640"/>
            <a:chExt cx="1655280" cy="2303280"/>
          </a:xfrm>
        </p:grpSpPr>
        <p:sp>
          <p:nvSpPr>
            <p:cNvPr id="954" name=""/>
            <p:cNvSpPr/>
            <p:nvPr/>
          </p:nvSpPr>
          <p:spPr>
            <a:xfrm rot="5400000">
              <a:off x="8021880" y="1358640"/>
              <a:ext cx="768600" cy="8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5400000">
              <a:off x="7193160" y="591480"/>
              <a:ext cx="768600" cy="8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rot="5400000">
              <a:off x="8020800" y="590400"/>
              <a:ext cx="768600" cy="8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rot="5400000">
              <a:off x="8021880" y="2126160"/>
              <a:ext cx="768600" cy="8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258560" y="4653000"/>
            <a:ext cx="2484360" cy="1538280"/>
            <a:chOff x="1258560" y="4653000"/>
            <a:chExt cx="2484360" cy="1538280"/>
          </a:xfrm>
        </p:grpSpPr>
        <p:sp>
          <p:nvSpPr>
            <p:cNvPr id="959" name=""/>
            <p:cNvSpPr/>
            <p:nvPr/>
          </p:nvSpPr>
          <p:spPr>
            <a:xfrm rot="5400000">
              <a:off x="1287000" y="5392800"/>
              <a:ext cx="770040" cy="82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rot="5400000">
              <a:off x="2945160" y="5391720"/>
              <a:ext cx="768240" cy="82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rot="5400000">
              <a:off x="1289160" y="4622760"/>
              <a:ext cx="768240" cy="8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5400000">
              <a:off x="2118600" y="5391720"/>
              <a:ext cx="768240" cy="82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348000" y="1773360"/>
            <a:ext cx="2735280" cy="2734920"/>
            <a:chOff x="3348000" y="1773360"/>
            <a:chExt cx="2735280" cy="2734920"/>
          </a:xfrm>
        </p:grpSpPr>
        <p:sp>
          <p:nvSpPr>
            <p:cNvPr id="964" name=""/>
            <p:cNvSpPr/>
            <p:nvPr/>
          </p:nvSpPr>
          <p:spPr>
            <a:xfrm>
              <a:off x="4427640" y="2852640"/>
              <a:ext cx="1079280" cy="107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27640" y="1773360"/>
              <a:ext cx="1079280" cy="1079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48000" y="2852640"/>
              <a:ext cx="1079640" cy="1079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714920" y="3139920"/>
              <a:ext cx="1079280" cy="1079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003640" y="3429000"/>
              <a:ext cx="1079640" cy="1079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4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2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0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 txBox="1"/>
          <p:nvPr/>
        </p:nvSpPr>
        <p:spPr>
          <a:xfrm>
            <a:off x="250920" y="450720"/>
            <a:ext cx="2457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6699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 </a:t>
            </a: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6699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几点说明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6699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70" name=""/>
          <p:cNvSpPr/>
          <p:nvPr/>
        </p:nvSpPr>
        <p:spPr>
          <a:xfrm>
            <a:off x="727560" y="90720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视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84360" y="1484280"/>
            <a:ext cx="81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七年级（上）的学习中，我们已经学习了立方体及其简单组合体的三种视图，你还记得是哪三种视图吗？你能画出下图的主视图、左视图和俯视图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5003640" y="3284640"/>
            <a:ext cx="2808360" cy="2773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471960" y="6058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视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495360" y="3502080"/>
            <a:ext cx="2808360" cy="277344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3375000" y="4581360"/>
            <a:ext cx="792360" cy="142920"/>
          </a:xfrm>
          <a:prstGeom prst="righ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3993120" y="3573360"/>
            <a:ext cx="4583880" cy="2925720"/>
            <a:chOff x="3993120" y="3573360"/>
            <a:chExt cx="4583880" cy="2925720"/>
          </a:xfrm>
        </p:grpSpPr>
        <p:grpSp>
          <p:nvGrpSpPr>
            <p:cNvPr id="977" name=""/>
            <p:cNvGrpSpPr/>
            <p:nvPr/>
          </p:nvGrpSpPr>
          <p:grpSpPr>
            <a:xfrm>
              <a:off x="3993120" y="3574800"/>
              <a:ext cx="2235240" cy="1366920"/>
              <a:chOff x="3993120" y="3574800"/>
              <a:chExt cx="2235240" cy="1366920"/>
            </a:xfrm>
          </p:grpSpPr>
          <p:grpSp>
            <p:nvGrpSpPr>
              <p:cNvPr id="978" name=""/>
              <p:cNvGrpSpPr/>
              <p:nvPr/>
            </p:nvGrpSpPr>
            <p:grpSpPr>
              <a:xfrm>
                <a:off x="4932000" y="3574800"/>
                <a:ext cx="1296360" cy="1224000"/>
                <a:chOff x="4932000" y="3574800"/>
                <a:chExt cx="1296360" cy="12240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5364360" y="3574800"/>
                  <a:ext cx="431280" cy="4075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364360" y="3982320"/>
                  <a:ext cx="431280" cy="4075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932000" y="4391280"/>
                  <a:ext cx="431280" cy="4075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64360" y="4391280"/>
                  <a:ext cx="431280" cy="4075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796000" y="4391280"/>
                  <a:ext cx="432360" cy="4075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"/>
              <p:cNvSpPr/>
              <p:nvPr/>
            </p:nvSpPr>
            <p:spPr>
              <a:xfrm>
                <a:off x="3993120" y="3646080"/>
                <a:ext cx="91188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主 视 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3993480" y="5130720"/>
              <a:ext cx="2233800" cy="1368360"/>
              <a:chOff x="3993480" y="5130720"/>
              <a:chExt cx="2233800" cy="1368360"/>
            </a:xfrm>
          </p:grpSpPr>
          <p:grpSp>
            <p:nvGrpSpPr>
              <p:cNvPr id="986" name=""/>
              <p:cNvGrpSpPr/>
              <p:nvPr/>
            </p:nvGrpSpPr>
            <p:grpSpPr>
              <a:xfrm>
                <a:off x="4932360" y="5130720"/>
                <a:ext cx="1294920" cy="1221840"/>
                <a:chOff x="4932360" y="5130720"/>
                <a:chExt cx="1294920" cy="122184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4932360" y="5537160"/>
                  <a:ext cx="431280" cy="406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363640" y="5537160"/>
                  <a:ext cx="431280" cy="406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4932360" y="5945760"/>
                  <a:ext cx="431280" cy="406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363640" y="5945760"/>
                  <a:ext cx="431280" cy="406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796000" y="5945760"/>
                  <a:ext cx="431280" cy="406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796000" y="5537160"/>
                  <a:ext cx="431280" cy="406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796000" y="5130720"/>
                  <a:ext cx="431280" cy="40644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363640" y="5130720"/>
                  <a:ext cx="431280" cy="40644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932360" y="5130720"/>
                  <a:ext cx="431280" cy="40644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"/>
              <p:cNvSpPr/>
              <p:nvPr/>
            </p:nvSpPr>
            <p:spPr>
              <a:xfrm>
                <a:off x="3993480" y="5203800"/>
                <a:ext cx="91188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俯 视 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6732360" y="3573360"/>
              <a:ext cx="1844640" cy="1368360"/>
              <a:chOff x="6732360" y="3573360"/>
              <a:chExt cx="1844640" cy="1368360"/>
            </a:xfrm>
          </p:grpSpPr>
          <p:grpSp>
            <p:nvGrpSpPr>
              <p:cNvPr id="998" name=""/>
              <p:cNvGrpSpPr/>
              <p:nvPr/>
            </p:nvGrpSpPr>
            <p:grpSpPr>
              <a:xfrm>
                <a:off x="6732360" y="3573360"/>
                <a:ext cx="1294920" cy="1221840"/>
                <a:chOff x="6732360" y="3573360"/>
                <a:chExt cx="1294920" cy="122184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732360" y="3981240"/>
                  <a:ext cx="431280" cy="406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165080" y="3573360"/>
                  <a:ext cx="430920" cy="406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165080" y="3981240"/>
                  <a:ext cx="430920" cy="406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596000" y="3981240"/>
                  <a:ext cx="431280" cy="406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732360" y="4388400"/>
                  <a:ext cx="431280" cy="406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596000" y="4388400"/>
                  <a:ext cx="431280" cy="406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165080" y="4388400"/>
                  <a:ext cx="430920" cy="4068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6" name=""/>
              <p:cNvSpPr/>
              <p:nvPr/>
            </p:nvSpPr>
            <p:spPr>
              <a:xfrm>
                <a:off x="7665120" y="3646440"/>
                <a:ext cx="91188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左 视 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7" name=""/>
          <p:cNvSpPr/>
          <p:nvPr/>
        </p:nvSpPr>
        <p:spPr>
          <a:xfrm>
            <a:off x="4932360" y="479736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932360" y="63817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364000" y="3573360"/>
            <a:ext cx="0" cy="1224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164360" y="3573360"/>
            <a:ext cx="0" cy="1224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732720" y="4797360"/>
            <a:ext cx="1295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932360" y="5156280"/>
            <a:ext cx="0" cy="1225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990720" y="-304920"/>
            <a:ext cx="6227640" cy="3500280"/>
            <a:chOff x="990720" y="-304920"/>
            <a:chExt cx="6227640" cy="3500280"/>
          </a:xfrm>
        </p:grpSpPr>
        <p:sp>
          <p:nvSpPr>
            <p:cNvPr id="1014" name=""/>
            <p:cNvSpPr/>
            <p:nvPr/>
          </p:nvSpPr>
          <p:spPr>
            <a:xfrm>
              <a:off x="990720" y="-304920"/>
              <a:ext cx="6227640" cy="3500280"/>
            </a:xfrm>
            <a:prstGeom prst="cloudCallout">
              <a:avLst>
                <a:gd name="adj1" fmla="val 6638"/>
                <a:gd name="adj2" fmla="val 6143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1280" y="99720"/>
              <a:ext cx="4752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注意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画三种视图有一定的要求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主视图反映物体的长和高，俯视图反映物体的长和宽，左视图反映物体的高和宽，因此在画三种视图时，主、俯视图要长对主，主、左视图要高平齐，左、俯视图要宽相等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 rot="16200000">
            <a:off x="4914720" y="213192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rot="16200000">
            <a:off x="4152600" y="213192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rot="16200000">
            <a:off x="3314520" y="213192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rot="16200000">
            <a:off x="3314520" y="136980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2398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771640" y="1951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从上面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6360" y="2060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从左面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852720" y="3716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从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zheng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面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343400" y="2398680"/>
            <a:ext cx="83808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rot="16200000">
            <a:off x="3543120" y="236052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539640" y="4149720"/>
            <a:ext cx="2016000" cy="1294560"/>
            <a:chOff x="539640" y="4149720"/>
            <a:chExt cx="2016000" cy="1294560"/>
          </a:xfrm>
        </p:grpSpPr>
        <p:sp>
          <p:nvSpPr>
            <p:cNvPr id="1027" name=""/>
            <p:cNvSpPr/>
            <p:nvPr/>
          </p:nvSpPr>
          <p:spPr>
            <a:xfrm>
              <a:off x="539640" y="4149720"/>
              <a:ext cx="671760" cy="6469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39640" y="4796640"/>
              <a:ext cx="671760" cy="6476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211400" y="4796640"/>
              <a:ext cx="672120" cy="6476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883880" y="4796640"/>
              <a:ext cx="671760" cy="6476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3419640" y="4365720"/>
            <a:ext cx="1294560" cy="1223280"/>
            <a:chOff x="3419640" y="4365720"/>
            <a:chExt cx="1294560" cy="1223280"/>
          </a:xfrm>
        </p:grpSpPr>
        <p:sp>
          <p:nvSpPr>
            <p:cNvPr id="1032" name=""/>
            <p:cNvSpPr/>
            <p:nvPr/>
          </p:nvSpPr>
          <p:spPr>
            <a:xfrm>
              <a:off x="3419640" y="4365720"/>
              <a:ext cx="647280" cy="6120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66920" y="4977720"/>
              <a:ext cx="647280" cy="6112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419640" y="4977720"/>
              <a:ext cx="647280" cy="6112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227640" y="4319640"/>
            <a:ext cx="2016000" cy="1340640"/>
            <a:chOff x="6227640" y="4319640"/>
            <a:chExt cx="2016000" cy="1340640"/>
          </a:xfrm>
        </p:grpSpPr>
        <p:sp>
          <p:nvSpPr>
            <p:cNvPr id="1036" name=""/>
            <p:cNvSpPr/>
            <p:nvPr/>
          </p:nvSpPr>
          <p:spPr>
            <a:xfrm>
              <a:off x="6227640" y="4989600"/>
              <a:ext cx="672120" cy="67068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99760" y="4319640"/>
              <a:ext cx="671760" cy="6699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27640" y="4319640"/>
              <a:ext cx="672120" cy="6699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571880" y="4319640"/>
              <a:ext cx="671760" cy="6699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3733920" y="2627280"/>
            <a:ext cx="83808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4114080" y="217008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505320" y="1636560"/>
            <a:ext cx="83808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181480" y="239868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 flipV="1">
            <a:off x="4190760" y="316044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rot="16192800">
            <a:off x="3124080" y="277956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rot="16192800">
            <a:off x="2895480" y="255096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rot="16192800">
            <a:off x="2895480" y="178884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4952880" y="2170080"/>
            <a:ext cx="990720" cy="228600"/>
          </a:xfrm>
          <a:prstGeom prst="parallelogram">
            <a:avLst>
              <a:gd name="adj" fmla="val 9737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3276000" y="140796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3504600" y="239868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09880" y="99072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84360" y="5734080"/>
            <a:ext cx="17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主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203640" y="580536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左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227640" y="5734080"/>
            <a:ext cx="19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俯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0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3505320" y="2286000"/>
            <a:ext cx="3047400" cy="1219320"/>
            <a:chOff x="3505320" y="2286000"/>
            <a:chExt cx="3047400" cy="1219320"/>
          </a:xfrm>
        </p:grpSpPr>
        <p:sp>
          <p:nvSpPr>
            <p:cNvPr id="1056" name=""/>
            <p:cNvSpPr/>
            <p:nvPr/>
          </p:nvSpPr>
          <p:spPr>
            <a:xfrm>
              <a:off x="3505320" y="2286000"/>
              <a:ext cx="609120" cy="1219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114440" y="2895480"/>
              <a:ext cx="60948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724280" y="2895480"/>
              <a:ext cx="60912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333760" y="2895480"/>
              <a:ext cx="60912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943240" y="2895480"/>
              <a:ext cx="60948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3505320" y="2895480"/>
              <a:ext cx="609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7010280" y="2286000"/>
            <a:ext cx="1828800" cy="1219320"/>
            <a:chOff x="7010280" y="2286000"/>
            <a:chExt cx="1828800" cy="1219320"/>
          </a:xfrm>
        </p:grpSpPr>
        <p:sp>
          <p:nvSpPr>
            <p:cNvPr id="1063" name=""/>
            <p:cNvSpPr/>
            <p:nvPr/>
          </p:nvSpPr>
          <p:spPr>
            <a:xfrm>
              <a:off x="7010280" y="2286000"/>
              <a:ext cx="609480" cy="1219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0280" y="2895480"/>
              <a:ext cx="182880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619760" y="2895480"/>
              <a:ext cx="0" cy="609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229600" y="2895480"/>
              <a:ext cx="0" cy="609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3505320" y="4724280"/>
            <a:ext cx="3124080" cy="1752480"/>
            <a:chOff x="3505320" y="4724280"/>
            <a:chExt cx="3124080" cy="1752480"/>
          </a:xfrm>
        </p:grpSpPr>
        <p:sp>
          <p:nvSpPr>
            <p:cNvPr id="1068" name=""/>
            <p:cNvSpPr/>
            <p:nvPr/>
          </p:nvSpPr>
          <p:spPr>
            <a:xfrm>
              <a:off x="3505320" y="4724280"/>
              <a:ext cx="2438280" cy="6094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334120" y="4724280"/>
              <a:ext cx="609480" cy="17524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943600" y="5333760"/>
              <a:ext cx="685800" cy="114300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34120" y="533376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334120" y="5867280"/>
              <a:ext cx="1295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724640" y="472428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038840" y="472428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4495680" y="18288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主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267080" y="3809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俯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7238880" y="16765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左视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57200" y="304920"/>
            <a:ext cx="281952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练一练 </a:t>
            </a:r>
            <a:r>
              <a:rPr b="1" lang="zh-CN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80880" y="1143000"/>
            <a:ext cx="81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能说出下面这个几何体的三视图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152280" y="1828800"/>
            <a:ext cx="2971800" cy="1905120"/>
            <a:chOff x="152280" y="1828800"/>
            <a:chExt cx="2971800" cy="1905120"/>
          </a:xfrm>
        </p:grpSpPr>
        <p:sp>
          <p:nvSpPr>
            <p:cNvPr id="1081" name=""/>
            <p:cNvSpPr/>
            <p:nvPr/>
          </p:nvSpPr>
          <p:spPr>
            <a:xfrm>
              <a:off x="152280" y="243828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61760" y="243828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71600" y="243828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904760" y="243828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52280" y="1828800"/>
              <a:ext cx="838080" cy="83808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76160" y="266688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86000" y="266688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447560" y="289548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057400" y="289548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都是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小立方体搭成的几何体，从不同方向看几何体，分别画出它们的主视图、左视图与俯视图，并在小正方形内填上表示该位置的小正方体的个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57200" y="700200"/>
            <a:ext cx="8686800" cy="58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由物知图——利用主方体组合提升空间想象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609480" y="3886200"/>
            <a:ext cx="7848360" cy="2666520"/>
            <a:chOff x="609480" y="3886200"/>
            <a:chExt cx="7848360" cy="2666520"/>
          </a:xfrm>
        </p:grpSpPr>
        <p:sp>
          <p:nvSpPr>
            <p:cNvPr id="1093" name=""/>
            <p:cNvSpPr/>
            <p:nvPr/>
          </p:nvSpPr>
          <p:spPr>
            <a:xfrm>
              <a:off x="6741000" y="5082120"/>
              <a:ext cx="626400" cy="6613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483080" y="4969080"/>
              <a:ext cx="626400" cy="6613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93080" y="4812120"/>
              <a:ext cx="626400" cy="658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47640" y="4969080"/>
              <a:ext cx="626400" cy="658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93080" y="4323960"/>
              <a:ext cx="626400" cy="6606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5840" y="4480920"/>
              <a:ext cx="626400" cy="658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272240" y="4812120"/>
              <a:ext cx="626400" cy="658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272240" y="4323960"/>
              <a:ext cx="626400" cy="6606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126800" y="4969080"/>
              <a:ext cx="628200" cy="658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97760" y="4876560"/>
              <a:ext cx="626400" cy="658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80120" y="4383360"/>
              <a:ext cx="626400" cy="658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80120" y="3886200"/>
              <a:ext cx="626400" cy="6606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059280" y="4876560"/>
              <a:ext cx="626400" cy="6613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059280" y="4383360"/>
              <a:ext cx="626400" cy="658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521160" y="4876560"/>
              <a:ext cx="626400" cy="6613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417760" y="5033520"/>
              <a:ext cx="626400" cy="658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949280" y="4969080"/>
              <a:ext cx="626400" cy="6613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094720" y="4325760"/>
              <a:ext cx="626400" cy="658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947120" y="4480920"/>
              <a:ext cx="626400" cy="6606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73520" y="4812120"/>
              <a:ext cx="626400" cy="6613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73520" y="4323960"/>
              <a:ext cx="626400" cy="6606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367400" y="4425480"/>
              <a:ext cx="626400" cy="6606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367400" y="3945600"/>
              <a:ext cx="626400" cy="6606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205040" y="5073480"/>
              <a:ext cx="626400" cy="658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831440" y="4920480"/>
              <a:ext cx="626400" cy="6588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831440" y="4425480"/>
              <a:ext cx="626400" cy="6606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09480" y="5692320"/>
              <a:ext cx="1401840" cy="8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597760" y="5694840"/>
              <a:ext cx="1404360" cy="8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759200" y="5694840"/>
              <a:ext cx="1404360" cy="8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961320" y="5692320"/>
              <a:ext cx="1404360" cy="8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/>
          </p:nvPr>
        </p:nvSpPr>
        <p:spPr>
          <a:xfrm>
            <a:off x="533520" y="1444320"/>
            <a:ext cx="8153280" cy="44989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用□表示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立方体，用灰色表示两个立方体叠加，用黑色表示三个立方体叠加，那么下面右图由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立方体叠成的几何体，从主前方观察，可画出的平面图形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5832360" cy="18180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2"/>
          <a:stretch/>
        </p:blipFill>
        <p:spPr>
          <a:xfrm>
            <a:off x="6877080" y="4221000"/>
            <a:ext cx="1657440" cy="155268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990720" y="700200"/>
            <a:ext cx="746748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黑体"/>
              </a:rPr>
              <a:t>由物知图——利用正方体组合提升空间想象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12760" y="345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304920" y="1219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小正方体搭一个几何体，它的主视图和俯视图如图所示，最多要多少个小正方体最少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763640" y="4091040"/>
            <a:ext cx="2170080" cy="49032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808360" y="2944800"/>
            <a:ext cx="561960" cy="163656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325600" y="3517920"/>
            <a:ext cx="1044720" cy="57312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808360" y="3517920"/>
            <a:ext cx="0" cy="57312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325600" y="4008600"/>
            <a:ext cx="0" cy="57276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4897440" y="2924280"/>
            <a:ext cx="2410920" cy="1674720"/>
            <a:chOff x="4897440" y="2924280"/>
            <a:chExt cx="2410920" cy="1674720"/>
          </a:xfrm>
        </p:grpSpPr>
        <p:sp>
          <p:nvSpPr>
            <p:cNvPr id="1135" name=""/>
            <p:cNvSpPr/>
            <p:nvPr/>
          </p:nvSpPr>
          <p:spPr>
            <a:xfrm>
              <a:off x="4897440" y="3456720"/>
              <a:ext cx="2410920" cy="609120"/>
            </a:xfrm>
            <a:prstGeom prst="rect">
              <a:avLst/>
            </a:prstGeom>
            <a:solidFill>
              <a:srgbClr val="ffffff"/>
            </a:solidFill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460120" y="2924280"/>
              <a:ext cx="1285920" cy="1674720"/>
            </a:xfrm>
            <a:prstGeom prst="rect">
              <a:avLst/>
            </a:prstGeom>
            <a:solidFill>
              <a:srgbClr val="ffffff"/>
            </a:solidFill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460120" y="3456720"/>
              <a:ext cx="136620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60120" y="4066200"/>
              <a:ext cx="128592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102720" y="2924280"/>
              <a:ext cx="0" cy="167472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2248200" y="4757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主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526360" y="4718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990720" y="533520"/>
            <a:ext cx="746748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黑体"/>
              </a:rPr>
              <a:t>由图想物——利用主方体组合提升空间想象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8"/>
          <p:cNvSpPr/>
          <p:nvPr/>
        </p:nvSpPr>
        <p:spPr>
          <a:xfrm>
            <a:off x="22860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知道，单一的视图通常只能反映物体的一个方面的形状，为了全面地反映物体的形状，生产实践中往往采用多个视图来反映物体不同方面的形状。如下图中右左的视图所示， 可以多角度地反映飞机的形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rcRect l="22105" t="42382" r="12769" b="39361"/>
          <a:stretch/>
        </p:blipFill>
        <p:spPr>
          <a:xfrm>
            <a:off x="457200" y="2666880"/>
            <a:ext cx="7993080" cy="31370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800600" y="38098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左面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0" y="3809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主面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48320" y="52578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上面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3240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小主方体搭一个几何体，它的主视图和俯视图如图所示，最多要多少个小主方体？最少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763640" y="3828960"/>
            <a:ext cx="2170080" cy="4906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808360" y="2682720"/>
            <a:ext cx="561960" cy="163692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325600" y="3255840"/>
            <a:ext cx="1044720" cy="57312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808360" y="3255840"/>
            <a:ext cx="0" cy="57312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325600" y="3746520"/>
            <a:ext cx="0" cy="57312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4897440" y="2662200"/>
            <a:ext cx="2410920" cy="1674720"/>
            <a:chOff x="4897440" y="2662200"/>
            <a:chExt cx="2410920" cy="1674720"/>
          </a:xfrm>
        </p:grpSpPr>
        <p:sp>
          <p:nvSpPr>
            <p:cNvPr id="1150" name=""/>
            <p:cNvSpPr/>
            <p:nvPr/>
          </p:nvSpPr>
          <p:spPr>
            <a:xfrm>
              <a:off x="4897440" y="3194640"/>
              <a:ext cx="2410920" cy="609120"/>
            </a:xfrm>
            <a:prstGeom prst="rect">
              <a:avLst/>
            </a:prstGeom>
            <a:solidFill>
              <a:srgbClr val="ffffff"/>
            </a:solidFill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460120" y="2662200"/>
              <a:ext cx="1285920" cy="1674720"/>
            </a:xfrm>
            <a:prstGeom prst="rect">
              <a:avLst/>
            </a:prstGeom>
            <a:solidFill>
              <a:srgbClr val="ffffff"/>
            </a:solidFill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60120" y="3194640"/>
              <a:ext cx="136620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60120" y="3804120"/>
              <a:ext cx="128592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2720" y="2662200"/>
              <a:ext cx="0" cy="167472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2652840" y="525456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∴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最大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7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248200" y="44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主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526360" y="4456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930920" y="31669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新魏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5521320" y="2590920"/>
            <a:ext cx="434880" cy="1855800"/>
            <a:chOff x="5521320" y="2590920"/>
            <a:chExt cx="434880" cy="1855800"/>
          </a:xfrm>
        </p:grpSpPr>
        <p:sp>
          <p:nvSpPr>
            <p:cNvPr id="1160" name=""/>
            <p:cNvSpPr/>
            <p:nvPr/>
          </p:nvSpPr>
          <p:spPr>
            <a:xfrm>
              <a:off x="5521320" y="259092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522760" y="316692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22760" y="374328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6111720" y="2590920"/>
            <a:ext cx="578160" cy="1855800"/>
            <a:chOff x="6111720" y="2590920"/>
            <a:chExt cx="578160" cy="1855800"/>
          </a:xfrm>
        </p:grpSpPr>
        <p:sp>
          <p:nvSpPr>
            <p:cNvPr id="1164" name=""/>
            <p:cNvSpPr/>
            <p:nvPr/>
          </p:nvSpPr>
          <p:spPr>
            <a:xfrm>
              <a:off x="6113520" y="2590920"/>
              <a:ext cx="54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111720" y="316692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141960" y="374328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6732720" y="31510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新魏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4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9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1763640" y="3786120"/>
            <a:ext cx="2170080" cy="4906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808360" y="2639880"/>
            <a:ext cx="561960" cy="163692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325600" y="3213000"/>
            <a:ext cx="1044720" cy="57312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808360" y="3213000"/>
            <a:ext cx="0" cy="57312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325600" y="3703680"/>
            <a:ext cx="0" cy="57312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4897440" y="2619360"/>
            <a:ext cx="2410920" cy="1674720"/>
            <a:chOff x="4897440" y="2619360"/>
            <a:chExt cx="2410920" cy="1674720"/>
          </a:xfrm>
        </p:grpSpPr>
        <p:sp>
          <p:nvSpPr>
            <p:cNvPr id="1174" name=""/>
            <p:cNvSpPr/>
            <p:nvPr/>
          </p:nvSpPr>
          <p:spPr>
            <a:xfrm>
              <a:off x="4897440" y="3151800"/>
              <a:ext cx="2410920" cy="609120"/>
            </a:xfrm>
            <a:prstGeom prst="rect">
              <a:avLst/>
            </a:prstGeom>
            <a:solidFill>
              <a:srgbClr val="ffffff"/>
            </a:solidFill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60120" y="2619360"/>
              <a:ext cx="1285920" cy="1674720"/>
            </a:xfrm>
            <a:prstGeom prst="rect">
              <a:avLst/>
            </a:prstGeom>
            <a:solidFill>
              <a:srgbClr val="ffffff"/>
            </a:solidFill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460120" y="3151800"/>
              <a:ext cx="136620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460120" y="3761280"/>
              <a:ext cx="128592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02720" y="2619360"/>
              <a:ext cx="0" cy="167472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2647800" y="521172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∴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最小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248200" y="4452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主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526360" y="4413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30920" y="312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新魏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5521320" y="2548080"/>
            <a:ext cx="434880" cy="1855800"/>
            <a:chOff x="5521320" y="2548080"/>
            <a:chExt cx="434880" cy="1855800"/>
          </a:xfrm>
        </p:grpSpPr>
        <p:sp>
          <p:nvSpPr>
            <p:cNvPr id="1184" name=""/>
            <p:cNvSpPr/>
            <p:nvPr/>
          </p:nvSpPr>
          <p:spPr>
            <a:xfrm>
              <a:off x="5521320" y="254808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522760" y="312408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522760" y="370044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111720" y="2548080"/>
            <a:ext cx="578160" cy="1855800"/>
            <a:chOff x="6111720" y="2548080"/>
            <a:chExt cx="578160" cy="1855800"/>
          </a:xfrm>
        </p:grpSpPr>
        <p:sp>
          <p:nvSpPr>
            <p:cNvPr id="1188" name=""/>
            <p:cNvSpPr/>
            <p:nvPr/>
          </p:nvSpPr>
          <p:spPr>
            <a:xfrm>
              <a:off x="6113520" y="2548080"/>
              <a:ext cx="54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111720" y="312408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141960" y="370044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1" name=""/>
          <p:cNvSpPr/>
          <p:nvPr/>
        </p:nvSpPr>
        <p:spPr>
          <a:xfrm>
            <a:off x="6732720" y="31082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新魏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240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小主方体搭一个几何体，它的主视图和俯视图如图所示，最多要多少个小主方体？最少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1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6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5334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如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是由几个小立方体所搭几何体的俯视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正方形中的数字表示在该位置小正方体的个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990720" y="27432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能摆出这个几何体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705720" y="3352680"/>
            <a:ext cx="83808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705720" y="2743200"/>
            <a:ext cx="838080" cy="838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315200" y="3352680"/>
            <a:ext cx="83808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867280" y="3581280"/>
            <a:ext cx="83844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6477120" y="3581280"/>
            <a:ext cx="83808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477120" y="2971800"/>
            <a:ext cx="838080" cy="838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3429000"/>
            <a:ext cx="52578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画出这个几何体的主视图与左视图，并它的求出全表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990720" y="4648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主视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35268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66688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666880" y="51814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98108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00600" y="4648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左视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40080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08660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400800" y="51814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086600" y="51814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32448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696080" y="1143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0866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010280" y="1752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1676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0" y="1676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58000" y="10666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543800" y="10666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838080" y="304920"/>
            <a:ext cx="746784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黑体"/>
              </a:rPr>
              <a:t>由图想物——利用主方体组合提升空间想象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8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3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8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03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08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3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8" dur="500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8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8077320" y="609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467480" y="609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39152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010280" y="3886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主视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6934320" y="6019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左视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04920" y="1752480"/>
            <a:ext cx="2286000" cy="33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思考方法</a:t>
            </a:r>
            <a:r>
              <a:rPr b="1" lang="zh-CN" sz="2800" spc="-1" strike="noStrike">
                <a:solidFill>
                  <a:srgbClr val="000099"/>
                </a:solidFill>
                <a:latin typeface="Wingdings 2"/>
                <a:ea typeface="Wingdings 2"/>
              </a:rPr>
              <a:t>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2209680"/>
            <a:ext cx="6553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根据俯视图确定主视图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219320" y="3962520"/>
            <a:ext cx="914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0" y="2895480"/>
            <a:ext cx="6858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根据数字确定每列的方块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0" y="762120"/>
            <a:ext cx="6172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用摆出这个几何体，你能画出这个几何体的主视图与左视图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4038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视图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200400" y="3962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4100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0" y="4572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列的方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590920" y="4495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505320" y="4572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三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7150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629400" y="30481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7315200" y="30481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315200" y="24382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001000" y="30481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553080" y="11430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7238880" y="11430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7238880" y="533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7924680" y="533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视图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列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37160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362320" y="5105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列的方块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724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133720" y="5715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列的方块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724280" y="5715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010280" y="52578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7010280" y="4648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7696080" y="52578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7696080" y="4648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01028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俯视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62120" y="0"/>
            <a:ext cx="5029200" cy="58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由图想物——主方体组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838080" y="6172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黑体"/>
              </a:rPr>
              <a:t>全表面积为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黑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500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5" dur="500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5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0" dur="500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5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906480" y="1222200"/>
            <a:ext cx="75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你会画圆柱的三视图吗？试一试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8229600" y="5821200"/>
          <a:ext cx="60948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5821200"/>
                    <a:ext cx="6094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3" name="ShockwaveFlash1"/>
          <p:cNvGraphicFramePr/>
          <p:nvPr/>
        </p:nvGraphicFramePr>
        <p:xfrm>
          <a:off x="1962000" y="2419200"/>
          <a:ext cx="5029200" cy="373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4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2000" y="2419200"/>
                    <a:ext cx="5029200" cy="3733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265" name="" descr=""/>
          <p:cNvPicPr/>
          <p:nvPr/>
        </p:nvPicPr>
        <p:blipFill>
          <a:blip r:embed="rId5"/>
          <a:stretch/>
        </p:blipFill>
        <p:spPr>
          <a:xfrm>
            <a:off x="19080" y="11160"/>
            <a:ext cx="2743200" cy="784080"/>
          </a:xfrm>
          <a:prstGeom prst="rect">
            <a:avLst/>
          </a:prstGeom>
          <a:ln w="0">
            <a:noFill/>
          </a:ln>
        </p:spPr>
      </p:pic>
      <p:sp>
        <p:nvSpPr>
          <p:cNvPr id="1266" name=""/>
          <p:cNvSpPr/>
          <p:nvPr/>
        </p:nvSpPr>
        <p:spPr>
          <a:xfrm>
            <a:off x="906480" y="0"/>
            <a:ext cx="228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bbe0e3"/>
                </a:solidFill>
                <a:latin typeface="Times New Roman"/>
                <a:ea typeface="方正姚体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0" dur="indefinite" restart="never" nodeType="tmRoot">
          <p:childTnLst>
            <p:seq>
              <p:cTn id="1621" dur="indefinite" nodeType="mainSeq">
                <p:childTnLst>
                  <p:par>
                    <p:cTn id="1622" fill="hold">
                      <p:stCondLst>
                        <p:cond delay="0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838600" y="380880"/>
            <a:ext cx="137160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838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视 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4781520" y="380880"/>
            <a:ext cx="137160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533840" y="23432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 视 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876400" y="2952720"/>
            <a:ext cx="1371600" cy="137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819520" y="4457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俯 视 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"/>
          <p:cNvGrpSpPr/>
          <p:nvPr/>
        </p:nvGrpSpPr>
        <p:grpSpPr>
          <a:xfrm>
            <a:off x="148680" y="762120"/>
            <a:ext cx="2971440" cy="4159440"/>
            <a:chOff x="148680" y="762120"/>
            <a:chExt cx="2971440" cy="4159440"/>
          </a:xfrm>
        </p:grpSpPr>
        <p:sp>
          <p:nvSpPr>
            <p:cNvPr id="1274" name=""/>
            <p:cNvSpPr/>
            <p:nvPr/>
          </p:nvSpPr>
          <p:spPr>
            <a:xfrm>
              <a:off x="914400" y="762120"/>
              <a:ext cx="1371600" cy="221004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 rot="13051800">
              <a:off x="555480" y="2408760"/>
              <a:ext cx="2157120" cy="20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15" y="1"/>
                  </a:moveTo>
                  <a:arcTo wR="10800" hR="10800" stAng="-5363263" swAng="4886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15" y="1"/>
                  </a:moveTo>
                  <a:arcTo wR="10800" hR="10800" stAng="-5363263" swAng="4886393"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6477120" y="685800"/>
            <a:ext cx="2381040" cy="1276200"/>
          </a:xfrm>
          <a:prstGeom prst="cloudCallout">
            <a:avLst>
              <a:gd name="adj1" fmla="val -59935"/>
              <a:gd name="adj2" fmla="val 6318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宽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621320" y="356220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宽相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俯视图和左视图共同反映了物体前后之间的长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fill="hold">
                      <p:stCondLst>
                        <p:cond delay="0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08 -0.00278 C 0.12552 -0.04607 0.17396 -0.08912 0.19583 -0.13357 C 0.21771 -0.17801 0.21302 -0.22384 0.20833 -0.26945 E">
                                      <p:cBhvr>
                                        <p:cTn id="1659" dur="2000" fill="hold"/>
                                        <p:tgtEl>
                                          <p:spTgt spid="1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4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9" dur="5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"/>
          <p:cNvGrpSpPr/>
          <p:nvPr/>
        </p:nvGrpSpPr>
        <p:grpSpPr>
          <a:xfrm>
            <a:off x="5452920" y="981000"/>
            <a:ext cx="1297080" cy="1727280"/>
            <a:chOff x="5452920" y="981000"/>
            <a:chExt cx="1297080" cy="1727280"/>
          </a:xfrm>
        </p:grpSpPr>
        <p:sp>
          <p:nvSpPr>
            <p:cNvPr id="1279" name="Line 4"/>
            <p:cNvSpPr/>
            <p:nvPr/>
          </p:nvSpPr>
          <p:spPr>
            <a:xfrm flipH="1">
              <a:off x="5465520" y="981000"/>
              <a:ext cx="617760" cy="172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Line 5"/>
            <p:cNvSpPr/>
            <p:nvPr/>
          </p:nvSpPr>
          <p:spPr>
            <a:xfrm flipH="1" flipV="1">
              <a:off x="6084360" y="981000"/>
              <a:ext cx="660600" cy="172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6"/>
            <p:cNvSpPr/>
            <p:nvPr/>
          </p:nvSpPr>
          <p:spPr>
            <a:xfrm>
              <a:off x="5452920" y="2708280"/>
              <a:ext cx="129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Oval 7"/>
          <p:cNvSpPr/>
          <p:nvPr/>
        </p:nvSpPr>
        <p:spPr>
          <a:xfrm>
            <a:off x="5508720" y="3645000"/>
            <a:ext cx="1235160" cy="115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13"/>
          <p:cNvSpPr/>
          <p:nvPr/>
        </p:nvSpPr>
        <p:spPr>
          <a:xfrm>
            <a:off x="5640120" y="285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14"/>
          <p:cNvSpPr/>
          <p:nvPr/>
        </p:nvSpPr>
        <p:spPr>
          <a:xfrm>
            <a:off x="7727760" y="292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左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15"/>
          <p:cNvSpPr/>
          <p:nvPr/>
        </p:nvSpPr>
        <p:spPr>
          <a:xfrm>
            <a:off x="5571000" y="5013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俯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6" name="Picture 19" descr="圆锥体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96360" y="3716280"/>
            <a:ext cx="1272960" cy="2349720"/>
          </a:xfrm>
          <a:prstGeom prst="rect">
            <a:avLst/>
          </a:prstGeom>
          <a:ln w="0">
            <a:noFill/>
          </a:ln>
        </p:spPr>
      </p:pic>
      <p:sp>
        <p:nvSpPr>
          <p:cNvPr id="1287" name="Text Box 20"/>
          <p:cNvSpPr/>
          <p:nvPr/>
        </p:nvSpPr>
        <p:spPr>
          <a:xfrm>
            <a:off x="611280" y="26028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圆锥的三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23"/>
          <p:cNvSpPr/>
          <p:nvPr/>
        </p:nvSpPr>
        <p:spPr>
          <a:xfrm>
            <a:off x="0" y="486900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旋转体的主左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24"/>
          <p:cNvSpPr/>
          <p:nvPr/>
        </p:nvSpPr>
        <p:spPr>
          <a:xfrm>
            <a:off x="3851280" y="4869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0" name="圆锥.avi" descr=""/>
          <p:cNvPicPr/>
          <p:nvPr/>
        </p:nvPicPr>
        <p:blipFill>
          <a:blip r:embed="rId3"/>
          <a:stretch/>
        </p:blipFill>
        <p:spPr>
          <a:xfrm>
            <a:off x="1440" y="1003320"/>
            <a:ext cx="5104080" cy="2859120"/>
          </a:xfrm>
          <a:prstGeom prst="rect">
            <a:avLst/>
          </a:prstGeom>
          <a:ln w="0">
            <a:noFill/>
          </a:ln>
        </p:spPr>
      </p:pic>
      <p:grpSp>
        <p:nvGrpSpPr>
          <p:cNvPr id="1291" name=""/>
          <p:cNvGrpSpPr/>
          <p:nvPr/>
        </p:nvGrpSpPr>
        <p:grpSpPr>
          <a:xfrm>
            <a:off x="7596360" y="981000"/>
            <a:ext cx="1296720" cy="1727280"/>
            <a:chOff x="7596360" y="981000"/>
            <a:chExt cx="1296720" cy="1727280"/>
          </a:xfrm>
        </p:grpSpPr>
        <p:sp>
          <p:nvSpPr>
            <p:cNvPr id="1292" name="Line 26"/>
            <p:cNvSpPr/>
            <p:nvPr/>
          </p:nvSpPr>
          <p:spPr>
            <a:xfrm flipH="1">
              <a:off x="7608240" y="981000"/>
              <a:ext cx="617400" cy="172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Line 27"/>
            <p:cNvSpPr/>
            <p:nvPr/>
          </p:nvSpPr>
          <p:spPr>
            <a:xfrm flipH="1" flipV="1">
              <a:off x="8227800" y="981000"/>
              <a:ext cx="660240" cy="172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Line 28"/>
            <p:cNvSpPr/>
            <p:nvPr/>
          </p:nvSpPr>
          <p:spPr>
            <a:xfrm>
              <a:off x="7596360" y="2708280"/>
              <a:ext cx="129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5435280" y="333360"/>
            <a:ext cx="1224000" cy="624960"/>
            <a:chOff x="5435280" y="333360"/>
            <a:chExt cx="1224000" cy="624960"/>
          </a:xfrm>
        </p:grpSpPr>
        <p:grpSp>
          <p:nvGrpSpPr>
            <p:cNvPr id="1296" name=""/>
            <p:cNvGrpSpPr/>
            <p:nvPr/>
          </p:nvGrpSpPr>
          <p:grpSpPr>
            <a:xfrm>
              <a:off x="5435280" y="620640"/>
              <a:ext cx="1224000" cy="337680"/>
              <a:chOff x="5435280" y="620640"/>
              <a:chExt cx="1224000" cy="337680"/>
            </a:xfrm>
          </p:grpSpPr>
          <p:cxnSp>
            <p:nvCxnSpPr>
              <p:cNvPr id="1297" name="AutoShape 42"/>
              <p:cNvCxnSpPr/>
              <p:nvPr/>
            </p:nvCxnSpPr>
            <p:spPr>
              <a:xfrm flipH="1">
                <a:off x="5435280" y="789840"/>
                <a:ext cx="121968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298" name="Line 43"/>
              <p:cNvSpPr/>
              <p:nvPr/>
            </p:nvSpPr>
            <p:spPr>
              <a:xfrm>
                <a:off x="5435640" y="704160"/>
                <a:ext cx="0" cy="169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Line 44"/>
              <p:cNvSpPr/>
              <p:nvPr/>
            </p:nvSpPr>
            <p:spPr>
              <a:xfrm>
                <a:off x="5435640" y="620640"/>
                <a:ext cx="0" cy="33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Line 45"/>
              <p:cNvSpPr/>
              <p:nvPr/>
            </p:nvSpPr>
            <p:spPr>
              <a:xfrm>
                <a:off x="6659280" y="620640"/>
                <a:ext cx="0" cy="33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1" name="Text Box 46"/>
            <p:cNvSpPr/>
            <p:nvPr/>
          </p:nvSpPr>
          <p:spPr>
            <a:xfrm>
              <a:off x="5761440" y="3333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7595640" y="333360"/>
            <a:ext cx="1224000" cy="624960"/>
            <a:chOff x="7595640" y="333360"/>
            <a:chExt cx="1224000" cy="624960"/>
          </a:xfrm>
        </p:grpSpPr>
        <p:grpSp>
          <p:nvGrpSpPr>
            <p:cNvPr id="1303" name=""/>
            <p:cNvGrpSpPr/>
            <p:nvPr/>
          </p:nvGrpSpPr>
          <p:grpSpPr>
            <a:xfrm>
              <a:off x="7595640" y="620640"/>
              <a:ext cx="1224000" cy="337680"/>
              <a:chOff x="7595640" y="620640"/>
              <a:chExt cx="1224000" cy="337680"/>
            </a:xfrm>
          </p:grpSpPr>
          <p:cxnSp>
            <p:nvCxnSpPr>
              <p:cNvPr id="1304" name="AutoShape 50"/>
              <p:cNvCxnSpPr/>
              <p:nvPr/>
            </p:nvCxnSpPr>
            <p:spPr>
              <a:xfrm flipH="1">
                <a:off x="7595640" y="789840"/>
                <a:ext cx="121932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305" name="Line 51"/>
              <p:cNvSpPr/>
              <p:nvPr/>
            </p:nvSpPr>
            <p:spPr>
              <a:xfrm>
                <a:off x="7596360" y="704160"/>
                <a:ext cx="0" cy="169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Line 52"/>
              <p:cNvSpPr/>
              <p:nvPr/>
            </p:nvSpPr>
            <p:spPr>
              <a:xfrm>
                <a:off x="7596360" y="620640"/>
                <a:ext cx="0" cy="33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53"/>
              <p:cNvSpPr/>
              <p:nvPr/>
            </p:nvSpPr>
            <p:spPr>
              <a:xfrm>
                <a:off x="8819640" y="620640"/>
                <a:ext cx="0" cy="33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Text Box 54"/>
            <p:cNvSpPr/>
            <p:nvPr/>
          </p:nvSpPr>
          <p:spPr>
            <a:xfrm>
              <a:off x="7922160" y="3333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5940720" y="3636360"/>
            <a:ext cx="631440" cy="1188000"/>
            <a:chOff x="5940720" y="3636360"/>
            <a:chExt cx="631440" cy="1188000"/>
          </a:xfrm>
        </p:grpSpPr>
        <p:grpSp>
          <p:nvGrpSpPr>
            <p:cNvPr id="1310" name=""/>
            <p:cNvGrpSpPr/>
            <p:nvPr/>
          </p:nvGrpSpPr>
          <p:grpSpPr>
            <a:xfrm>
              <a:off x="5940720" y="3636360"/>
              <a:ext cx="323640" cy="1188000"/>
              <a:chOff x="5940720" y="3636360"/>
              <a:chExt cx="323640" cy="1188000"/>
            </a:xfrm>
          </p:grpSpPr>
          <p:cxnSp>
            <p:nvCxnSpPr>
              <p:cNvPr id="1311" name="AutoShape 57"/>
              <p:cNvCxnSpPr/>
              <p:nvPr/>
            </p:nvCxnSpPr>
            <p:spPr>
              <a:xfrm flipH="1" flipV="1">
                <a:off x="6101280" y="3636360"/>
                <a:ext cx="1080" cy="11833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312" name="Line 58"/>
              <p:cNvSpPr/>
              <p:nvPr/>
            </p:nvSpPr>
            <p:spPr>
              <a:xfrm flipH="1">
                <a:off x="6021000" y="3637080"/>
                <a:ext cx="163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Line 59"/>
              <p:cNvSpPr/>
              <p:nvPr/>
            </p:nvSpPr>
            <p:spPr>
              <a:xfrm flipH="1">
                <a:off x="5940720" y="3637080"/>
                <a:ext cx="3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Line 60"/>
              <p:cNvSpPr/>
              <p:nvPr/>
            </p:nvSpPr>
            <p:spPr>
              <a:xfrm flipH="1">
                <a:off x="5940720" y="4824360"/>
                <a:ext cx="3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5" name="Rectangle 61"/>
            <p:cNvSpPr/>
            <p:nvPr/>
          </p:nvSpPr>
          <p:spPr>
            <a:xfrm>
              <a:off x="6148440" y="4008600"/>
              <a:ext cx="423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8243640" y="5445000"/>
            <a:ext cx="576000" cy="430200"/>
            <a:chOff x="8243640" y="5445000"/>
            <a:chExt cx="576000" cy="430200"/>
          </a:xfrm>
        </p:grpSpPr>
        <p:grpSp>
          <p:nvGrpSpPr>
            <p:cNvPr id="1317" name=""/>
            <p:cNvGrpSpPr/>
            <p:nvPr/>
          </p:nvGrpSpPr>
          <p:grpSpPr>
            <a:xfrm>
              <a:off x="8243640" y="5587920"/>
              <a:ext cx="576000" cy="287280"/>
              <a:chOff x="8243640" y="5587920"/>
              <a:chExt cx="576000" cy="287280"/>
            </a:xfrm>
          </p:grpSpPr>
          <p:cxnSp>
            <p:nvCxnSpPr>
              <p:cNvPr id="1318" name="AutoShape 64"/>
              <p:cNvCxnSpPr/>
              <p:nvPr/>
            </p:nvCxnSpPr>
            <p:spPr>
              <a:xfrm flipH="1">
                <a:off x="8243640" y="5731920"/>
                <a:ext cx="5738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319" name="Line 65"/>
              <p:cNvSpPr/>
              <p:nvPr/>
            </p:nvSpPr>
            <p:spPr>
              <a:xfrm>
                <a:off x="8244000" y="5659200"/>
                <a:ext cx="0" cy="144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6"/>
              <p:cNvSpPr/>
              <p:nvPr/>
            </p:nvSpPr>
            <p:spPr>
              <a:xfrm>
                <a:off x="8244000" y="55879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Line 67"/>
              <p:cNvSpPr/>
              <p:nvPr/>
            </p:nvSpPr>
            <p:spPr>
              <a:xfrm>
                <a:off x="8819640" y="55879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2" name="Text Box 68"/>
            <p:cNvSpPr/>
            <p:nvPr/>
          </p:nvSpPr>
          <p:spPr>
            <a:xfrm>
              <a:off x="8380080" y="544500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6112800" y="847800"/>
            <a:ext cx="1019160" cy="1872360"/>
            <a:chOff x="6112800" y="847800"/>
            <a:chExt cx="1019160" cy="1872360"/>
          </a:xfrm>
        </p:grpSpPr>
        <p:grpSp>
          <p:nvGrpSpPr>
            <p:cNvPr id="1324" name=""/>
            <p:cNvGrpSpPr/>
            <p:nvPr/>
          </p:nvGrpSpPr>
          <p:grpSpPr>
            <a:xfrm>
              <a:off x="6112800" y="847800"/>
              <a:ext cx="1019160" cy="1872360"/>
              <a:chOff x="6112800" y="847800"/>
              <a:chExt cx="1019160" cy="1872360"/>
            </a:xfrm>
          </p:grpSpPr>
          <p:cxnSp>
            <p:nvCxnSpPr>
              <p:cNvPr id="1325" name="AutoShape 78"/>
              <p:cNvCxnSpPr/>
              <p:nvPr/>
            </p:nvCxnSpPr>
            <p:spPr>
              <a:xfrm flipH="1" flipV="1">
                <a:off x="6277320" y="912960"/>
                <a:ext cx="685800" cy="17352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326" name="Line 79"/>
              <p:cNvSpPr/>
              <p:nvPr/>
            </p:nvSpPr>
            <p:spPr>
              <a:xfrm flipH="1">
                <a:off x="6194880" y="880200"/>
                <a:ext cx="167400" cy="65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Line 80"/>
              <p:cNvSpPr/>
              <p:nvPr/>
            </p:nvSpPr>
            <p:spPr>
              <a:xfrm flipH="1">
                <a:off x="6112800" y="847800"/>
                <a:ext cx="33156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Line 81"/>
              <p:cNvSpPr/>
              <p:nvPr/>
            </p:nvSpPr>
            <p:spPr>
              <a:xfrm flipH="1">
                <a:off x="6800040" y="2589120"/>
                <a:ext cx="3319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9" name="Text Box 82"/>
            <p:cNvSpPr/>
            <p:nvPr/>
          </p:nvSpPr>
          <p:spPr>
            <a:xfrm rot="20307600">
              <a:off x="6462720" y="1414800"/>
              <a:ext cx="19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8201880" y="836640"/>
            <a:ext cx="1019160" cy="1872360"/>
            <a:chOff x="8201880" y="836640"/>
            <a:chExt cx="1019160" cy="1872360"/>
          </a:xfrm>
        </p:grpSpPr>
        <p:grpSp>
          <p:nvGrpSpPr>
            <p:cNvPr id="1331" name=""/>
            <p:cNvGrpSpPr/>
            <p:nvPr/>
          </p:nvGrpSpPr>
          <p:grpSpPr>
            <a:xfrm>
              <a:off x="8201880" y="836640"/>
              <a:ext cx="1019160" cy="1872360"/>
              <a:chOff x="8201880" y="836640"/>
              <a:chExt cx="1019160" cy="1872360"/>
            </a:xfrm>
          </p:grpSpPr>
          <p:cxnSp>
            <p:nvCxnSpPr>
              <p:cNvPr id="1332" name="AutoShape 85"/>
              <p:cNvCxnSpPr/>
              <p:nvPr/>
            </p:nvCxnSpPr>
            <p:spPr>
              <a:xfrm flipH="1" flipV="1">
                <a:off x="8366400" y="901800"/>
                <a:ext cx="685800" cy="17352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333" name="Line 86"/>
              <p:cNvSpPr/>
              <p:nvPr/>
            </p:nvSpPr>
            <p:spPr>
              <a:xfrm flipH="1">
                <a:off x="8283960" y="869040"/>
                <a:ext cx="167400" cy="65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87"/>
              <p:cNvSpPr/>
              <p:nvPr/>
            </p:nvSpPr>
            <p:spPr>
              <a:xfrm flipH="1">
                <a:off x="8201880" y="836640"/>
                <a:ext cx="33156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Line 88"/>
              <p:cNvSpPr/>
              <p:nvPr/>
            </p:nvSpPr>
            <p:spPr>
              <a:xfrm flipH="1">
                <a:off x="8889120" y="2577960"/>
                <a:ext cx="33192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6" name="Text Box 89"/>
            <p:cNvSpPr/>
            <p:nvPr/>
          </p:nvSpPr>
          <p:spPr>
            <a:xfrm rot="20307600">
              <a:off x="8551800" y="1403640"/>
              <a:ext cx="19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8274960" y="3673800"/>
            <a:ext cx="964800" cy="1967400"/>
            <a:chOff x="8274960" y="3673800"/>
            <a:chExt cx="964800" cy="1967400"/>
          </a:xfrm>
        </p:grpSpPr>
        <p:grpSp>
          <p:nvGrpSpPr>
            <p:cNvPr id="1338" name=""/>
            <p:cNvGrpSpPr/>
            <p:nvPr/>
          </p:nvGrpSpPr>
          <p:grpSpPr>
            <a:xfrm>
              <a:off x="8274960" y="3673800"/>
              <a:ext cx="964800" cy="1967400"/>
              <a:chOff x="8274960" y="3673800"/>
              <a:chExt cx="964800" cy="1967400"/>
            </a:xfrm>
          </p:grpSpPr>
          <p:cxnSp>
            <p:nvCxnSpPr>
              <p:cNvPr id="1339" name="AutoShape 92"/>
              <p:cNvCxnSpPr/>
              <p:nvPr/>
            </p:nvCxnSpPr>
            <p:spPr>
              <a:xfrm flipH="1" flipV="1">
                <a:off x="8450640" y="3732120"/>
                <a:ext cx="609840" cy="18439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340" name="Line 93"/>
              <p:cNvSpPr/>
              <p:nvPr/>
            </p:nvSpPr>
            <p:spPr>
              <a:xfrm flipH="1">
                <a:off x="8363160" y="3702600"/>
                <a:ext cx="178200" cy="590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Line 94"/>
              <p:cNvSpPr/>
              <p:nvPr/>
            </p:nvSpPr>
            <p:spPr>
              <a:xfrm flipH="1">
                <a:off x="8274960" y="3673800"/>
                <a:ext cx="35388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95"/>
              <p:cNvSpPr/>
              <p:nvPr/>
            </p:nvSpPr>
            <p:spPr>
              <a:xfrm flipH="1">
                <a:off x="8885880" y="5524200"/>
                <a:ext cx="35388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3" name="Text Box 96"/>
            <p:cNvSpPr/>
            <p:nvPr/>
          </p:nvSpPr>
          <p:spPr>
            <a:xfrm rot="20503800">
              <a:off x="8589600" y="4264920"/>
              <a:ext cx="2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6078600" y="4235400"/>
            <a:ext cx="68040" cy="6840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6954" y="11763"/>
                </a:moveTo>
                <a:cubicBezTo>
                  <a:pt x="16954" y="11799"/>
                  <a:pt x="16969" y="11830"/>
                  <a:pt x="16931" y="11835"/>
                </a:cubicBezTo>
                <a:cubicBezTo>
                  <a:pt x="16885" y="11841"/>
                  <a:pt x="16910" y="11855"/>
                  <a:pt x="16931" y="11882"/>
                </a:cubicBezTo>
                <a:cubicBezTo>
                  <a:pt x="16968" y="11833"/>
                  <a:pt x="16950" y="11844"/>
                  <a:pt x="16907" y="11811"/>
                </a:cubicBezTo>
                <a:cubicBezTo>
                  <a:pt x="16907" y="11850"/>
                  <a:pt x="16898" y="11900"/>
                  <a:pt x="16931" y="11930"/>
                </a:cubicBezTo>
                <a:cubicBezTo>
                  <a:pt x="16954" y="11930"/>
                  <a:pt x="16962" y="11930"/>
                  <a:pt x="16978" y="11930"/>
                </a:cubicBezTo>
                <a:cubicBezTo>
                  <a:pt x="17030" y="11913"/>
                  <a:pt x="16985" y="11890"/>
                  <a:pt x="16954" y="11859"/>
                </a:cubicBezTo>
                <a:cubicBezTo>
                  <a:pt x="16919" y="11823"/>
                  <a:pt x="16936" y="11800"/>
                  <a:pt x="16883" y="11787"/>
                </a:cubicBezTo>
                <a:cubicBezTo>
                  <a:pt x="16883" y="11829"/>
                  <a:pt x="16865" y="11901"/>
                  <a:pt x="16907" y="11906"/>
                </a:cubicBezTo>
                <a:cubicBezTo>
                  <a:pt x="16915" y="11906"/>
                  <a:pt x="16923" y="11906"/>
                  <a:pt x="16931" y="11906"/>
                </a:cubicBezTo>
              </a:path>
              <a:path w="192" h="192">
                <a:moveTo>
                  <a:pt x="16978" y="11787"/>
                </a:moveTo>
                <a:cubicBezTo>
                  <a:pt x="16986" y="11787"/>
                  <a:pt x="16994" y="11787"/>
                  <a:pt x="17002" y="11787"/>
                </a:cubicBezTo>
                <a:cubicBezTo>
                  <a:pt x="17012" y="11818"/>
                  <a:pt x="17035" y="11825"/>
                  <a:pt x="17074" y="11835"/>
                </a:cubicBezTo>
                <a:cubicBezTo>
                  <a:pt x="17064" y="11874"/>
                  <a:pt x="17065" y="11873"/>
                  <a:pt x="17026" y="11882"/>
                </a:cubicBezTo>
                <a:cubicBezTo>
                  <a:pt x="17013" y="11920"/>
                  <a:pt x="17015" y="11892"/>
                  <a:pt x="17002" y="11930"/>
                </a:cubicBezTo>
                <a:cubicBezTo>
                  <a:pt x="16962" y="11930"/>
                  <a:pt x="16923" y="11930"/>
                  <a:pt x="16883" y="11930"/>
                </a:cubicBezTo>
              </a:path>
              <a:path w="192" h="192">
                <a:moveTo>
                  <a:pt x="17050" y="11835"/>
                </a:moveTo>
                <a:cubicBezTo>
                  <a:pt x="17042" y="11843"/>
                  <a:pt x="17034" y="11851"/>
                  <a:pt x="17026" y="11859"/>
                </a:cubicBezTo>
              </a:path>
              <a:path w="192" h="192">
                <a:moveTo>
                  <a:pt x="16978" y="11835"/>
                </a:moveTo>
                <a:cubicBezTo>
                  <a:pt x="16970" y="11835"/>
                  <a:pt x="16962" y="11835"/>
                  <a:pt x="16954" y="11835"/>
                </a:cubicBezTo>
              </a:path>
              <a:path w="192" h="192">
                <a:moveTo>
                  <a:pt x="16883" y="11859"/>
                </a:moveTo>
                <a:cubicBezTo>
                  <a:pt x="16891" y="11859"/>
                  <a:pt x="16899" y="11859"/>
                  <a:pt x="16907" y="11859"/>
                </a:cubicBezTo>
              </a:path>
              <a:path w="192" h="192">
                <a:moveTo>
                  <a:pt x="16954" y="11954"/>
                </a:moveTo>
                <a:lnTo>
                  <a:pt x="16954" y="1195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0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9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8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6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1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1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4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1735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38" dur="1" fill="hold"/>
                                        <p:tgtEl>
                                          <p:spTgt spid="1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Picture 50" descr="图片1"/>
          <p:cNvPicPr/>
          <p:nvPr/>
        </p:nvPicPr>
        <p:blipFill>
          <a:blip r:embed="rId1"/>
          <a:srcRect l="31421" t="14298" r="31145" b="14143"/>
          <a:stretch/>
        </p:blipFill>
        <p:spPr>
          <a:xfrm>
            <a:off x="7524720" y="3213000"/>
            <a:ext cx="1368360" cy="1800360"/>
          </a:xfrm>
          <a:prstGeom prst="rect">
            <a:avLst/>
          </a:prstGeom>
          <a:ln w="0">
            <a:noFill/>
          </a:ln>
        </p:spPr>
      </p:pic>
      <p:sp>
        <p:nvSpPr>
          <p:cNvPr id="1346" name="Text Box 6"/>
          <p:cNvSpPr/>
          <p:nvPr/>
        </p:nvSpPr>
        <p:spPr>
          <a:xfrm>
            <a:off x="250920" y="189000"/>
            <a:ext cx="495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棱柱的三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11"/>
          <p:cNvSpPr/>
          <p:nvPr/>
        </p:nvSpPr>
        <p:spPr>
          <a:xfrm flipH="1" flipV="1">
            <a:off x="8172000" y="4437000"/>
            <a:ext cx="576360" cy="1152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24"/>
          <p:cNvSpPr/>
          <p:nvPr/>
        </p:nvSpPr>
        <p:spPr>
          <a:xfrm>
            <a:off x="5148360" y="45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俯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7740720" y="620280"/>
            <a:ext cx="863640" cy="1506960"/>
            <a:chOff x="7740720" y="620280"/>
            <a:chExt cx="863640" cy="1506960"/>
          </a:xfrm>
        </p:grpSpPr>
        <p:sp>
          <p:nvSpPr>
            <p:cNvPr id="1350" name="Line 17"/>
            <p:cNvSpPr/>
            <p:nvPr/>
          </p:nvSpPr>
          <p:spPr>
            <a:xfrm>
              <a:off x="7740720" y="62064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18"/>
            <p:cNvSpPr/>
            <p:nvPr/>
          </p:nvSpPr>
          <p:spPr>
            <a:xfrm>
              <a:off x="7740720" y="620640"/>
              <a:ext cx="1080" cy="150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19"/>
            <p:cNvSpPr/>
            <p:nvPr/>
          </p:nvSpPr>
          <p:spPr>
            <a:xfrm>
              <a:off x="7740720" y="212724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20"/>
            <p:cNvSpPr/>
            <p:nvPr/>
          </p:nvSpPr>
          <p:spPr>
            <a:xfrm flipV="1">
              <a:off x="8604360" y="620280"/>
              <a:ext cx="0" cy="150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4" name="Text Box 23"/>
          <p:cNvSpPr/>
          <p:nvPr/>
        </p:nvSpPr>
        <p:spPr>
          <a:xfrm>
            <a:off x="7380360" y="234936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左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5219280" y="3573360"/>
            <a:ext cx="1219680" cy="793800"/>
            <a:chOff x="5219280" y="3573360"/>
            <a:chExt cx="1219680" cy="793800"/>
          </a:xfrm>
        </p:grpSpPr>
        <p:sp>
          <p:nvSpPr>
            <p:cNvPr id="1356" name="Line 29"/>
            <p:cNvSpPr/>
            <p:nvPr/>
          </p:nvSpPr>
          <p:spPr>
            <a:xfrm flipH="1">
              <a:off x="5219280" y="3573360"/>
              <a:ext cx="289080" cy="79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30"/>
            <p:cNvSpPr/>
            <p:nvPr/>
          </p:nvSpPr>
          <p:spPr>
            <a:xfrm>
              <a:off x="5508720" y="3573360"/>
              <a:ext cx="930240" cy="79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31"/>
            <p:cNvSpPr/>
            <p:nvPr/>
          </p:nvSpPr>
          <p:spPr>
            <a:xfrm flipH="1">
              <a:off x="5219280" y="436716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Text Box 22"/>
          <p:cNvSpPr/>
          <p:nvPr/>
        </p:nvSpPr>
        <p:spPr>
          <a:xfrm>
            <a:off x="5076720" y="2349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5330880" y="620280"/>
            <a:ext cx="1066680" cy="1513080"/>
            <a:chOff x="5330880" y="620280"/>
            <a:chExt cx="1066680" cy="1513080"/>
          </a:xfrm>
        </p:grpSpPr>
        <p:sp>
          <p:nvSpPr>
            <p:cNvPr id="1361" name="Line 13"/>
            <p:cNvSpPr/>
            <p:nvPr/>
          </p:nvSpPr>
          <p:spPr>
            <a:xfrm>
              <a:off x="5330880" y="62064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Line 14"/>
            <p:cNvSpPr/>
            <p:nvPr/>
          </p:nvSpPr>
          <p:spPr>
            <a:xfrm>
              <a:off x="5330880" y="620640"/>
              <a:ext cx="0" cy="150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15"/>
            <p:cNvSpPr/>
            <p:nvPr/>
          </p:nvSpPr>
          <p:spPr>
            <a:xfrm flipV="1">
              <a:off x="5330880" y="2126880"/>
              <a:ext cx="106668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16"/>
            <p:cNvSpPr/>
            <p:nvPr/>
          </p:nvSpPr>
          <p:spPr>
            <a:xfrm flipV="1">
              <a:off x="6397560" y="620280"/>
              <a:ext cx="0" cy="150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Line 43"/>
            <p:cNvSpPr/>
            <p:nvPr/>
          </p:nvSpPr>
          <p:spPr>
            <a:xfrm>
              <a:off x="5724720" y="620640"/>
              <a:ext cx="0" cy="151272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6" name="三棱柱新.avi" descr=""/>
          <p:cNvPicPr/>
          <p:nvPr/>
        </p:nvPicPr>
        <p:blipFill>
          <a:blip r:embed="rId2"/>
          <a:stretch/>
        </p:blipFill>
        <p:spPr>
          <a:xfrm>
            <a:off x="612720" y="907920"/>
            <a:ext cx="4021200" cy="3016440"/>
          </a:xfrm>
          <a:prstGeom prst="rect">
            <a:avLst/>
          </a:prstGeom>
          <a:ln w="0">
            <a:noFill/>
          </a:ln>
        </p:spPr>
      </p:pic>
      <p:sp>
        <p:nvSpPr>
          <p:cNvPr id="1367" name="Line 51"/>
          <p:cNvSpPr/>
          <p:nvPr/>
        </p:nvSpPr>
        <p:spPr>
          <a:xfrm>
            <a:off x="7956720" y="3284640"/>
            <a:ext cx="0" cy="1368360"/>
          </a:xfrm>
          <a:prstGeom prst="line">
            <a:avLst/>
          </a:prstGeom>
          <a:ln w="9360">
            <a:solidFill>
              <a:srgbClr val="3333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52"/>
          <p:cNvSpPr/>
          <p:nvPr/>
        </p:nvSpPr>
        <p:spPr>
          <a:xfrm flipH="1">
            <a:off x="7667640" y="4653000"/>
            <a:ext cx="287280" cy="288720"/>
          </a:xfrm>
          <a:prstGeom prst="line">
            <a:avLst/>
          </a:prstGeom>
          <a:ln w="9360">
            <a:solidFill>
              <a:srgbClr val="3333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53"/>
          <p:cNvSpPr/>
          <p:nvPr/>
        </p:nvSpPr>
        <p:spPr>
          <a:xfrm>
            <a:off x="7956720" y="4653000"/>
            <a:ext cx="718920" cy="288720"/>
          </a:xfrm>
          <a:prstGeom prst="line">
            <a:avLst/>
          </a:prstGeom>
          <a:ln w="9360">
            <a:solidFill>
              <a:srgbClr val="3333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85800" y="51055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作图时能看见的轮廓线和棱用实线表示，不能看见的用虚线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5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8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3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6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1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6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5" restart="whenNotActive" nodeType="interactiveSeq" fill="hold">
                <p:stCondLst>
                  <p:cond evt="onClick">
                    <p:tgtEl>
                      <p:spTgt spid="1366"/>
                    </p:tgtEl>
                  </p:cond>
                </p:stCondLst>
                <p:childTnLst>
                  <p:par>
                    <p:cTn id="1786" fill="hold">
                      <p:stCondLst>
                        <p:cond evt="onClick">
                          <p:tgtEl>
                            <p:spTgt spid="1366"/>
                          </p:tgtEl>
                        </p:cond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9" dur="1" fill="hold"/>
                                        <p:tgtEl>
                                          <p:spTgt spid="1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0" y="69228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判断下列三视图的画法是否正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684360" y="1628640"/>
            <a:ext cx="2820960" cy="3915720"/>
            <a:chOff x="684360" y="1628640"/>
            <a:chExt cx="2820960" cy="3915720"/>
          </a:xfrm>
        </p:grpSpPr>
        <p:grpSp>
          <p:nvGrpSpPr>
            <p:cNvPr id="1373" name=""/>
            <p:cNvGrpSpPr/>
            <p:nvPr/>
          </p:nvGrpSpPr>
          <p:grpSpPr>
            <a:xfrm>
              <a:off x="684360" y="1628640"/>
              <a:ext cx="2820960" cy="3276720"/>
              <a:chOff x="684360" y="1628640"/>
              <a:chExt cx="2820960" cy="3276720"/>
            </a:xfrm>
          </p:grpSpPr>
          <p:sp>
            <p:nvSpPr>
              <p:cNvPr id="1374" name=""/>
              <p:cNvSpPr/>
              <p:nvPr/>
            </p:nvSpPr>
            <p:spPr>
              <a:xfrm>
                <a:off x="2266920" y="1628640"/>
                <a:ext cx="1238400" cy="1689120"/>
              </a:xfrm>
              <a:prstGeom prst="rect">
                <a:avLst/>
              </a:prstGeom>
              <a:noFill/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84360" y="1628640"/>
                <a:ext cx="1219320" cy="1689120"/>
              </a:xfrm>
              <a:prstGeom prst="rect">
                <a:avLst/>
              </a:prstGeom>
              <a:noFill/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258920" y="3717720"/>
                <a:ext cx="1219320" cy="1187640"/>
              </a:xfrm>
              <a:prstGeom prst="rect">
                <a:avLst/>
              </a:prstGeom>
              <a:noFill/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7" name=""/>
            <p:cNvSpPr/>
            <p:nvPr/>
          </p:nvSpPr>
          <p:spPr>
            <a:xfrm>
              <a:off x="1332000" y="5084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（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4500720" y="1773360"/>
            <a:ext cx="3614760" cy="3699720"/>
            <a:chOff x="4500720" y="1773360"/>
            <a:chExt cx="3614760" cy="3699720"/>
          </a:xfrm>
        </p:grpSpPr>
        <p:sp>
          <p:nvSpPr>
            <p:cNvPr id="1379" name=""/>
            <p:cNvSpPr/>
            <p:nvPr/>
          </p:nvSpPr>
          <p:spPr>
            <a:xfrm>
              <a:off x="6877080" y="1773360"/>
              <a:ext cx="1238400" cy="1689120"/>
            </a:xfrm>
            <a:prstGeom prst="rect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324760" y="1778040"/>
              <a:ext cx="1218960" cy="1689120"/>
            </a:xfrm>
            <a:prstGeom prst="rect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500720" y="3716640"/>
              <a:ext cx="1219320" cy="1187280"/>
            </a:xfrm>
            <a:prstGeom prst="rect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940720" y="501336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（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324000" y="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练习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8214480" y="1989000"/>
            <a:ext cx="789840" cy="31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长未对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464840" y="533556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6289560" y="51912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7" name=""/>
          <p:cNvGrpSpPr/>
          <p:nvPr/>
        </p:nvGrpSpPr>
        <p:grpSpPr>
          <a:xfrm>
            <a:off x="395280" y="333360"/>
            <a:ext cx="2749680" cy="3911040"/>
            <a:chOff x="395280" y="333360"/>
            <a:chExt cx="2749680" cy="3911040"/>
          </a:xfrm>
        </p:grpSpPr>
        <p:sp>
          <p:nvSpPr>
            <p:cNvPr id="1388" name=""/>
            <p:cNvSpPr/>
            <p:nvPr/>
          </p:nvSpPr>
          <p:spPr>
            <a:xfrm>
              <a:off x="1906560" y="1265400"/>
              <a:ext cx="1238400" cy="1688760"/>
            </a:xfrm>
            <a:prstGeom prst="rect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25520" y="333360"/>
              <a:ext cx="1218960" cy="1689120"/>
            </a:xfrm>
            <a:prstGeom prst="rect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95280" y="2489040"/>
              <a:ext cx="1219320" cy="1187640"/>
            </a:xfrm>
            <a:prstGeom prst="rect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38200" y="37846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99"/>
                  </a:solidFill>
                  <a:latin typeface="Arial"/>
                </a:rPr>
                <a:t>（</a:t>
              </a:r>
              <a:r>
                <a:rPr b="1" lang="zh-CN" sz="2400" spc="-1" strike="noStrike">
                  <a:solidFill>
                    <a:srgbClr val="009999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4500720" y="549360"/>
            <a:ext cx="3038400" cy="4707720"/>
            <a:chOff x="4500720" y="549360"/>
            <a:chExt cx="3038400" cy="4707720"/>
          </a:xfrm>
        </p:grpSpPr>
        <p:sp>
          <p:nvSpPr>
            <p:cNvPr id="1393" name=""/>
            <p:cNvSpPr/>
            <p:nvPr/>
          </p:nvSpPr>
          <p:spPr>
            <a:xfrm>
              <a:off x="4716720" y="479736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99"/>
                  </a:solidFill>
                  <a:latin typeface="Arial"/>
                </a:rPr>
                <a:t>（</a:t>
              </a:r>
              <a:r>
                <a:rPr b="1" lang="zh-CN" sz="2400" spc="-1" strike="noStrike">
                  <a:solidFill>
                    <a:srgbClr val="009999"/>
                  </a:solidFill>
                  <a:latin typeface="Arial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"/>
            <p:cNvGrpSpPr/>
            <p:nvPr/>
          </p:nvGrpSpPr>
          <p:grpSpPr>
            <a:xfrm>
              <a:off x="4500720" y="549360"/>
              <a:ext cx="3038400" cy="3995640"/>
              <a:chOff x="4500720" y="549360"/>
              <a:chExt cx="3038400" cy="3995640"/>
            </a:xfrm>
          </p:grpSpPr>
          <p:sp>
            <p:nvSpPr>
              <p:cNvPr id="1395" name=""/>
              <p:cNvSpPr/>
              <p:nvPr/>
            </p:nvSpPr>
            <p:spPr>
              <a:xfrm>
                <a:off x="6301080" y="549360"/>
                <a:ext cx="1238040" cy="1689120"/>
              </a:xfrm>
              <a:prstGeom prst="rect">
                <a:avLst/>
              </a:prstGeom>
              <a:noFill/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500720" y="1197000"/>
                <a:ext cx="1219320" cy="1689120"/>
              </a:xfrm>
              <a:prstGeom prst="rect">
                <a:avLst/>
              </a:prstGeom>
              <a:noFill/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500720" y="3357720"/>
                <a:ext cx="1219320" cy="1187280"/>
              </a:xfrm>
              <a:prstGeom prst="rect">
                <a:avLst/>
              </a:prstGeom>
              <a:noFill/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8" name=""/>
          <p:cNvSpPr/>
          <p:nvPr/>
        </p:nvSpPr>
        <p:spPr>
          <a:xfrm>
            <a:off x="8105040" y="145980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高未平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433920" y="483084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838160" y="48690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22" dur="indefinite" restart="never" nodeType="tmRoot">
          <p:childTnLst>
            <p:seq>
              <p:cTn id="1823" dur="indefinite" nodeType="mainSeq">
                <p:childTnLst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2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219320" y="76212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在生活中我们应从不同角度，多方面地去看待一件事物，分析一件事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43000" y="36576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数学中我们只从三个不同方向看同一物体，所以，每一个物体都有三视图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1" name=""/>
          <p:cNvGrpSpPr/>
          <p:nvPr/>
        </p:nvGrpSpPr>
        <p:grpSpPr>
          <a:xfrm>
            <a:off x="611280" y="620640"/>
            <a:ext cx="2229840" cy="4276080"/>
            <a:chOff x="611280" y="620640"/>
            <a:chExt cx="2229840" cy="4276080"/>
          </a:xfrm>
        </p:grpSpPr>
        <p:sp>
          <p:nvSpPr>
            <p:cNvPr id="1402" name=""/>
            <p:cNvSpPr/>
            <p:nvPr/>
          </p:nvSpPr>
          <p:spPr>
            <a:xfrm>
              <a:off x="2411280" y="620640"/>
              <a:ext cx="421920" cy="1689120"/>
            </a:xfrm>
            <a:prstGeom prst="rect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41160" y="625320"/>
              <a:ext cx="1218600" cy="1689120"/>
            </a:xfrm>
            <a:prstGeom prst="rect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11280" y="2997000"/>
              <a:ext cx="1218960" cy="1187640"/>
            </a:xfrm>
            <a:prstGeom prst="rect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185480" y="443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99"/>
                  </a:solidFill>
                  <a:latin typeface="Arial"/>
                </a:rPr>
                <a:t>（</a:t>
              </a:r>
              <a:r>
                <a:rPr b="1" lang="zh-CN" sz="2400" spc="-1" strike="noStrike">
                  <a:solidFill>
                    <a:srgbClr val="009999"/>
                  </a:solidFill>
                  <a:latin typeface="Arial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4067280" y="692280"/>
            <a:ext cx="3735360" cy="3483720"/>
            <a:chOff x="4067280" y="692280"/>
            <a:chExt cx="3735360" cy="3483720"/>
          </a:xfrm>
        </p:grpSpPr>
        <p:sp>
          <p:nvSpPr>
            <p:cNvPr id="1407" name=""/>
            <p:cNvSpPr/>
            <p:nvPr/>
          </p:nvSpPr>
          <p:spPr>
            <a:xfrm>
              <a:off x="6597720" y="696600"/>
              <a:ext cx="1204920" cy="1688760"/>
            </a:xfrm>
            <a:prstGeom prst="rect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067280" y="692280"/>
              <a:ext cx="1219320" cy="1688760"/>
            </a:xfrm>
            <a:prstGeom prst="rect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067280" y="2995560"/>
              <a:ext cx="1219320" cy="455040"/>
            </a:xfrm>
            <a:prstGeom prst="rect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435640" y="371628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99"/>
                  </a:solidFill>
                  <a:latin typeface="Arial"/>
                </a:rPr>
                <a:t>（</a:t>
              </a:r>
              <a:r>
                <a:rPr b="1" lang="zh-CN" sz="2400" spc="-1" strike="noStrike">
                  <a:solidFill>
                    <a:srgbClr val="009999"/>
                  </a:solidFill>
                  <a:latin typeface="Arial"/>
                </a:rPr>
                <a:t>6</a:t>
              </a:r>
              <a:r>
                <a:rPr b="1" lang="zh-CN" sz="2400" spc="-1" strike="noStrike">
                  <a:solidFill>
                    <a:srgbClr val="009999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7566840" y="1773360"/>
            <a:ext cx="13993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宽不相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319040" y="490392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073560" y="47592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1" dur="2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206280" y="368280"/>
            <a:ext cx="893772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小结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3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三视图的画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先画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主视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在主视图主下方画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俯视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注意与主视图“长对主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在主视图主右方画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左视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注意与主视图“高平齐”，与俯视图“宽相等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看得见部分的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轮廓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画成实线，而          看不见部分的轮廓线画成虚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5" name="ShockwaveFlash1"/>
          <p:cNvGraphicFramePr/>
          <p:nvPr/>
        </p:nvGraphicFramePr>
        <p:xfrm>
          <a:off x="1295280" y="1562040"/>
          <a:ext cx="4572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62040"/>
                    <a:ext cx="4572000" cy="434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7" name=""/>
          <p:cNvSpPr/>
          <p:nvPr/>
        </p:nvSpPr>
        <p:spPr>
          <a:xfrm>
            <a:off x="1200240" y="11430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出如图所示四棱锥的三视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8" name=""/>
          <p:cNvGraphicFramePr/>
          <p:nvPr/>
        </p:nvGraphicFramePr>
        <p:xfrm>
          <a:off x="6114960" y="457200"/>
          <a:ext cx="228600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457200"/>
                    <a:ext cx="22860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0" name=""/>
          <p:cNvGraphicFramePr/>
          <p:nvPr/>
        </p:nvGraphicFramePr>
        <p:xfrm>
          <a:off x="8229600" y="6373800"/>
          <a:ext cx="609480" cy="47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1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6373800"/>
                    <a:ext cx="6094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2" name=""/>
          <p:cNvSpPr/>
          <p:nvPr/>
        </p:nvSpPr>
        <p:spPr>
          <a:xfrm>
            <a:off x="734760" y="277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挑战自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3" name=""/>
          <p:cNvGrpSpPr/>
          <p:nvPr/>
        </p:nvGrpSpPr>
        <p:grpSpPr>
          <a:xfrm>
            <a:off x="285480" y="990720"/>
            <a:ext cx="2286360" cy="2438280"/>
            <a:chOff x="285480" y="990720"/>
            <a:chExt cx="2286360" cy="2438280"/>
          </a:xfrm>
        </p:grpSpPr>
        <p:grpSp>
          <p:nvGrpSpPr>
            <p:cNvPr id="1424" name=""/>
            <p:cNvGrpSpPr/>
            <p:nvPr/>
          </p:nvGrpSpPr>
          <p:grpSpPr>
            <a:xfrm>
              <a:off x="285480" y="990720"/>
              <a:ext cx="2286360" cy="2438280"/>
              <a:chOff x="285480" y="990720"/>
              <a:chExt cx="2286360" cy="2438280"/>
            </a:xfrm>
          </p:grpSpPr>
          <p:sp>
            <p:nvSpPr>
              <p:cNvPr id="1425" name=""/>
              <p:cNvSpPr/>
              <p:nvPr/>
            </p:nvSpPr>
            <p:spPr>
              <a:xfrm>
                <a:off x="1428840" y="990720"/>
                <a:ext cx="1143000" cy="243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6" name=""/>
              <p:cNvGrpSpPr/>
              <p:nvPr/>
            </p:nvGrpSpPr>
            <p:grpSpPr>
              <a:xfrm>
                <a:off x="285480" y="990720"/>
                <a:ext cx="1743480" cy="2438280"/>
                <a:chOff x="285480" y="990720"/>
                <a:chExt cx="1743480" cy="2438280"/>
              </a:xfrm>
            </p:grpSpPr>
            <p:sp>
              <p:nvSpPr>
                <p:cNvPr id="1427" name=""/>
                <p:cNvSpPr/>
                <p:nvPr/>
              </p:nvSpPr>
              <p:spPr>
                <a:xfrm flipH="1">
                  <a:off x="285480" y="990720"/>
                  <a:ext cx="1143000" cy="175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flipH="1">
                  <a:off x="819000" y="990720"/>
                  <a:ext cx="609480" cy="2438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1428840" y="990720"/>
                  <a:ext cx="600120" cy="1752480"/>
                </a:xfrm>
                <a:custGeom>
                  <a:avLst/>
                  <a:gdLst/>
                  <a:ahLst/>
                  <a:rect l="l" t="t" r="r" b="b"/>
                  <a:pathLst>
                    <a:path w="378" h="1104">
                      <a:moveTo>
                        <a:pt x="0" y="0"/>
                      </a:moveTo>
                      <a:lnTo>
                        <a:pt x="378" y="1104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0" name=""/>
            <p:cNvSpPr/>
            <p:nvPr/>
          </p:nvSpPr>
          <p:spPr>
            <a:xfrm>
              <a:off x="285840" y="274320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85840" y="2743200"/>
              <a:ext cx="5335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819360" y="34290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038680" y="2743200"/>
              <a:ext cx="533160" cy="68580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3029040" y="324000"/>
            <a:ext cx="1752480" cy="2974320"/>
            <a:chOff x="3029040" y="324000"/>
            <a:chExt cx="1752480" cy="2974320"/>
          </a:xfrm>
        </p:grpSpPr>
        <p:sp>
          <p:nvSpPr>
            <p:cNvPr id="1435" name=""/>
            <p:cNvSpPr/>
            <p:nvPr/>
          </p:nvSpPr>
          <p:spPr>
            <a:xfrm>
              <a:off x="3029040" y="324000"/>
              <a:ext cx="1752480" cy="22860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181320" y="2838600"/>
              <a:ext cx="1371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主 视 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6076800" y="324000"/>
            <a:ext cx="1828800" cy="2974320"/>
            <a:chOff x="6076800" y="324000"/>
            <a:chExt cx="1828800" cy="2974320"/>
          </a:xfrm>
        </p:grpSpPr>
        <p:sp>
          <p:nvSpPr>
            <p:cNvPr id="1438" name=""/>
            <p:cNvSpPr/>
            <p:nvPr/>
          </p:nvSpPr>
          <p:spPr>
            <a:xfrm>
              <a:off x="6076800" y="324000"/>
              <a:ext cx="1752480" cy="22860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381360" y="2838600"/>
              <a:ext cx="1524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左 视 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3029040" y="3676680"/>
            <a:ext cx="1904760" cy="2669400"/>
            <a:chOff x="3029040" y="3676680"/>
            <a:chExt cx="1904760" cy="2669400"/>
          </a:xfrm>
        </p:grpSpPr>
        <p:grpSp>
          <p:nvGrpSpPr>
            <p:cNvPr id="1441" name=""/>
            <p:cNvGrpSpPr/>
            <p:nvPr/>
          </p:nvGrpSpPr>
          <p:grpSpPr>
            <a:xfrm>
              <a:off x="3029040" y="3676680"/>
              <a:ext cx="1752480" cy="1828800"/>
              <a:chOff x="3029040" y="3676680"/>
              <a:chExt cx="1752480" cy="1828800"/>
            </a:xfrm>
          </p:grpSpPr>
          <p:sp>
            <p:nvSpPr>
              <p:cNvPr id="1442" name=""/>
              <p:cNvSpPr/>
              <p:nvPr/>
            </p:nvSpPr>
            <p:spPr>
              <a:xfrm>
                <a:off x="3029040" y="3676680"/>
                <a:ext cx="1752480" cy="1828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3" name=""/>
              <p:cNvGrpSpPr/>
              <p:nvPr/>
            </p:nvGrpSpPr>
            <p:grpSpPr>
              <a:xfrm>
                <a:off x="3029040" y="3676680"/>
                <a:ext cx="1752480" cy="1828800"/>
                <a:chOff x="3029040" y="3676680"/>
                <a:chExt cx="1752480" cy="182880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3029040" y="3676680"/>
                  <a:ext cx="1752480" cy="182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 flipH="1">
                  <a:off x="3029040" y="3676680"/>
                  <a:ext cx="1752480" cy="182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46" name=""/>
            <p:cNvSpPr/>
            <p:nvPr/>
          </p:nvSpPr>
          <p:spPr>
            <a:xfrm>
              <a:off x="3029040" y="5886360"/>
              <a:ext cx="1904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俯 视 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2" dur="indefinite" restart="never" nodeType="tmRoot">
          <p:childTnLst>
            <p:seq>
              <p:cTn id="1873" dur="indefinite" nodeType="mainSeq">
                <p:childTnLst>
                  <p:par>
                    <p:cTn id="1874" fill="hold">
                      <p:stCondLst>
                        <p:cond delay="0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78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/>
          <p:nvPr/>
        </p:nvSpPr>
        <p:spPr>
          <a:xfrm>
            <a:off x="784080" y="2708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在主视图主右方画出左视图，注意与主视图“高平齐”，与俯视图“宽相等”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1"/>
          <a:stretch/>
        </p:blipFill>
        <p:spPr>
          <a:xfrm>
            <a:off x="684360" y="3714840"/>
            <a:ext cx="7704000" cy="288288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324000" y="18900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画出图所示一些基本几何体的三视图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68360" y="765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析：画这些基本几何体的三视图时，要注意从三个方面观察它们，具体画法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55640" y="174312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确定主视图的位置，画出主视图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84080" y="224784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在主视图主下方画出俯视图，注意与主视图“长对主”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93" dur="indefinite" restart="never" nodeType="tmRoot">
          <p:childTnLst>
            <p:seq>
              <p:cTn id="1894" dur="indefinite" nodeType="mainSeq">
                <p:childTnLst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500"/>
                            </p:stCondLst>
                            <p:childTnLst>
                              <p:par>
                                <p:cTn id="19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7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8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3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8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" descr=""/>
          <p:cNvPicPr/>
          <p:nvPr/>
        </p:nvPicPr>
        <p:blipFill>
          <a:blip r:embed="rId2"/>
          <a:srcRect l="0" t="0" r="76525" b="0"/>
          <a:stretch/>
        </p:blipFill>
        <p:spPr>
          <a:xfrm>
            <a:off x="1619280" y="614520"/>
            <a:ext cx="1657440" cy="2743200"/>
          </a:xfrm>
          <a:prstGeom prst="rect">
            <a:avLst/>
          </a:prstGeom>
          <a:ln w="0">
            <a:noFill/>
          </a:ln>
        </p:spPr>
      </p:pic>
      <p:sp>
        <p:nvSpPr>
          <p:cNvPr id="1454" name=""/>
          <p:cNvSpPr/>
          <p:nvPr/>
        </p:nvSpPr>
        <p:spPr>
          <a:xfrm>
            <a:off x="250920" y="3933720"/>
            <a:ext cx="50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971640" y="352116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900000" y="490860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556000" y="3591000"/>
            <a:ext cx="2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547640" y="3573360"/>
            <a:ext cx="64800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060720" y="3571920"/>
            <a:ext cx="6476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547640" y="5013360"/>
            <a:ext cx="720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4788000" y="4076640"/>
            <a:ext cx="50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棱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508720" y="366408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437080" y="505152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7093080" y="3735360"/>
            <a:ext cx="2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7597800" y="3716280"/>
            <a:ext cx="6476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6084720" y="3716280"/>
            <a:ext cx="647640" cy="1081080"/>
            <a:chOff x="6084720" y="3716280"/>
            <a:chExt cx="647640" cy="1081080"/>
          </a:xfrm>
        </p:grpSpPr>
        <p:sp>
          <p:nvSpPr>
            <p:cNvPr id="1467" name=""/>
            <p:cNvSpPr/>
            <p:nvPr/>
          </p:nvSpPr>
          <p:spPr>
            <a:xfrm>
              <a:off x="6084720" y="3716280"/>
              <a:ext cx="64764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未知"/>
            <p:cNvSpPr/>
            <p:nvPr/>
          </p:nvSpPr>
          <p:spPr>
            <a:xfrm>
              <a:off x="6414840" y="3720960"/>
              <a:ext cx="4680" cy="1076400"/>
            </a:xfrm>
            <a:custGeom>
              <a:avLst/>
              <a:gdLst/>
              <a:ahLst/>
              <a:rect l="l" t="t" r="r" b="b"/>
              <a:pathLst>
                <a:path w="3" h="678">
                  <a:moveTo>
                    <a:pt x="3" y="0"/>
                  </a:moveTo>
                  <a:lnTo>
                    <a:pt x="0" y="6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"/>
          <p:cNvSpPr/>
          <p:nvPr/>
        </p:nvSpPr>
        <p:spPr>
          <a:xfrm rot="10800000">
            <a:off x="6083280" y="5254200"/>
            <a:ext cx="720720" cy="622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0" name="" descr=""/>
          <p:cNvPicPr/>
          <p:nvPr/>
        </p:nvPicPr>
        <p:blipFill>
          <a:blip r:embed="rId3"/>
          <a:srcRect l="25511" t="0" r="54087" b="0"/>
          <a:stretch/>
        </p:blipFill>
        <p:spPr>
          <a:xfrm>
            <a:off x="5867280" y="765000"/>
            <a:ext cx="144000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0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5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0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5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" descr=""/>
          <p:cNvPicPr/>
          <p:nvPr/>
        </p:nvPicPr>
        <p:blipFill>
          <a:blip r:embed="rId2"/>
          <a:srcRect l="50014" t="0" r="27539" b="0"/>
          <a:stretch/>
        </p:blipFill>
        <p:spPr>
          <a:xfrm>
            <a:off x="1258920" y="404640"/>
            <a:ext cx="2089080" cy="2743200"/>
          </a:xfrm>
          <a:prstGeom prst="rect">
            <a:avLst/>
          </a:prstGeom>
          <a:ln w="0">
            <a:noFill/>
          </a:ln>
        </p:spPr>
      </p:pic>
      <p:pic>
        <p:nvPicPr>
          <p:cNvPr id="1472" name="" descr=""/>
          <p:cNvPicPr/>
          <p:nvPr/>
        </p:nvPicPr>
        <p:blipFill>
          <a:blip r:embed="rId3"/>
          <a:srcRect l="77580" t="0" r="2027" b="0"/>
          <a:stretch/>
        </p:blipFill>
        <p:spPr>
          <a:xfrm>
            <a:off x="6084720" y="476280"/>
            <a:ext cx="1798920" cy="3029040"/>
          </a:xfrm>
          <a:prstGeom prst="rect">
            <a:avLst/>
          </a:prstGeom>
          <a:ln w="0">
            <a:noFill/>
          </a:ln>
        </p:spPr>
      </p:pic>
      <p:sp>
        <p:nvSpPr>
          <p:cNvPr id="1473" name=""/>
          <p:cNvSpPr/>
          <p:nvPr/>
        </p:nvSpPr>
        <p:spPr>
          <a:xfrm>
            <a:off x="250920" y="4221000"/>
            <a:ext cx="50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棱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971640" y="380844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957240" y="515304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132000" y="3878280"/>
            <a:ext cx="2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474920" y="3645000"/>
            <a:ext cx="1368360" cy="1295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564000" y="3645000"/>
            <a:ext cx="1008000" cy="1295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"/>
          <p:cNvGrpSpPr/>
          <p:nvPr/>
        </p:nvGrpSpPr>
        <p:grpSpPr>
          <a:xfrm>
            <a:off x="1490760" y="5229000"/>
            <a:ext cx="1366920" cy="864000"/>
            <a:chOff x="1490760" y="5229000"/>
            <a:chExt cx="1366920" cy="864000"/>
          </a:xfrm>
        </p:grpSpPr>
        <p:sp>
          <p:nvSpPr>
            <p:cNvPr id="1480" name=""/>
            <p:cNvSpPr/>
            <p:nvPr/>
          </p:nvSpPr>
          <p:spPr>
            <a:xfrm>
              <a:off x="1490760" y="5229360"/>
              <a:ext cx="1366920" cy="8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490760" y="5229360"/>
              <a:ext cx="136692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1490760" y="5229000"/>
              <a:ext cx="136692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3" name=""/>
          <p:cNvSpPr/>
          <p:nvPr/>
        </p:nvSpPr>
        <p:spPr>
          <a:xfrm>
            <a:off x="4716360" y="4149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364000" y="3664080"/>
            <a:ext cx="4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364000" y="505152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091280" y="3679920"/>
            <a:ext cx="2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867280" y="3573360"/>
            <a:ext cx="115272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7624800" y="3543480"/>
            <a:ext cx="115236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881680" y="5013360"/>
            <a:ext cx="115236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7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2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2" dur="2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7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2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1" name=""/>
          <p:cNvSpPr/>
          <p:nvPr/>
        </p:nvSpPr>
        <p:spPr>
          <a:xfrm>
            <a:off x="7086600" y="3789360"/>
            <a:ext cx="15238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未知"/>
          <p:cNvSpPr/>
          <p:nvPr/>
        </p:nvSpPr>
        <p:spPr>
          <a:xfrm>
            <a:off x="7537320" y="3789360"/>
            <a:ext cx="1096920" cy="1440"/>
          </a:xfrm>
          <a:custGeom>
            <a:avLst/>
            <a:gdLst/>
            <a:ahLst/>
            <a:rect l="l" t="t" r="r" b="b"/>
            <a:pathLst>
              <a:path w="691" h="1">
                <a:moveTo>
                  <a:pt x="0" y="0"/>
                </a:moveTo>
                <a:lnTo>
                  <a:pt x="691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8077320" y="233676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86600" y="2492280"/>
            <a:ext cx="15238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89000" y="0"/>
            <a:ext cx="4179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843280" y="836640"/>
            <a:ext cx="390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六棱柱的三视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2050920" y="2852640"/>
            <a:ext cx="1523880" cy="1981080"/>
            <a:chOff x="2050920" y="2852640"/>
            <a:chExt cx="1523880" cy="1981080"/>
          </a:xfrm>
        </p:grpSpPr>
        <p:sp>
          <p:nvSpPr>
            <p:cNvPr id="1498" name="未知"/>
            <p:cNvSpPr/>
            <p:nvPr/>
          </p:nvSpPr>
          <p:spPr>
            <a:xfrm>
              <a:off x="2050920" y="3144600"/>
              <a:ext cx="380880" cy="1689120"/>
            </a:xfrm>
            <a:custGeom>
              <a:avLst/>
              <a:gdLst/>
              <a:ahLst/>
              <a:rect l="l" t="t" r="r" b="b"/>
              <a:pathLst>
                <a:path w="288" h="1392">
                  <a:moveTo>
                    <a:pt x="0" y="0"/>
                  </a:moveTo>
                  <a:lnTo>
                    <a:pt x="0" y="1104"/>
                  </a:lnTo>
                  <a:lnTo>
                    <a:pt x="288" y="1392"/>
                  </a:lnTo>
                  <a:lnTo>
                    <a:pt x="288" y="28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8100000"/>
            </a:gra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未知"/>
            <p:cNvSpPr/>
            <p:nvPr/>
          </p:nvSpPr>
          <p:spPr>
            <a:xfrm>
              <a:off x="2431800" y="3494160"/>
              <a:ext cx="762120" cy="1339560"/>
            </a:xfrm>
            <a:custGeom>
              <a:avLst/>
              <a:gdLst/>
              <a:ahLst/>
              <a:rect l="l" t="t" r="r" b="b"/>
              <a:pathLst>
                <a:path w="576" h="1104">
                  <a:moveTo>
                    <a:pt x="0" y="0"/>
                  </a:moveTo>
                  <a:lnTo>
                    <a:pt x="576" y="0"/>
                  </a:lnTo>
                  <a:lnTo>
                    <a:pt x="576" y="1104"/>
                  </a:lnTo>
                  <a:lnTo>
                    <a:pt x="0" y="1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未知"/>
            <p:cNvSpPr/>
            <p:nvPr/>
          </p:nvSpPr>
          <p:spPr>
            <a:xfrm>
              <a:off x="3193920" y="3201840"/>
              <a:ext cx="380880" cy="1631880"/>
            </a:xfrm>
            <a:custGeom>
              <a:avLst/>
              <a:gdLst/>
              <a:ahLst/>
              <a:rect l="l" t="t" r="r" b="b"/>
              <a:pathLst>
                <a:path w="288" h="1344">
                  <a:moveTo>
                    <a:pt x="0" y="1344"/>
                  </a:moveTo>
                  <a:lnTo>
                    <a:pt x="288" y="1104"/>
                  </a:lnTo>
                  <a:lnTo>
                    <a:pt x="288" y="0"/>
                  </a:lnTo>
                  <a:lnTo>
                    <a:pt x="0" y="240"/>
                  </a:lnTo>
                  <a:lnTo>
                    <a:pt x="0" y="1344"/>
                  </a:lnTo>
                  <a:close/>
                </a:path>
              </a:pathLst>
            </a:cu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未知"/>
            <p:cNvSpPr/>
            <p:nvPr/>
          </p:nvSpPr>
          <p:spPr>
            <a:xfrm>
              <a:off x="2050920" y="2852640"/>
              <a:ext cx="1523880" cy="641520"/>
            </a:xfrm>
            <a:custGeom>
              <a:avLst/>
              <a:gdLst/>
              <a:ahLst/>
              <a:rect l="l" t="t" r="r" b="b"/>
              <a:pathLst>
                <a:path w="1152" h="528">
                  <a:moveTo>
                    <a:pt x="0" y="240"/>
                  </a:moveTo>
                  <a:lnTo>
                    <a:pt x="288" y="0"/>
                  </a:lnTo>
                  <a:lnTo>
                    <a:pt x="864" y="0"/>
                  </a:lnTo>
                  <a:lnTo>
                    <a:pt x="1152" y="288"/>
                  </a:lnTo>
                  <a:lnTo>
                    <a:pt x="864" y="528"/>
                  </a:lnTo>
                  <a:lnTo>
                    <a:pt x="288" y="528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bbe0e3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2" name="未知"/>
          <p:cNvSpPr/>
          <p:nvPr/>
        </p:nvSpPr>
        <p:spPr>
          <a:xfrm>
            <a:off x="5780160" y="2492280"/>
            <a:ext cx="1295280" cy="1295640"/>
          </a:xfrm>
          <a:custGeom>
            <a:avLst/>
            <a:gdLst/>
            <a:ahLst/>
            <a:rect l="l" t="t" r="r" b="b"/>
            <a:pathLst>
              <a:path w="816" h="816">
                <a:moveTo>
                  <a:pt x="0" y="0"/>
                </a:moveTo>
                <a:lnTo>
                  <a:pt x="0" y="816"/>
                </a:lnTo>
                <a:lnTo>
                  <a:pt x="816" y="816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118200" y="2492280"/>
            <a:ext cx="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759720" y="2492280"/>
            <a:ext cx="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762520" y="4883040"/>
            <a:ext cx="1295640" cy="1067040"/>
          </a:xfrm>
          <a:prstGeom prst="hexagon">
            <a:avLst>
              <a:gd name="adj" fmla="val 30356"/>
              <a:gd name="vf" fmla="val 11547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5638320" y="54864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未知"/>
          <p:cNvSpPr/>
          <p:nvPr/>
        </p:nvSpPr>
        <p:spPr>
          <a:xfrm>
            <a:off x="6440400" y="4808520"/>
            <a:ext cx="1800" cy="1411200"/>
          </a:xfrm>
          <a:custGeom>
            <a:avLst/>
            <a:gdLst/>
            <a:ahLst/>
            <a:rect l="l" t="t" r="r" b="b"/>
            <a:pathLst>
              <a:path w="1" h="889">
                <a:moveTo>
                  <a:pt x="0" y="0"/>
                </a:moveTo>
                <a:lnTo>
                  <a:pt x="0" y="889"/>
                </a:lnTo>
              </a:path>
            </a:pathLst>
          </a:custGeom>
          <a:noFill/>
          <a:ln w="9360">
            <a:solidFill>
              <a:srgbClr val="ffffff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未知"/>
          <p:cNvSpPr/>
          <p:nvPr/>
        </p:nvSpPr>
        <p:spPr>
          <a:xfrm flipH="1">
            <a:off x="6370560" y="2060640"/>
            <a:ext cx="69840" cy="2658960"/>
          </a:xfrm>
          <a:custGeom>
            <a:avLst/>
            <a:gdLst/>
            <a:ahLst/>
            <a:rect l="l" t="t" r="r" b="b"/>
            <a:pathLst>
              <a:path w="1" h="932">
                <a:moveTo>
                  <a:pt x="0" y="0"/>
                </a:moveTo>
                <a:lnTo>
                  <a:pt x="0" y="932"/>
                </a:lnTo>
              </a:path>
            </a:pathLst>
          </a:custGeom>
          <a:noFill/>
          <a:ln w="9360">
            <a:solidFill>
              <a:srgbClr val="ffffff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未知"/>
          <p:cNvSpPr/>
          <p:nvPr/>
        </p:nvSpPr>
        <p:spPr>
          <a:xfrm>
            <a:off x="5783400" y="3789360"/>
            <a:ext cx="1322280" cy="1440"/>
          </a:xfrm>
          <a:custGeom>
            <a:avLst/>
            <a:gdLst/>
            <a:ahLst/>
            <a:rect l="l" t="t" r="r" b="b"/>
            <a:pathLst>
              <a:path w="833" h="1">
                <a:moveTo>
                  <a:pt x="0" y="0"/>
                </a:moveTo>
                <a:lnTo>
                  <a:pt x="833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5791320" y="3789360"/>
            <a:ext cx="1301400" cy="1696320"/>
            <a:chOff x="5791320" y="3789360"/>
            <a:chExt cx="1301400" cy="1696320"/>
          </a:xfrm>
        </p:grpSpPr>
        <p:sp>
          <p:nvSpPr>
            <p:cNvPr id="1511" name=""/>
            <p:cNvSpPr/>
            <p:nvPr/>
          </p:nvSpPr>
          <p:spPr>
            <a:xfrm flipV="1">
              <a:off x="5791320" y="3789360"/>
              <a:ext cx="0" cy="16963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7092720" y="3789360"/>
              <a:ext cx="0" cy="16963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3" name="未知"/>
          <p:cNvSpPr/>
          <p:nvPr/>
        </p:nvSpPr>
        <p:spPr>
          <a:xfrm>
            <a:off x="6118200" y="3716280"/>
            <a:ext cx="69840" cy="2333520"/>
          </a:xfrm>
          <a:custGeom>
            <a:avLst/>
            <a:gdLst/>
            <a:ahLst/>
            <a:rect l="l" t="t" r="r" b="b"/>
            <a:pathLst>
              <a:path w="1" h="880">
                <a:moveTo>
                  <a:pt x="0" y="88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未知"/>
          <p:cNvSpPr/>
          <p:nvPr/>
        </p:nvSpPr>
        <p:spPr>
          <a:xfrm flipH="1">
            <a:off x="6658920" y="3789360"/>
            <a:ext cx="104760" cy="2225520"/>
          </a:xfrm>
          <a:custGeom>
            <a:avLst/>
            <a:gdLst/>
            <a:ahLst/>
            <a:rect l="l" t="t" r="r" b="b"/>
            <a:pathLst>
              <a:path w="1" h="858">
                <a:moveTo>
                  <a:pt x="0" y="858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5" name=""/>
          <p:cNvGrpSpPr/>
          <p:nvPr/>
        </p:nvGrpSpPr>
        <p:grpSpPr>
          <a:xfrm>
            <a:off x="6448320" y="3789360"/>
            <a:ext cx="1600200" cy="838080"/>
            <a:chOff x="6448320" y="3789360"/>
            <a:chExt cx="1600200" cy="838080"/>
          </a:xfrm>
        </p:grpSpPr>
        <p:sp>
          <p:nvSpPr>
            <p:cNvPr id="1516" name=""/>
            <p:cNvSpPr/>
            <p:nvPr/>
          </p:nvSpPr>
          <p:spPr>
            <a:xfrm>
              <a:off x="6448320" y="4094280"/>
              <a:ext cx="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7515000" y="378936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8" name="未知"/>
          <p:cNvSpPr/>
          <p:nvPr/>
        </p:nvSpPr>
        <p:spPr>
          <a:xfrm>
            <a:off x="7543800" y="2492280"/>
            <a:ext cx="1440" cy="1295640"/>
          </a:xfrm>
          <a:custGeom>
            <a:avLst/>
            <a:gdLst/>
            <a:ahLst/>
            <a:rect l="l" t="t" r="r" b="b"/>
            <a:pathLst>
              <a:path w="1" h="816">
                <a:moveTo>
                  <a:pt x="0" y="8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未知"/>
          <p:cNvSpPr/>
          <p:nvPr/>
        </p:nvSpPr>
        <p:spPr>
          <a:xfrm>
            <a:off x="8610480" y="2492280"/>
            <a:ext cx="1800" cy="1295640"/>
          </a:xfrm>
          <a:custGeom>
            <a:avLst/>
            <a:gdLst/>
            <a:ahLst/>
            <a:rect l="l" t="t" r="r" b="b"/>
            <a:pathLst>
              <a:path w="1" h="816">
                <a:moveTo>
                  <a:pt x="0" y="8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未知"/>
          <p:cNvSpPr/>
          <p:nvPr/>
        </p:nvSpPr>
        <p:spPr>
          <a:xfrm>
            <a:off x="7524720" y="2492280"/>
            <a:ext cx="1090800" cy="4680"/>
          </a:xfrm>
          <a:custGeom>
            <a:avLst/>
            <a:gdLst/>
            <a:ahLst/>
            <a:rect l="l" t="t" r="r" b="b"/>
            <a:pathLst>
              <a:path w="687" h="3">
                <a:moveTo>
                  <a:pt x="0" y="3"/>
                </a:moveTo>
                <a:lnTo>
                  <a:pt x="68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8077320" y="2491920"/>
            <a:ext cx="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971640" y="1988280"/>
            <a:ext cx="49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5559480" y="3979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7380360" y="3979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左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651640" y="6165720"/>
            <a:ext cx="1600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俯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39640" y="1484280"/>
            <a:ext cx="1440000" cy="1152720"/>
          </a:xfrm>
          <a:custGeom>
            <a:avLst/>
            <a:gdLst>
              <a:gd name="textAreaLeft" fmla="*/ 0 w 1440000"/>
              <a:gd name="textAreaRight" fmla="*/ 1440000 w 1440000"/>
              <a:gd name="textAreaTop" fmla="*/ 149400 h 1152720"/>
              <a:gd name="textAreaBottom" fmla="*/ 1003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324000" y="1700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画一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1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1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1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1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6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2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7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3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8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1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0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8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108000" y="617400"/>
            <a:ext cx="95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画出图所示的支架（一种小零件）的三视图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95280" y="128736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析：支架的现状：由两个大小不等的长方体构成的组合体，画三视图时要注意这两个长方体的上下、前后位置关系．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11280" y="276552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解：图是支架的三视图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" descr=""/>
          <p:cNvPicPr/>
          <p:nvPr/>
        </p:nvPicPr>
        <p:blipFill>
          <a:blip r:embed="rId2"/>
          <a:srcRect l="15128" t="29066" r="67437" b="60131"/>
          <a:stretch/>
        </p:blipFill>
        <p:spPr>
          <a:xfrm>
            <a:off x="6588000" y="2486160"/>
            <a:ext cx="1584360" cy="1374480"/>
          </a:xfrm>
          <a:prstGeom prst="rect">
            <a:avLst/>
          </a:prstGeom>
          <a:ln w="0">
            <a:noFill/>
          </a:ln>
        </p:spPr>
      </p:pic>
      <p:sp>
        <p:nvSpPr>
          <p:cNvPr id="1532" name=""/>
          <p:cNvSpPr/>
          <p:nvPr/>
        </p:nvSpPr>
        <p:spPr>
          <a:xfrm flipH="1" flipV="1">
            <a:off x="7812000" y="371628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411280" y="3592440"/>
            <a:ext cx="4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411280" y="497988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716360" y="3537000"/>
            <a:ext cx="2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未知"/>
          <p:cNvSpPr/>
          <p:nvPr/>
        </p:nvSpPr>
        <p:spPr>
          <a:xfrm>
            <a:off x="2987640" y="3571920"/>
            <a:ext cx="1441440" cy="1152360"/>
          </a:xfrm>
          <a:custGeom>
            <a:avLst/>
            <a:gdLst/>
            <a:ahLst/>
            <a:rect l="l" t="t" r="r" b="b"/>
            <a:pathLst>
              <a:path w="998" h="726">
                <a:moveTo>
                  <a:pt x="0" y="726"/>
                </a:moveTo>
                <a:lnTo>
                  <a:pt x="998" y="726"/>
                </a:lnTo>
                <a:lnTo>
                  <a:pt x="998" y="0"/>
                </a:lnTo>
                <a:lnTo>
                  <a:pt x="544" y="0"/>
                </a:lnTo>
                <a:lnTo>
                  <a:pt x="544" y="454"/>
                </a:lnTo>
                <a:lnTo>
                  <a:pt x="0" y="454"/>
                </a:lnTo>
                <a:lnTo>
                  <a:pt x="0" y="72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5148360" y="3616200"/>
            <a:ext cx="1152360" cy="1079640"/>
            <a:chOff x="5148360" y="3616200"/>
            <a:chExt cx="1152360" cy="1079640"/>
          </a:xfrm>
        </p:grpSpPr>
        <p:sp>
          <p:nvSpPr>
            <p:cNvPr id="1538" name=""/>
            <p:cNvSpPr/>
            <p:nvPr/>
          </p:nvSpPr>
          <p:spPr>
            <a:xfrm>
              <a:off x="5148360" y="3616200"/>
              <a:ext cx="1152360" cy="107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148360" y="429804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2988000" y="5013360"/>
            <a:ext cx="1439640" cy="1152360"/>
            <a:chOff x="2988000" y="5013360"/>
            <a:chExt cx="1439640" cy="1152360"/>
          </a:xfrm>
        </p:grpSpPr>
        <p:sp>
          <p:nvSpPr>
            <p:cNvPr id="1541" name=""/>
            <p:cNvSpPr/>
            <p:nvPr/>
          </p:nvSpPr>
          <p:spPr>
            <a:xfrm rot="5400000">
              <a:off x="3131640" y="4869720"/>
              <a:ext cx="1152360" cy="143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517920" y="501336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d"/>
  </p:transition>
  <p:timing>
    <p:tnLst>
      <p:par>
        <p:cTn id="2129" dur="indefinite" restart="never" nodeType="tmRoot">
          <p:childTnLst>
            <p:seq>
              <p:cTn id="2130" dur="indefinite" nodeType="mainSeq">
                <p:childTnLst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9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3" name="" descr=""/>
          <p:cNvPicPr/>
          <p:nvPr/>
        </p:nvPicPr>
        <p:blipFill>
          <a:blip r:embed="rId1"/>
          <a:stretch/>
        </p:blipFill>
        <p:spPr>
          <a:xfrm>
            <a:off x="520560" y="3365640"/>
            <a:ext cx="2926080" cy="2089080"/>
          </a:xfrm>
          <a:prstGeom prst="rect">
            <a:avLst/>
          </a:prstGeom>
          <a:ln w="0">
            <a:noFill/>
          </a:ln>
        </p:spPr>
      </p:pic>
      <p:sp>
        <p:nvSpPr>
          <p:cNvPr id="1544" name=""/>
          <p:cNvSpPr/>
          <p:nvPr/>
        </p:nvSpPr>
        <p:spPr>
          <a:xfrm>
            <a:off x="206280" y="142920"/>
            <a:ext cx="378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下图是一根钢管的直观图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画出它的三视图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4032360" y="2619360"/>
            <a:ext cx="4976280" cy="3981240"/>
            <a:chOff x="4032360" y="2619360"/>
            <a:chExt cx="4976280" cy="3981240"/>
          </a:xfrm>
        </p:grpSpPr>
        <p:pic>
          <p:nvPicPr>
            <p:cNvPr id="1546" name="" descr=""/>
            <p:cNvPicPr/>
            <p:nvPr/>
          </p:nvPicPr>
          <p:blipFill>
            <a:blip r:embed="rId2"/>
            <a:stretch/>
          </p:blipFill>
          <p:spPr>
            <a:xfrm>
              <a:off x="4032360" y="2619360"/>
              <a:ext cx="4976280" cy="39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>
              <a:off x="4264200" y="2968560"/>
              <a:ext cx="2360160" cy="1800"/>
            </a:xfrm>
            <a:custGeom>
              <a:avLst/>
              <a:gdLst/>
              <a:ahLst/>
              <a:rect l="l" t="t" r="r" b="b"/>
              <a:pathLst>
                <a:path w="1385" h="1">
                  <a:moveTo>
                    <a:pt x="0" y="0"/>
                  </a:moveTo>
                  <a:lnTo>
                    <a:pt x="138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250160" y="4323600"/>
              <a:ext cx="2360520" cy="1440"/>
            </a:xfrm>
            <a:custGeom>
              <a:avLst/>
              <a:gdLst/>
              <a:ahLst/>
              <a:rect l="l" t="t" r="r" b="b"/>
              <a:pathLst>
                <a:path w="1385" h="1">
                  <a:moveTo>
                    <a:pt x="0" y="0"/>
                  </a:moveTo>
                  <a:lnTo>
                    <a:pt x="138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264200" y="4952520"/>
              <a:ext cx="2360160" cy="1440"/>
            </a:xfrm>
            <a:custGeom>
              <a:avLst/>
              <a:gdLst/>
              <a:ahLst/>
              <a:rect l="l" t="t" r="r" b="b"/>
              <a:pathLst>
                <a:path w="1385" h="1">
                  <a:moveTo>
                    <a:pt x="0" y="0"/>
                  </a:moveTo>
                  <a:lnTo>
                    <a:pt x="138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74280" y="6329880"/>
              <a:ext cx="2360160" cy="1800"/>
            </a:xfrm>
            <a:custGeom>
              <a:avLst/>
              <a:gdLst/>
              <a:ahLst/>
              <a:rect l="l" t="t" r="r" b="b"/>
              <a:pathLst>
                <a:path w="1385" h="1">
                  <a:moveTo>
                    <a:pt x="0" y="0"/>
                  </a:moveTo>
                  <a:lnTo>
                    <a:pt x="138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4121280" y="324000"/>
            <a:ext cx="481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解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如图是钢管的三视图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其中的虚线表示钢管的内壁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1" dur="indefinite" restart="never" nodeType="tmRoot">
          <p:childTnLst>
            <p:seq>
              <p:cTn id="2162" dur="indefinite" nodeType="mainSeq">
                <p:childTnLst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7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755640" y="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隶书"/>
                <a:ea typeface="隶书"/>
              </a:rPr>
              <a:t>问题：什么是三视图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395280" y="1268280"/>
            <a:ext cx="857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바탕"/>
                <a:ea typeface="바탕"/>
              </a:rPr>
              <a:t>主视图：</a:t>
            </a:r>
            <a:r>
              <a:rPr b="1" lang="zh-CN" sz="3600" spc="-1" strike="noStrike">
                <a:solidFill>
                  <a:srgbClr val="000000"/>
                </a:solidFill>
                <a:latin typeface="바탕"/>
                <a:ea typeface="바탕"/>
              </a:rPr>
              <a:t>光线从几何体的前面向后面主投影，得到的投影图</a:t>
            </a:r>
            <a:r>
              <a:rPr b="1" lang="zh-CN" sz="36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바탕"/>
                <a:ea typeface="바탕"/>
              </a:rPr>
              <a:t>左视图：</a:t>
            </a:r>
            <a:r>
              <a:rPr b="1" lang="zh-CN" sz="3600" spc="-1" strike="noStrike">
                <a:solidFill>
                  <a:srgbClr val="000000"/>
                </a:solidFill>
                <a:latin typeface="바탕"/>
                <a:ea typeface="바탕"/>
              </a:rPr>
              <a:t>光线从几何体的左面向右面主投影，得到的投影图</a:t>
            </a:r>
            <a:r>
              <a:rPr b="1" lang="zh-CN" sz="36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바탕"/>
                <a:ea typeface="바탕"/>
              </a:rPr>
              <a:t>俯视图：</a:t>
            </a:r>
            <a:r>
              <a:rPr b="1" lang="zh-CN" sz="3600" spc="-1" strike="noStrike">
                <a:solidFill>
                  <a:srgbClr val="000000"/>
                </a:solidFill>
                <a:latin typeface="바탕"/>
                <a:ea typeface="바탕"/>
              </a:rPr>
              <a:t>光线从几何体的上面向下面主投影，得到的投影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钢-秋日私语.mp3" descr=""/>
          <p:cNvPicPr/>
          <p:nvPr/>
        </p:nvPicPr>
        <p:blipFill>
          <a:blip r:embed="rId2"/>
          <a:stretch/>
        </p:blipFill>
        <p:spPr>
          <a:xfrm>
            <a:off x="152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9"/>
          <p:cNvSpPr/>
          <p:nvPr/>
        </p:nvSpPr>
        <p:spPr>
          <a:xfrm>
            <a:off x="395280" y="479736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几何体的主视图、左视图和俯视图，统称为几何体的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三视图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/>
          <p:nvPr/>
        </p:nvSpPr>
        <p:spPr>
          <a:xfrm>
            <a:off x="971640" y="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3300"/>
                </a:solidFill>
                <a:latin typeface="Arial"/>
                <a:ea typeface="隶书"/>
              </a:rPr>
              <a:t>议一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0" y="328464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请同学们观察上图，想一想，从不同方向看到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539640" y="883440"/>
            <a:ext cx="7993080" cy="2183760"/>
            <a:chOff x="539640" y="883440"/>
            <a:chExt cx="7993080" cy="2183760"/>
          </a:xfrm>
        </p:grpSpPr>
        <p:sp>
          <p:nvSpPr>
            <p:cNvPr id="1555" name=""/>
            <p:cNvSpPr/>
            <p:nvPr/>
          </p:nvSpPr>
          <p:spPr>
            <a:xfrm>
              <a:off x="539640" y="1339920"/>
              <a:ext cx="7993080" cy="1727280"/>
            </a:xfrm>
            <a:prstGeom prst="cube">
              <a:avLst>
                <a:gd name="adj" fmla="val 96856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836720" y="1052640"/>
              <a:ext cx="1584360" cy="1657440"/>
            </a:xfrm>
            <a:prstGeom prst="cube">
              <a:avLst>
                <a:gd name="adj" fmla="val 60328"/>
              </a:avLst>
            </a:prstGeom>
            <a:gradFill rotWithShape="0">
              <a:gsLst>
                <a:gs pos="0">
                  <a:srgbClr val="dada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797440" y="907920"/>
              <a:ext cx="863640" cy="1584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3637080" y="883440"/>
              <a:ext cx="1601640" cy="1634400"/>
              <a:chOff x="3637080" y="883440"/>
              <a:chExt cx="1601640" cy="1634400"/>
            </a:xfrm>
          </p:grpSpPr>
          <p:sp>
            <p:nvSpPr>
              <p:cNvPr id="1559" name=""/>
              <p:cNvSpPr/>
              <p:nvPr/>
            </p:nvSpPr>
            <p:spPr>
              <a:xfrm rot="19165200">
                <a:off x="4141800" y="907560"/>
                <a:ext cx="660600" cy="158580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efe0fe"/>
                  </a:gs>
                  <a:gs pos="100000">
                    <a:srgbClr val="cc99ff"/>
                  </a:gs>
                </a:gsLst>
                <a:lin ang="7836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637080" y="907920"/>
                <a:ext cx="1152360" cy="1582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efe0fe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1" name=""/>
          <p:cNvGrpSpPr/>
          <p:nvPr/>
        </p:nvGrpSpPr>
        <p:grpSpPr>
          <a:xfrm>
            <a:off x="0" y="0"/>
            <a:ext cx="8542080" cy="1052280"/>
            <a:chOff x="0" y="0"/>
            <a:chExt cx="8542080" cy="1052280"/>
          </a:xfrm>
        </p:grpSpPr>
        <p:sp>
          <p:nvSpPr>
            <p:cNvPr id="1562" name=""/>
            <p:cNvSpPr/>
            <p:nvPr/>
          </p:nvSpPr>
          <p:spPr>
            <a:xfrm>
              <a:off x="290520" y="108000"/>
              <a:ext cx="438120" cy="4744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3" name=""/>
            <p:cNvGrpSpPr/>
            <p:nvPr/>
          </p:nvGrpSpPr>
          <p:grpSpPr>
            <a:xfrm>
              <a:off x="0" y="0"/>
              <a:ext cx="8542080" cy="1052280"/>
              <a:chOff x="0" y="0"/>
              <a:chExt cx="8542080" cy="1052280"/>
            </a:xfrm>
          </p:grpSpPr>
          <p:sp>
            <p:nvSpPr>
              <p:cNvPr id="1564" name=""/>
              <p:cNvSpPr/>
              <p:nvPr/>
            </p:nvSpPr>
            <p:spPr>
              <a:xfrm>
                <a:off x="414360" y="530280"/>
                <a:ext cx="42228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5" name=""/>
              <p:cNvGrpSpPr/>
              <p:nvPr/>
            </p:nvGrpSpPr>
            <p:grpSpPr>
              <a:xfrm>
                <a:off x="0" y="0"/>
                <a:ext cx="8542080" cy="1052280"/>
                <a:chOff x="0" y="0"/>
                <a:chExt cx="8542080" cy="1052280"/>
              </a:xfrm>
            </p:grpSpPr>
            <p:grpSp>
              <p:nvGrpSpPr>
                <p:cNvPr id="1566" name=""/>
                <p:cNvGrpSpPr/>
                <p:nvPr/>
              </p:nvGrpSpPr>
              <p:grpSpPr>
                <a:xfrm>
                  <a:off x="0" y="108000"/>
                  <a:ext cx="1152360" cy="896760"/>
                  <a:chOff x="0" y="108000"/>
                  <a:chExt cx="1152360" cy="896760"/>
                </a:xfrm>
              </p:grpSpPr>
              <p:sp>
                <p:nvSpPr>
                  <p:cNvPr id="1567" name=""/>
                  <p:cNvSpPr/>
                  <p:nvPr/>
                </p:nvSpPr>
                <p:spPr>
                  <a:xfrm>
                    <a:off x="673200" y="108000"/>
                    <a:ext cx="328320" cy="474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33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784080" y="530280"/>
                    <a:ext cx="368280" cy="474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cc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0" y="457200"/>
                    <a:ext cx="560160" cy="422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0" name=""/>
                <p:cNvSpPr/>
                <p:nvPr/>
              </p:nvSpPr>
              <p:spPr>
                <a:xfrm>
                  <a:off x="635040" y="0"/>
                  <a:ext cx="31680" cy="10522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315720" y="790560"/>
                  <a:ext cx="8226360" cy="3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1" dur="indefinite" restart="never" nodeType="tmRoot">
          <p:childTnLst>
            <p:seq>
              <p:cTn id="2172" dur="indefinite" nodeType="mainSeq">
                <p:childTnLst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2" name=""/>
          <p:cNvGrpSpPr/>
          <p:nvPr/>
        </p:nvGrpSpPr>
        <p:grpSpPr>
          <a:xfrm>
            <a:off x="468360" y="308880"/>
            <a:ext cx="7993080" cy="2183040"/>
            <a:chOff x="468360" y="308880"/>
            <a:chExt cx="7993080" cy="2183040"/>
          </a:xfrm>
        </p:grpSpPr>
        <p:sp>
          <p:nvSpPr>
            <p:cNvPr id="1573" name=""/>
            <p:cNvSpPr/>
            <p:nvPr/>
          </p:nvSpPr>
          <p:spPr>
            <a:xfrm>
              <a:off x="468360" y="765000"/>
              <a:ext cx="7993080" cy="1726920"/>
            </a:xfrm>
            <a:prstGeom prst="cube">
              <a:avLst>
                <a:gd name="adj" fmla="val 96856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765440" y="477720"/>
              <a:ext cx="1584360" cy="1657080"/>
            </a:xfrm>
            <a:prstGeom prst="cube">
              <a:avLst>
                <a:gd name="adj" fmla="val 60328"/>
              </a:avLst>
            </a:prstGeom>
            <a:gradFill rotWithShape="0">
              <a:gsLst>
                <a:gs pos="0">
                  <a:srgbClr val="dada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726160" y="333360"/>
              <a:ext cx="863640" cy="1584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6" name=""/>
            <p:cNvGrpSpPr/>
            <p:nvPr/>
          </p:nvGrpSpPr>
          <p:grpSpPr>
            <a:xfrm>
              <a:off x="3565800" y="308880"/>
              <a:ext cx="1601640" cy="1634400"/>
              <a:chOff x="3565800" y="308880"/>
              <a:chExt cx="1601640" cy="1634400"/>
            </a:xfrm>
          </p:grpSpPr>
          <p:sp>
            <p:nvSpPr>
              <p:cNvPr id="1577" name=""/>
              <p:cNvSpPr/>
              <p:nvPr/>
            </p:nvSpPr>
            <p:spPr>
              <a:xfrm rot="19165200">
                <a:off x="4070520" y="333000"/>
                <a:ext cx="660600" cy="158580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efe0fe"/>
                  </a:gs>
                  <a:gs pos="100000">
                    <a:srgbClr val="cc99ff"/>
                  </a:gs>
                </a:gsLst>
                <a:lin ang="7836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565800" y="333360"/>
                <a:ext cx="1152360" cy="1582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efe0fe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9" name=""/>
          <p:cNvGrpSpPr/>
          <p:nvPr/>
        </p:nvGrpSpPr>
        <p:grpSpPr>
          <a:xfrm>
            <a:off x="6227640" y="4149720"/>
            <a:ext cx="2592360" cy="1728720"/>
            <a:chOff x="6227640" y="4149720"/>
            <a:chExt cx="2592360" cy="1728720"/>
          </a:xfrm>
        </p:grpSpPr>
        <p:grpSp>
          <p:nvGrpSpPr>
            <p:cNvPr id="1580" name=""/>
            <p:cNvGrpSpPr/>
            <p:nvPr/>
          </p:nvGrpSpPr>
          <p:grpSpPr>
            <a:xfrm>
              <a:off x="6372000" y="4365720"/>
              <a:ext cx="2303640" cy="1296720"/>
              <a:chOff x="6372000" y="4365720"/>
              <a:chExt cx="2303640" cy="1296720"/>
            </a:xfrm>
          </p:grpSpPr>
          <p:sp>
            <p:nvSpPr>
              <p:cNvPr id="1581" name=""/>
              <p:cNvSpPr/>
              <p:nvPr/>
            </p:nvSpPr>
            <p:spPr>
              <a:xfrm>
                <a:off x="6372000" y="4365720"/>
                <a:ext cx="504720" cy="1296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2" name=""/>
              <p:cNvGrpSpPr/>
              <p:nvPr/>
            </p:nvGrpSpPr>
            <p:grpSpPr>
              <a:xfrm>
                <a:off x="7019640" y="4581360"/>
                <a:ext cx="863640" cy="865080"/>
                <a:chOff x="7019640" y="4581360"/>
                <a:chExt cx="863640" cy="865080"/>
              </a:xfrm>
            </p:grpSpPr>
            <p:sp>
              <p:nvSpPr>
                <p:cNvPr id="1583" name=""/>
                <p:cNvSpPr/>
                <p:nvPr/>
              </p:nvSpPr>
              <p:spPr>
                <a:xfrm>
                  <a:off x="7019640" y="4581360"/>
                  <a:ext cx="863640" cy="8636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019640" y="4582800"/>
                  <a:ext cx="863640" cy="86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flipV="1">
                  <a:off x="7019640" y="4582440"/>
                  <a:ext cx="863640" cy="86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6" name=""/>
              <p:cNvSpPr/>
              <p:nvPr/>
            </p:nvSpPr>
            <p:spPr>
              <a:xfrm>
                <a:off x="8027640" y="4726080"/>
                <a:ext cx="648000" cy="6476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6227640" y="4149720"/>
              <a:ext cx="259236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395280" y="4149720"/>
            <a:ext cx="2664000" cy="1728720"/>
            <a:chOff x="395280" y="4149720"/>
            <a:chExt cx="2664000" cy="1728720"/>
          </a:xfrm>
        </p:grpSpPr>
        <p:grpSp>
          <p:nvGrpSpPr>
            <p:cNvPr id="1589" name=""/>
            <p:cNvGrpSpPr/>
            <p:nvPr/>
          </p:nvGrpSpPr>
          <p:grpSpPr>
            <a:xfrm>
              <a:off x="611280" y="4438440"/>
              <a:ext cx="2232000" cy="1368360"/>
              <a:chOff x="611280" y="4438440"/>
              <a:chExt cx="2232000" cy="13683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11280" y="5159160"/>
                <a:ext cx="647640" cy="647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332000" y="4438440"/>
                <a:ext cx="863640" cy="1295280"/>
              </a:xfrm>
              <a:prstGeom prst="triangle">
                <a:avLst>
                  <a:gd name="adj" fmla="val 50000"/>
                </a:avLst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340000" y="4438440"/>
                <a:ext cx="503280" cy="12967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395280" y="4149720"/>
              <a:ext cx="266400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3276720" y="4149720"/>
            <a:ext cx="2735280" cy="1728720"/>
            <a:chOff x="3276720" y="4149720"/>
            <a:chExt cx="2735280" cy="1728720"/>
          </a:xfrm>
        </p:grpSpPr>
        <p:grpSp>
          <p:nvGrpSpPr>
            <p:cNvPr id="1595" name=""/>
            <p:cNvGrpSpPr/>
            <p:nvPr/>
          </p:nvGrpSpPr>
          <p:grpSpPr>
            <a:xfrm>
              <a:off x="3780000" y="4294080"/>
              <a:ext cx="1655640" cy="1441440"/>
              <a:chOff x="3780000" y="4294080"/>
              <a:chExt cx="1655640" cy="1441440"/>
            </a:xfrm>
          </p:grpSpPr>
          <p:sp>
            <p:nvSpPr>
              <p:cNvPr id="1596" name=""/>
              <p:cNvSpPr/>
              <p:nvPr/>
            </p:nvSpPr>
            <p:spPr>
              <a:xfrm>
                <a:off x="4283280" y="4294080"/>
                <a:ext cx="647640" cy="14396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283280" y="4294080"/>
                <a:ext cx="647640" cy="1368360"/>
              </a:xfrm>
              <a:prstGeom prst="triangle">
                <a:avLst>
                  <a:gd name="adj" fmla="val 50000"/>
                </a:avLst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780000" y="5159160"/>
                <a:ext cx="1655640" cy="576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9" name=""/>
            <p:cNvSpPr/>
            <p:nvPr/>
          </p:nvSpPr>
          <p:spPr>
            <a:xfrm>
              <a:off x="3276720" y="4149720"/>
              <a:ext cx="273528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0" name=""/>
          <p:cNvSpPr/>
          <p:nvPr/>
        </p:nvSpPr>
        <p:spPr>
          <a:xfrm>
            <a:off x="468360" y="27082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请同学们讨论下面的三幅图分别从什么方向看到的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6372360" y="5950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俯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539640" y="5950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主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564000" y="5950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左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4" name=""/>
          <p:cNvGrpSpPr/>
          <p:nvPr/>
        </p:nvGrpSpPr>
        <p:grpSpPr>
          <a:xfrm>
            <a:off x="6372360" y="1268280"/>
            <a:ext cx="2016000" cy="1728720"/>
            <a:chOff x="6372360" y="1268280"/>
            <a:chExt cx="2016000" cy="1728720"/>
          </a:xfrm>
        </p:grpSpPr>
        <p:sp>
          <p:nvSpPr>
            <p:cNvPr id="1605" name=""/>
            <p:cNvSpPr/>
            <p:nvPr/>
          </p:nvSpPr>
          <p:spPr>
            <a:xfrm>
              <a:off x="6800760" y="1985040"/>
              <a:ext cx="1586520" cy="590040"/>
            </a:xfrm>
            <a:prstGeom prst="cube">
              <a:avLst>
                <a:gd name="adj" fmla="val 7133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372360" y="2406960"/>
              <a:ext cx="1586520" cy="590040"/>
            </a:xfrm>
            <a:prstGeom prst="cube">
              <a:avLst>
                <a:gd name="adj" fmla="val 7133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800760" y="1268280"/>
              <a:ext cx="1587600" cy="1138680"/>
            </a:xfrm>
            <a:prstGeom prst="cube">
              <a:avLst>
                <a:gd name="adj" fmla="val 3722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684360" y="4076640"/>
            <a:ext cx="2590200" cy="934920"/>
            <a:chOff x="684360" y="4076640"/>
            <a:chExt cx="2590200" cy="934920"/>
          </a:xfrm>
        </p:grpSpPr>
        <p:sp>
          <p:nvSpPr>
            <p:cNvPr id="1609" name=""/>
            <p:cNvSpPr/>
            <p:nvPr/>
          </p:nvSpPr>
          <p:spPr>
            <a:xfrm>
              <a:off x="684360" y="4076640"/>
              <a:ext cx="1295280" cy="719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84360" y="4795920"/>
              <a:ext cx="1295280" cy="215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979640" y="4795920"/>
              <a:ext cx="1294920" cy="21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211640" y="4149720"/>
            <a:ext cx="1295280" cy="938160"/>
            <a:chOff x="4211640" y="4149720"/>
            <a:chExt cx="1295280" cy="938160"/>
          </a:xfrm>
        </p:grpSpPr>
        <p:sp>
          <p:nvSpPr>
            <p:cNvPr id="1613" name=""/>
            <p:cNvSpPr/>
            <p:nvPr/>
          </p:nvSpPr>
          <p:spPr>
            <a:xfrm>
              <a:off x="4211640" y="4149720"/>
              <a:ext cx="1295280" cy="723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211640" y="4870440"/>
              <a:ext cx="1295280" cy="217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5" name=""/>
          <p:cNvGrpSpPr/>
          <p:nvPr/>
        </p:nvGrpSpPr>
        <p:grpSpPr>
          <a:xfrm>
            <a:off x="6659640" y="3716280"/>
            <a:ext cx="1295280" cy="1443240"/>
            <a:chOff x="6659640" y="3716280"/>
            <a:chExt cx="1295280" cy="1443240"/>
          </a:xfrm>
        </p:grpSpPr>
        <p:sp>
          <p:nvSpPr>
            <p:cNvPr id="1616" name=""/>
            <p:cNvSpPr/>
            <p:nvPr/>
          </p:nvSpPr>
          <p:spPr>
            <a:xfrm>
              <a:off x="6659640" y="3716280"/>
              <a:ext cx="1295280" cy="723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659640" y="4435560"/>
              <a:ext cx="1295280" cy="723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8" name=""/>
          <p:cNvSpPr/>
          <p:nvPr/>
        </p:nvSpPr>
        <p:spPr>
          <a:xfrm>
            <a:off x="1116000" y="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3300"/>
                </a:solidFill>
                <a:latin typeface="Arial"/>
                <a:ea typeface="隶书"/>
              </a:rPr>
              <a:t>试一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611280" y="90792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三个方向看右图，得到以下三个图形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请同学们说出哪一个是主视图</a:t>
            </a:r>
            <a:r>
              <a:rPr b="1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sz="3600" spc="-1" strike="noStrike">
                <a:solidFill>
                  <a:srgbClr val="000000"/>
                </a:solidFill>
                <a:latin typeface="黑体"/>
                <a:ea typeface="黑体"/>
              </a:rPr>
              <a:t>哪一个是左视图</a:t>
            </a:r>
            <a:r>
              <a:rPr b="1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sz="3600" spc="-1" strike="noStrike">
                <a:solidFill>
                  <a:srgbClr val="000000"/>
                </a:solidFill>
                <a:latin typeface="黑体"/>
                <a:ea typeface="黑体"/>
              </a:rPr>
              <a:t>哪一个是俯视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395280" y="5445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左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3708360" y="551664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主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6372360" y="5445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俯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3" name=""/>
          <p:cNvGrpSpPr/>
          <p:nvPr/>
        </p:nvGrpSpPr>
        <p:grpSpPr>
          <a:xfrm>
            <a:off x="0" y="0"/>
            <a:ext cx="8542080" cy="1052280"/>
            <a:chOff x="0" y="0"/>
            <a:chExt cx="8542080" cy="1052280"/>
          </a:xfrm>
        </p:grpSpPr>
        <p:sp>
          <p:nvSpPr>
            <p:cNvPr id="1624" name=""/>
            <p:cNvSpPr/>
            <p:nvPr/>
          </p:nvSpPr>
          <p:spPr>
            <a:xfrm>
              <a:off x="290520" y="108000"/>
              <a:ext cx="438120" cy="4744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5" name=""/>
            <p:cNvGrpSpPr/>
            <p:nvPr/>
          </p:nvGrpSpPr>
          <p:grpSpPr>
            <a:xfrm>
              <a:off x="0" y="0"/>
              <a:ext cx="8542080" cy="1052280"/>
              <a:chOff x="0" y="0"/>
              <a:chExt cx="8542080" cy="1052280"/>
            </a:xfrm>
          </p:grpSpPr>
          <p:sp>
            <p:nvSpPr>
              <p:cNvPr id="1626" name=""/>
              <p:cNvSpPr/>
              <p:nvPr/>
            </p:nvSpPr>
            <p:spPr>
              <a:xfrm>
                <a:off x="414360" y="530280"/>
                <a:ext cx="42228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7" name=""/>
              <p:cNvGrpSpPr/>
              <p:nvPr/>
            </p:nvGrpSpPr>
            <p:grpSpPr>
              <a:xfrm>
                <a:off x="0" y="0"/>
                <a:ext cx="8542080" cy="1052280"/>
                <a:chOff x="0" y="0"/>
                <a:chExt cx="8542080" cy="1052280"/>
              </a:xfrm>
            </p:grpSpPr>
            <p:grpSp>
              <p:nvGrpSpPr>
                <p:cNvPr id="1628" name=""/>
                <p:cNvGrpSpPr/>
                <p:nvPr/>
              </p:nvGrpSpPr>
              <p:grpSpPr>
                <a:xfrm>
                  <a:off x="0" y="108000"/>
                  <a:ext cx="1152360" cy="896760"/>
                  <a:chOff x="0" y="108000"/>
                  <a:chExt cx="1152360" cy="896760"/>
                </a:xfrm>
              </p:grpSpPr>
              <p:sp>
                <p:nvSpPr>
                  <p:cNvPr id="1629" name=""/>
                  <p:cNvSpPr/>
                  <p:nvPr/>
                </p:nvSpPr>
                <p:spPr>
                  <a:xfrm>
                    <a:off x="673200" y="108000"/>
                    <a:ext cx="328320" cy="474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33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784080" y="530280"/>
                    <a:ext cx="368280" cy="474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cc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0" y="457200"/>
                    <a:ext cx="560160" cy="422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2" name=""/>
                <p:cNvSpPr/>
                <p:nvPr/>
              </p:nvSpPr>
              <p:spPr>
                <a:xfrm>
                  <a:off x="635040" y="0"/>
                  <a:ext cx="31680" cy="10522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315720" y="790560"/>
                  <a:ext cx="8226360" cy="3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9" dur="indefinite" restart="never" nodeType="tmRoot">
          <p:childTnLst>
            <p:seq>
              <p:cTn id="2200" dur="indefinite" nodeType="mainSeq">
                <p:childTnLst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179280" y="-16992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画出如图所示的三棱柱的三视图（这个三柱上下底面是正三角形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2"/>
          <a:srcRect l="0" t="0" r="67171" b="0"/>
          <a:stretch/>
        </p:blipFill>
        <p:spPr>
          <a:xfrm>
            <a:off x="826920" y="2274840"/>
            <a:ext cx="2130480" cy="2522520"/>
          </a:xfrm>
          <a:prstGeom prst="rect">
            <a:avLst/>
          </a:prstGeom>
          <a:ln w="0">
            <a:noFill/>
          </a:ln>
        </p:spPr>
      </p:pic>
      <p:sp>
        <p:nvSpPr>
          <p:cNvPr id="1636" name=""/>
          <p:cNvSpPr/>
          <p:nvPr/>
        </p:nvSpPr>
        <p:spPr>
          <a:xfrm>
            <a:off x="250920" y="44280"/>
            <a:ext cx="32400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练   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059280" y="2925720"/>
            <a:ext cx="50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棱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3995640" y="2513160"/>
            <a:ext cx="4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3995640" y="411336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156360" y="2583000"/>
            <a:ext cx="2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775560" y="2492280"/>
            <a:ext cx="936360" cy="142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2" name=""/>
          <p:cNvGrpSpPr/>
          <p:nvPr/>
        </p:nvGrpSpPr>
        <p:grpSpPr>
          <a:xfrm>
            <a:off x="4643280" y="2492280"/>
            <a:ext cx="1223640" cy="1441080"/>
            <a:chOff x="4643280" y="2492280"/>
            <a:chExt cx="1223640" cy="1441080"/>
          </a:xfrm>
        </p:grpSpPr>
        <p:sp>
          <p:nvSpPr>
            <p:cNvPr id="1643" name=""/>
            <p:cNvSpPr/>
            <p:nvPr/>
          </p:nvSpPr>
          <p:spPr>
            <a:xfrm>
              <a:off x="4643280" y="2492280"/>
              <a:ext cx="1223640" cy="1441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未知"/>
            <p:cNvSpPr/>
            <p:nvPr/>
          </p:nvSpPr>
          <p:spPr>
            <a:xfrm>
              <a:off x="5266800" y="2498400"/>
              <a:ext cx="8640" cy="1434960"/>
            </a:xfrm>
            <a:custGeom>
              <a:avLst/>
              <a:gdLst/>
              <a:ahLst/>
              <a:rect l="l" t="t" r="r" b="b"/>
              <a:pathLst>
                <a:path w="3" h="678">
                  <a:moveTo>
                    <a:pt x="3" y="0"/>
                  </a:moveTo>
                  <a:lnTo>
                    <a:pt x="0" y="678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4659480" y="4365720"/>
            <a:ext cx="1295280" cy="863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217" dur="indefinite" restart="never" nodeType="tmRoot">
          <p:childTnLst>
            <p:seq>
              <p:cTn id="2218" dur="indefinite" nodeType="mainSeq">
                <p:childTnLst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3" dur="2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8" dur="2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3" dur="20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539640" y="62064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画出半球和圆锥的三视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7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2303640" cy="1468440"/>
          </a:xfrm>
          <a:prstGeom prst="rect">
            <a:avLst/>
          </a:prstGeom>
          <a:ln w="0">
            <a:noFill/>
          </a:ln>
        </p:spPr>
      </p:pic>
      <p:pic>
        <p:nvPicPr>
          <p:cNvPr id="1648" name="" descr=""/>
          <p:cNvPicPr/>
          <p:nvPr/>
        </p:nvPicPr>
        <p:blipFill>
          <a:blip r:embed="rId3"/>
          <a:srcRect l="63881" t="0" r="0" b="11022"/>
          <a:stretch/>
        </p:blipFill>
        <p:spPr>
          <a:xfrm>
            <a:off x="6012000" y="1268280"/>
            <a:ext cx="1581120" cy="194472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108000" y="434664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半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685800" y="350028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684360" y="488808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2771640" y="3429000"/>
            <a:ext cx="2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716360" y="422280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5292720" y="371628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5292720" y="508464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7308720" y="3716280"/>
            <a:ext cx="2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1333440" y="3643200"/>
            <a:ext cx="1143000" cy="1143000"/>
            <a:chOff x="1333440" y="3643200"/>
            <a:chExt cx="1143000" cy="1143000"/>
          </a:xfrm>
        </p:grpSpPr>
        <p:sp>
          <p:nvSpPr>
            <p:cNvPr id="1658" name="m16Arc 211"/>
            <p:cNvSpPr/>
            <p:nvPr/>
          </p:nvSpPr>
          <p:spPr>
            <a:xfrm>
              <a:off x="1333440" y="3643200"/>
              <a:ext cx="1142640" cy="114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m16Line 212"/>
            <p:cNvSpPr/>
            <p:nvPr/>
          </p:nvSpPr>
          <p:spPr>
            <a:xfrm>
              <a:off x="1333440" y="4212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3214800" y="3643200"/>
            <a:ext cx="1143000" cy="1143000"/>
            <a:chOff x="3214800" y="3643200"/>
            <a:chExt cx="1143000" cy="1143000"/>
          </a:xfrm>
        </p:grpSpPr>
        <p:sp>
          <p:nvSpPr>
            <p:cNvPr id="1661" name="m16Arc 211"/>
            <p:cNvSpPr/>
            <p:nvPr/>
          </p:nvSpPr>
          <p:spPr>
            <a:xfrm>
              <a:off x="3214800" y="3643200"/>
              <a:ext cx="1142640" cy="114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2"/>
                  </a:moveTo>
                  <a:arcTo wR="10800" hR="10800" stAng="-10772052" swAng="10772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2"/>
                  </a:moveTo>
                  <a:arcTo wR="10800" hR="10800" stAng="-10772052" swAng="10772052"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m16Line 212"/>
            <p:cNvSpPr/>
            <p:nvPr/>
          </p:nvSpPr>
          <p:spPr>
            <a:xfrm>
              <a:off x="3214800" y="4212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3" name=""/>
          <p:cNvSpPr/>
          <p:nvPr/>
        </p:nvSpPr>
        <p:spPr>
          <a:xfrm>
            <a:off x="1333440" y="4724280"/>
            <a:ext cx="1152720" cy="11527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6013440" y="3500280"/>
            <a:ext cx="1008000" cy="131472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7813800" y="3500280"/>
            <a:ext cx="1008000" cy="131472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5940360" y="5084640"/>
            <a:ext cx="1152720" cy="1152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34" dur="indefinite" restart="never" nodeType="tmRoot">
          <p:childTnLst>
            <p:seq>
              <p:cTn id="2235" dur="indefinite" nodeType="mainSeq">
                <p:childTnLst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8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3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8" name="Text Box 2"/>
          <p:cNvSpPr/>
          <p:nvPr/>
        </p:nvSpPr>
        <p:spPr>
          <a:xfrm>
            <a:off x="179280" y="98100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了会画如主方体、长方体、圆柱、圆锥、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等基本几何体的三视图外，我们还将学习画出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些简单几何体组成的组合体的三视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3"/>
          <p:cNvSpPr/>
          <p:nvPr/>
        </p:nvSpPr>
        <p:spPr>
          <a:xfrm>
            <a:off x="0" y="246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0" name="Picture 4" descr="hua01"/>
          <p:cNvPicPr/>
          <p:nvPr/>
        </p:nvPicPr>
        <p:blipFill>
          <a:blip r:embed="rId3"/>
          <a:stretch/>
        </p:blipFill>
        <p:spPr>
          <a:xfrm>
            <a:off x="324000" y="6093000"/>
            <a:ext cx="576000" cy="504720"/>
          </a:xfrm>
          <a:prstGeom prst="rect">
            <a:avLst/>
          </a:prstGeom>
          <a:ln w="0">
            <a:noFill/>
          </a:ln>
        </p:spPr>
      </p:pic>
      <p:sp>
        <p:nvSpPr>
          <p:cNvPr id="1671" name="AutoShape 5"/>
          <p:cNvSpPr/>
          <p:nvPr/>
        </p:nvSpPr>
        <p:spPr>
          <a:xfrm>
            <a:off x="2050920" y="4581360"/>
            <a:ext cx="1524240" cy="1524240"/>
          </a:xfrm>
          <a:prstGeom prst="cube">
            <a:avLst>
              <a:gd name="adj" fmla="val 25000"/>
            </a:avLst>
          </a:prstGeom>
          <a:solidFill>
            <a:srgbClr val="ff0000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Line 6"/>
          <p:cNvSpPr/>
          <p:nvPr/>
        </p:nvSpPr>
        <p:spPr>
          <a:xfrm>
            <a:off x="4067280" y="5300640"/>
            <a:ext cx="1081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5724360" y="3213000"/>
            <a:ext cx="2706120" cy="3298320"/>
            <a:chOff x="5724360" y="3213000"/>
            <a:chExt cx="2706120" cy="3298320"/>
          </a:xfrm>
        </p:grpSpPr>
        <p:sp>
          <p:nvSpPr>
            <p:cNvPr id="1674" name="AutoShape 8"/>
            <p:cNvSpPr/>
            <p:nvPr/>
          </p:nvSpPr>
          <p:spPr>
            <a:xfrm>
              <a:off x="6401160" y="3997800"/>
              <a:ext cx="1183320" cy="1099800"/>
            </a:xfrm>
            <a:prstGeom prst="cube">
              <a:avLst>
                <a:gd name="adj" fmla="val 25000"/>
              </a:avLst>
            </a:prstGeom>
            <a:solidFill>
              <a:srgbClr val="ff0000">
                <a:alpha val="8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AutoShape 9"/>
            <p:cNvSpPr/>
            <p:nvPr/>
          </p:nvSpPr>
          <p:spPr>
            <a:xfrm>
              <a:off x="6062040" y="5097600"/>
              <a:ext cx="1184040" cy="1099800"/>
            </a:xfrm>
            <a:prstGeom prst="cube">
              <a:avLst>
                <a:gd name="adj" fmla="val 25000"/>
              </a:avLst>
            </a:prstGeom>
            <a:solidFill>
              <a:srgbClr val="ff0000">
                <a:alpha val="8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AutoShape 10"/>
            <p:cNvSpPr/>
            <p:nvPr/>
          </p:nvSpPr>
          <p:spPr>
            <a:xfrm>
              <a:off x="5724360" y="5411520"/>
              <a:ext cx="1184040" cy="1099800"/>
            </a:xfrm>
            <a:prstGeom prst="cube">
              <a:avLst>
                <a:gd name="adj" fmla="val 25000"/>
              </a:avLst>
            </a:prstGeom>
            <a:solidFill>
              <a:srgbClr val="ff0000">
                <a:alpha val="8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AutoShape 11"/>
            <p:cNvSpPr/>
            <p:nvPr/>
          </p:nvSpPr>
          <p:spPr>
            <a:xfrm>
              <a:off x="7246440" y="4783680"/>
              <a:ext cx="1184040" cy="1098720"/>
            </a:xfrm>
            <a:prstGeom prst="cube">
              <a:avLst>
                <a:gd name="adj" fmla="val 25000"/>
              </a:avLst>
            </a:prstGeom>
            <a:solidFill>
              <a:srgbClr val="ff0000">
                <a:alpha val="8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AutoShape 12"/>
            <p:cNvSpPr/>
            <p:nvPr/>
          </p:nvSpPr>
          <p:spPr>
            <a:xfrm>
              <a:off x="6401160" y="3213000"/>
              <a:ext cx="1183320" cy="1099800"/>
            </a:xfrm>
            <a:prstGeom prst="cube">
              <a:avLst>
                <a:gd name="adj" fmla="val 25000"/>
              </a:avLst>
            </a:prstGeom>
            <a:solidFill>
              <a:srgbClr val="ff0000">
                <a:alpha val="8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AutoShape 13"/>
            <p:cNvSpPr/>
            <p:nvPr/>
          </p:nvSpPr>
          <p:spPr>
            <a:xfrm>
              <a:off x="6062040" y="4312800"/>
              <a:ext cx="1184040" cy="1098720"/>
            </a:xfrm>
            <a:prstGeom prst="cube">
              <a:avLst>
                <a:gd name="adj" fmla="val 25000"/>
              </a:avLst>
            </a:prstGeom>
            <a:solidFill>
              <a:srgbClr val="ff0000">
                <a:alpha val="8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3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058160" cy="4042080"/>
          </a:xfrm>
          <a:prstGeom prst="rect">
            <a:avLst/>
          </a:prstGeom>
          <a:ln w="0">
            <a:noFill/>
          </a:ln>
        </p:spPr>
      </p:pic>
      <p:sp>
        <p:nvSpPr>
          <p:cNvPr id="1681" name="Text Box 4"/>
          <p:cNvSpPr/>
          <p:nvPr/>
        </p:nvSpPr>
        <p:spPr>
          <a:xfrm>
            <a:off x="1910160" y="501336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Rectangle 5"/>
          <p:cNvSpPr/>
          <p:nvPr/>
        </p:nvSpPr>
        <p:spPr>
          <a:xfrm>
            <a:off x="5883840" y="472428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>
            <a:hlinkClick r:id="rId2" action="ppaction://hlinksldjump"/>
          </p:cNvPr>
          <p:cNvSpPr/>
          <p:nvPr/>
        </p:nvSpPr>
        <p:spPr>
          <a:xfrm>
            <a:off x="1979640" y="5877000"/>
            <a:ext cx="720720" cy="7920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>
            <a:hlinkClick r:id="rId3" action="ppaction://hlinksldjump"/>
          </p:cNvPr>
          <p:cNvSpPr/>
          <p:nvPr/>
        </p:nvSpPr>
        <p:spPr>
          <a:xfrm>
            <a:off x="6012000" y="5877000"/>
            <a:ext cx="574560" cy="6476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250920" y="33336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6" name=""/>
          <p:cNvGrpSpPr/>
          <p:nvPr/>
        </p:nvGrpSpPr>
        <p:grpSpPr>
          <a:xfrm>
            <a:off x="755280" y="2707920"/>
            <a:ext cx="1852920" cy="2086200"/>
            <a:chOff x="755280" y="2707920"/>
            <a:chExt cx="1852920" cy="2086200"/>
          </a:xfrm>
        </p:grpSpPr>
        <p:grpSp>
          <p:nvGrpSpPr>
            <p:cNvPr id="1687" name=""/>
            <p:cNvGrpSpPr/>
            <p:nvPr/>
          </p:nvGrpSpPr>
          <p:grpSpPr>
            <a:xfrm>
              <a:off x="1228680" y="3142440"/>
              <a:ext cx="907920" cy="998280"/>
              <a:chOff x="1228680" y="3142440"/>
              <a:chExt cx="907920" cy="998280"/>
            </a:xfrm>
          </p:grpSpPr>
          <p:sp>
            <p:nvSpPr>
              <p:cNvPr id="1688" name="Arc 4"/>
              <p:cNvSpPr/>
              <p:nvPr/>
            </p:nvSpPr>
            <p:spPr>
              <a:xfrm flipH="1" flipV="1" rot="16200000">
                <a:off x="1531080" y="3536280"/>
                <a:ext cx="302760" cy="90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Arc 5"/>
              <p:cNvSpPr/>
              <p:nvPr/>
            </p:nvSpPr>
            <p:spPr>
              <a:xfrm flipH="1" flipV="1" rot="16200000">
                <a:off x="1397160" y="2973240"/>
                <a:ext cx="562680" cy="9000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Line 6"/>
              <p:cNvSpPr/>
              <p:nvPr/>
            </p:nvSpPr>
            <p:spPr>
              <a:xfrm>
                <a:off x="1230840" y="3345120"/>
                <a:ext cx="0" cy="494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Line 7"/>
              <p:cNvSpPr/>
              <p:nvPr/>
            </p:nvSpPr>
            <p:spPr>
              <a:xfrm>
                <a:off x="2136600" y="3345120"/>
                <a:ext cx="0" cy="494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2" name=""/>
            <p:cNvGrpSpPr/>
            <p:nvPr/>
          </p:nvGrpSpPr>
          <p:grpSpPr>
            <a:xfrm>
              <a:off x="755280" y="3795840"/>
              <a:ext cx="1852920" cy="998280"/>
              <a:chOff x="755280" y="3795840"/>
              <a:chExt cx="1852920" cy="998280"/>
            </a:xfrm>
          </p:grpSpPr>
          <p:sp>
            <p:nvSpPr>
              <p:cNvPr id="1693" name="Arc 9"/>
              <p:cNvSpPr/>
              <p:nvPr/>
            </p:nvSpPr>
            <p:spPr>
              <a:xfrm flipH="1" flipV="1" rot="16200000">
                <a:off x="1530720" y="3718800"/>
                <a:ext cx="302760" cy="18471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Arc 10"/>
              <p:cNvSpPr/>
              <p:nvPr/>
            </p:nvSpPr>
            <p:spPr>
              <a:xfrm flipH="1" flipV="1" rot="16200000">
                <a:off x="1391760" y="3158640"/>
                <a:ext cx="562680" cy="18363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Line 11"/>
              <p:cNvSpPr/>
              <p:nvPr/>
            </p:nvSpPr>
            <p:spPr>
              <a:xfrm>
                <a:off x="760680" y="3998520"/>
                <a:ext cx="0" cy="494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Line 12"/>
              <p:cNvSpPr/>
              <p:nvPr/>
            </p:nvSpPr>
            <p:spPr>
              <a:xfrm>
                <a:off x="2608200" y="3998520"/>
                <a:ext cx="0" cy="494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1446120" y="2707920"/>
              <a:ext cx="473040" cy="782280"/>
              <a:chOff x="1446120" y="2707920"/>
              <a:chExt cx="473040" cy="782280"/>
            </a:xfrm>
          </p:grpSpPr>
          <p:grpSp>
            <p:nvGrpSpPr>
              <p:cNvPr id="1698" name=""/>
              <p:cNvGrpSpPr/>
              <p:nvPr/>
            </p:nvGrpSpPr>
            <p:grpSpPr>
              <a:xfrm>
                <a:off x="1446480" y="2707920"/>
                <a:ext cx="472320" cy="261360"/>
                <a:chOff x="1446480" y="2707920"/>
                <a:chExt cx="472320" cy="261360"/>
              </a:xfrm>
            </p:grpSpPr>
            <p:sp>
              <p:nvSpPr>
                <p:cNvPr id="1699" name="Arc 15"/>
                <p:cNvSpPr/>
                <p:nvPr/>
              </p:nvSpPr>
              <p:spPr>
                <a:xfrm flipH="1" flipV="1" rot="16200000">
                  <a:off x="1616760" y="2666880"/>
                  <a:ext cx="131400" cy="47232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Arc 16"/>
                <p:cNvSpPr/>
                <p:nvPr/>
              </p:nvSpPr>
              <p:spPr>
                <a:xfrm flipH="1" flipV="1" rot="5400000">
                  <a:off x="1616760" y="2536920"/>
                  <a:ext cx="131400" cy="47232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1" name="Arc 17"/>
              <p:cNvSpPr/>
              <p:nvPr/>
            </p:nvSpPr>
            <p:spPr>
              <a:xfrm flipH="1" flipV="1" rot="16200000">
                <a:off x="1616760" y="3188520"/>
                <a:ext cx="131040" cy="47232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Line 18"/>
              <p:cNvSpPr/>
              <p:nvPr/>
            </p:nvSpPr>
            <p:spPr>
              <a:xfrm>
                <a:off x="1446480" y="2851200"/>
                <a:ext cx="0" cy="52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Line 19"/>
              <p:cNvSpPr/>
              <p:nvPr/>
            </p:nvSpPr>
            <p:spPr>
              <a:xfrm>
                <a:off x="1919160" y="2851200"/>
                <a:ext cx="0" cy="52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4" name=""/>
          <p:cNvGrpSpPr/>
          <p:nvPr/>
        </p:nvGrpSpPr>
        <p:grpSpPr>
          <a:xfrm>
            <a:off x="610920" y="981000"/>
            <a:ext cx="1079640" cy="3672000"/>
            <a:chOff x="610920" y="981000"/>
            <a:chExt cx="1079640" cy="3672000"/>
          </a:xfrm>
        </p:grpSpPr>
        <p:sp>
          <p:nvSpPr>
            <p:cNvPr id="1705" name="Line 21"/>
            <p:cNvSpPr/>
            <p:nvPr/>
          </p:nvSpPr>
          <p:spPr>
            <a:xfrm>
              <a:off x="610920" y="1630440"/>
              <a:ext cx="1079640" cy="158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Line 22"/>
            <p:cNvSpPr/>
            <p:nvPr/>
          </p:nvSpPr>
          <p:spPr>
            <a:xfrm>
              <a:off x="610920" y="1628640"/>
              <a:ext cx="936720" cy="23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Line 23"/>
            <p:cNvSpPr/>
            <p:nvPr/>
          </p:nvSpPr>
          <p:spPr>
            <a:xfrm>
              <a:off x="610920" y="1628640"/>
              <a:ext cx="648000" cy="302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Line 24"/>
            <p:cNvSpPr/>
            <p:nvPr/>
          </p:nvSpPr>
          <p:spPr>
            <a:xfrm>
              <a:off x="610920" y="1628640"/>
              <a:ext cx="79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Text Box 25"/>
            <p:cNvSpPr/>
            <p:nvPr/>
          </p:nvSpPr>
          <p:spPr>
            <a:xfrm>
              <a:off x="683640" y="981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圆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3564000" y="836640"/>
            <a:ext cx="2232000" cy="1800360"/>
            <a:chOff x="3564000" y="836640"/>
            <a:chExt cx="2232000" cy="1800360"/>
          </a:xfrm>
        </p:grpSpPr>
        <p:sp>
          <p:nvSpPr>
            <p:cNvPr id="1711" name="Rectangle 27"/>
            <p:cNvSpPr/>
            <p:nvPr/>
          </p:nvSpPr>
          <p:spPr>
            <a:xfrm>
              <a:off x="4427640" y="836640"/>
              <a:ext cx="503280" cy="649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28"/>
            <p:cNvSpPr/>
            <p:nvPr/>
          </p:nvSpPr>
          <p:spPr>
            <a:xfrm>
              <a:off x="4067280" y="1486080"/>
              <a:ext cx="1224000" cy="502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29"/>
            <p:cNvSpPr/>
            <p:nvPr/>
          </p:nvSpPr>
          <p:spPr>
            <a:xfrm>
              <a:off x="3564000" y="1989000"/>
              <a:ext cx="2232000" cy="648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6012000" y="836640"/>
            <a:ext cx="2232000" cy="1800360"/>
            <a:chOff x="6012000" y="836640"/>
            <a:chExt cx="2232000" cy="1800360"/>
          </a:xfrm>
        </p:grpSpPr>
        <p:sp>
          <p:nvSpPr>
            <p:cNvPr id="1715" name="Rectangle 31"/>
            <p:cNvSpPr/>
            <p:nvPr/>
          </p:nvSpPr>
          <p:spPr>
            <a:xfrm>
              <a:off x="6875640" y="836640"/>
              <a:ext cx="503280" cy="649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32"/>
            <p:cNvSpPr/>
            <p:nvPr/>
          </p:nvSpPr>
          <p:spPr>
            <a:xfrm>
              <a:off x="6515280" y="1486080"/>
              <a:ext cx="1224000" cy="502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33"/>
            <p:cNvSpPr/>
            <p:nvPr/>
          </p:nvSpPr>
          <p:spPr>
            <a:xfrm>
              <a:off x="6012000" y="1989000"/>
              <a:ext cx="2232000" cy="648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3635280" y="3645000"/>
            <a:ext cx="2305080" cy="2160360"/>
            <a:chOff x="3635280" y="3645000"/>
            <a:chExt cx="2305080" cy="2160360"/>
          </a:xfrm>
        </p:grpSpPr>
        <p:sp>
          <p:nvSpPr>
            <p:cNvPr id="1719" name="Oval 37"/>
            <p:cNvSpPr/>
            <p:nvPr/>
          </p:nvSpPr>
          <p:spPr>
            <a:xfrm>
              <a:off x="4500360" y="4436640"/>
              <a:ext cx="579600" cy="5616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Oval 38"/>
            <p:cNvSpPr/>
            <p:nvPr/>
          </p:nvSpPr>
          <p:spPr>
            <a:xfrm>
              <a:off x="4140000" y="4076280"/>
              <a:ext cx="1297080" cy="1296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Oval 39"/>
            <p:cNvSpPr/>
            <p:nvPr/>
          </p:nvSpPr>
          <p:spPr>
            <a:xfrm>
              <a:off x="3635280" y="3645000"/>
              <a:ext cx="2305080" cy="21603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2" name="Text Box 40"/>
          <p:cNvSpPr/>
          <p:nvPr/>
        </p:nvSpPr>
        <p:spPr>
          <a:xfrm>
            <a:off x="4332240" y="58770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俯视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>
            <a:hlinkClick r:id="rId1" action="ppaction://hlinksldjump"/>
          </p:cNvPr>
          <p:cNvSpPr/>
          <p:nvPr/>
        </p:nvSpPr>
        <p:spPr>
          <a:xfrm>
            <a:off x="7740720" y="5589720"/>
            <a:ext cx="934920" cy="718920"/>
          </a:xfrm>
          <a:prstGeom prst="star5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3995640" y="2852640"/>
            <a:ext cx="16560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主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6372360" y="2852640"/>
            <a:ext cx="165564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左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9" dur="indefinite" restart="never" nodeType="tmRoot">
          <p:childTnLst>
            <p:seq>
              <p:cTn id="2270" dur="indefinite" nodeType="mainSeq">
                <p:childTnLst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9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"/>
          <p:cNvGrpSpPr/>
          <p:nvPr/>
        </p:nvGrpSpPr>
        <p:grpSpPr>
          <a:xfrm>
            <a:off x="1979280" y="404640"/>
            <a:ext cx="2508480" cy="3338640"/>
            <a:chOff x="1979280" y="404640"/>
            <a:chExt cx="2508480" cy="3338640"/>
          </a:xfrm>
        </p:grpSpPr>
        <p:grpSp>
          <p:nvGrpSpPr>
            <p:cNvPr id="1727" name=""/>
            <p:cNvGrpSpPr/>
            <p:nvPr/>
          </p:nvGrpSpPr>
          <p:grpSpPr>
            <a:xfrm>
              <a:off x="1979280" y="404640"/>
              <a:ext cx="2508480" cy="2770560"/>
              <a:chOff x="1979280" y="404640"/>
              <a:chExt cx="2508480" cy="2770560"/>
            </a:xfrm>
          </p:grpSpPr>
          <p:sp>
            <p:nvSpPr>
              <p:cNvPr id="1728" name="AutoShape 4"/>
              <p:cNvSpPr/>
              <p:nvPr/>
            </p:nvSpPr>
            <p:spPr>
              <a:xfrm rot="10800000">
                <a:off x="1979280" y="1028880"/>
                <a:ext cx="2508120" cy="21463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Rectangle 5"/>
              <p:cNvSpPr/>
              <p:nvPr/>
            </p:nvSpPr>
            <p:spPr>
              <a:xfrm>
                <a:off x="1979640" y="404640"/>
                <a:ext cx="2508120" cy="62424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6"/>
              <p:cNvSpPr/>
              <p:nvPr/>
            </p:nvSpPr>
            <p:spPr>
              <a:xfrm>
                <a:off x="2577240" y="404640"/>
                <a:ext cx="0" cy="624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Line 7"/>
              <p:cNvSpPr/>
              <p:nvPr/>
            </p:nvSpPr>
            <p:spPr>
              <a:xfrm>
                <a:off x="3830400" y="404640"/>
                <a:ext cx="0" cy="624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Line 8"/>
              <p:cNvSpPr/>
              <p:nvPr/>
            </p:nvSpPr>
            <p:spPr>
              <a:xfrm>
                <a:off x="2577240" y="1028880"/>
                <a:ext cx="656640" cy="2146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Line 9"/>
              <p:cNvSpPr/>
              <p:nvPr/>
            </p:nvSpPr>
            <p:spPr>
              <a:xfrm flipH="1">
                <a:off x="3233880" y="1028880"/>
                <a:ext cx="596160" cy="2146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4" name="Rectangle 10"/>
            <p:cNvSpPr/>
            <p:nvPr/>
          </p:nvSpPr>
          <p:spPr>
            <a:xfrm>
              <a:off x="2706480" y="31006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Times New Roman"/>
                </a:rPr>
                <a:t>主视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5486400" y="380880"/>
            <a:ext cx="2514240" cy="3385800"/>
            <a:chOff x="5486400" y="380880"/>
            <a:chExt cx="2514240" cy="3385800"/>
          </a:xfrm>
        </p:grpSpPr>
        <p:grpSp>
          <p:nvGrpSpPr>
            <p:cNvPr id="1736" name=""/>
            <p:cNvGrpSpPr/>
            <p:nvPr/>
          </p:nvGrpSpPr>
          <p:grpSpPr>
            <a:xfrm>
              <a:off x="5486400" y="380880"/>
              <a:ext cx="2514240" cy="2819520"/>
              <a:chOff x="5486400" y="380880"/>
              <a:chExt cx="2514240" cy="2819520"/>
            </a:xfrm>
          </p:grpSpPr>
          <p:sp>
            <p:nvSpPr>
              <p:cNvPr id="1737" name="AutoShape 13"/>
              <p:cNvSpPr/>
              <p:nvPr/>
            </p:nvSpPr>
            <p:spPr>
              <a:xfrm rot="10800000">
                <a:off x="5486400" y="944640"/>
                <a:ext cx="2512800" cy="22536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Rectangle 14"/>
              <p:cNvSpPr/>
              <p:nvPr/>
            </p:nvSpPr>
            <p:spPr>
              <a:xfrm>
                <a:off x="5486400" y="380880"/>
                <a:ext cx="2514240" cy="5637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Line 15"/>
              <p:cNvSpPr/>
              <p:nvPr/>
            </p:nvSpPr>
            <p:spPr>
              <a:xfrm flipV="1">
                <a:off x="6743160" y="380880"/>
                <a:ext cx="0" cy="2819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0" name="Rectangle 16"/>
            <p:cNvSpPr/>
            <p:nvPr/>
          </p:nvSpPr>
          <p:spPr>
            <a:xfrm>
              <a:off x="6221160" y="31240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Times New Roman"/>
                </a:rPr>
                <a:t>左视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2050920" y="3962520"/>
            <a:ext cx="2444760" cy="2852280"/>
            <a:chOff x="2050920" y="3962520"/>
            <a:chExt cx="2444760" cy="2852280"/>
          </a:xfrm>
        </p:grpSpPr>
        <p:sp>
          <p:nvSpPr>
            <p:cNvPr id="1742" name="AutoShape 19"/>
            <p:cNvSpPr/>
            <p:nvPr/>
          </p:nvSpPr>
          <p:spPr>
            <a:xfrm>
              <a:off x="2050920" y="3962520"/>
              <a:ext cx="2444760" cy="2235240"/>
            </a:xfrm>
            <a:prstGeom prst="hexagon">
              <a:avLst>
                <a:gd name="adj" fmla="val 27343"/>
                <a:gd name="vf" fmla="val 11547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20"/>
            <p:cNvSpPr/>
            <p:nvPr/>
          </p:nvSpPr>
          <p:spPr>
            <a:xfrm>
              <a:off x="2790720" y="61722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Times New Roman"/>
                </a:rPr>
                <a:t>俯视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Line 21"/>
            <p:cNvSpPr/>
            <p:nvPr/>
          </p:nvSpPr>
          <p:spPr>
            <a:xfrm>
              <a:off x="2057400" y="5105520"/>
              <a:ext cx="243828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Line 22"/>
            <p:cNvSpPr/>
            <p:nvPr/>
          </p:nvSpPr>
          <p:spPr>
            <a:xfrm>
              <a:off x="2666880" y="3962520"/>
              <a:ext cx="609840" cy="11430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Line 23"/>
            <p:cNvSpPr/>
            <p:nvPr/>
          </p:nvSpPr>
          <p:spPr>
            <a:xfrm flipV="1">
              <a:off x="2666880" y="5105160"/>
              <a:ext cx="609840" cy="106668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Line 24"/>
            <p:cNvSpPr/>
            <p:nvPr/>
          </p:nvSpPr>
          <p:spPr>
            <a:xfrm flipH="1">
              <a:off x="3276360" y="3962520"/>
              <a:ext cx="609480" cy="11430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Line 25"/>
            <p:cNvSpPr/>
            <p:nvPr/>
          </p:nvSpPr>
          <p:spPr>
            <a:xfrm flipH="1" flipV="1">
              <a:off x="3276360" y="5105160"/>
              <a:ext cx="533160" cy="106668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36" dur="indefinite" restart="never" nodeType="tmRoot">
          <p:childTnLst>
            <p:seq>
              <p:cTn id="2337" dur="indefinite" nodeType="mainSeq">
                <p:childTnLst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8" dur="5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9" name=""/>
          <p:cNvGrpSpPr/>
          <p:nvPr/>
        </p:nvGrpSpPr>
        <p:grpSpPr>
          <a:xfrm>
            <a:off x="3348000" y="836640"/>
            <a:ext cx="2087640" cy="2376360"/>
            <a:chOff x="3348000" y="836640"/>
            <a:chExt cx="2087640" cy="2376360"/>
          </a:xfrm>
        </p:grpSpPr>
        <p:sp>
          <p:nvSpPr>
            <p:cNvPr id="1750" name=""/>
            <p:cNvSpPr/>
            <p:nvPr/>
          </p:nvSpPr>
          <p:spPr>
            <a:xfrm>
              <a:off x="3779640" y="836640"/>
              <a:ext cx="1224000" cy="649440"/>
            </a:xfrm>
            <a:prstGeom prst="triangle">
              <a:avLst>
                <a:gd name="adj" fmla="val 50000"/>
              </a:avLst>
            </a:prstGeom>
            <a:solidFill>
              <a:srgbClr val="bbe0e3">
                <a:alpha val="7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779640" y="1486080"/>
              <a:ext cx="1224000" cy="647640"/>
            </a:xfrm>
            <a:prstGeom prst="rect">
              <a:avLst/>
            </a:prstGeom>
            <a:solidFill>
              <a:srgbClr val="bbe0e3">
                <a:alpha val="7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3348000" y="2133720"/>
              <a:ext cx="2087640" cy="1079280"/>
            </a:xfrm>
            <a:custGeom>
              <a:avLst/>
              <a:gdLst>
                <a:gd name="textAreaLeft" fmla="*/ 407880 w 2087640"/>
                <a:gd name="textAreaRight" fmla="*/ 1679760 w 2087640"/>
                <a:gd name="textAreaTop" fmla="*/ 210960 h 1079280"/>
                <a:gd name="textAreaBottom" fmla="*/ 86832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149" y="21600"/>
                  </a:lnTo>
                  <a:lnTo>
                    <a:pt x="4451" y="21600"/>
                  </a:lnTo>
                  <a:close/>
                </a:path>
              </a:pathLst>
            </a:custGeom>
            <a:solidFill>
              <a:srgbClr val="bbe0e3">
                <a:alpha val="7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3419640" y="4365720"/>
            <a:ext cx="2087280" cy="1944720"/>
            <a:chOff x="3419640" y="4365720"/>
            <a:chExt cx="2087280" cy="1944720"/>
          </a:xfrm>
        </p:grpSpPr>
        <p:sp>
          <p:nvSpPr>
            <p:cNvPr id="1754" name=""/>
            <p:cNvSpPr/>
            <p:nvPr/>
          </p:nvSpPr>
          <p:spPr>
            <a:xfrm>
              <a:off x="3419640" y="4365720"/>
              <a:ext cx="2087280" cy="1944720"/>
            </a:xfrm>
            <a:prstGeom prst="ellipse">
              <a:avLst/>
            </a:prstGeom>
            <a:solidFill>
              <a:srgbClr val="bbe0e3">
                <a:alpha val="6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850920" y="4797360"/>
              <a:ext cx="1223640" cy="1079640"/>
            </a:xfrm>
            <a:prstGeom prst="ellipse">
              <a:avLst/>
            </a:prstGeom>
            <a:solidFill>
              <a:srgbClr val="bbe0e3">
                <a:alpha val="6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538200" y="1052640"/>
            <a:ext cx="2088720" cy="2662920"/>
            <a:chOff x="538200" y="1052640"/>
            <a:chExt cx="2088720" cy="2662920"/>
          </a:xfrm>
        </p:grpSpPr>
        <p:sp>
          <p:nvSpPr>
            <p:cNvPr id="1757" name="未知"/>
            <p:cNvSpPr/>
            <p:nvPr/>
          </p:nvSpPr>
          <p:spPr>
            <a:xfrm>
              <a:off x="538200" y="1052640"/>
              <a:ext cx="2087640" cy="2376000"/>
            </a:xfrm>
            <a:custGeom>
              <a:avLst/>
              <a:gdLst/>
              <a:ahLst/>
              <a:rect l="l" t="t" r="r" b="b"/>
              <a:pathLst>
                <a:path w="1315" h="1497">
                  <a:moveTo>
                    <a:pt x="1315" y="1497"/>
                  </a:moveTo>
                  <a:lnTo>
                    <a:pt x="1043" y="816"/>
                  </a:lnTo>
                  <a:lnTo>
                    <a:pt x="1043" y="408"/>
                  </a:lnTo>
                  <a:lnTo>
                    <a:pt x="635" y="0"/>
                  </a:lnTo>
                  <a:lnTo>
                    <a:pt x="272" y="408"/>
                  </a:lnTo>
                  <a:lnTo>
                    <a:pt x="272" y="816"/>
                  </a:lnTo>
                  <a:lnTo>
                    <a:pt x="0" y="1497"/>
                  </a:lnTo>
                </a:path>
              </a:pathLst>
            </a:custGeom>
            <a:gradFill rotWithShape="0">
              <a:gsLst>
                <a:gs pos="0">
                  <a:srgbClr val="000000">
                    <a:alpha val="27058"/>
                  </a:srgbClr>
                </a:gs>
                <a:gs pos="100000">
                  <a:srgbClr val="33f81e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 flipV="1">
              <a:off x="538200" y="3143160"/>
              <a:ext cx="2088720" cy="57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85"/>
                  </a:moveTo>
                  <a:arcTo wR="10800" hR="10800" stAng="10773029" swAng="1082697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85"/>
                  </a:moveTo>
                  <a:arcTo wR="10800" hR="10800" stAng="10773029" swAng="10826971"/>
                </a:path>
              </a:pathLst>
            </a:custGeom>
            <a:gradFill rotWithShape="0">
              <a:gsLst>
                <a:gs pos="0">
                  <a:srgbClr val="33f81e"/>
                </a:gs>
                <a:gs pos="100000">
                  <a:srgbClr val="000000">
                    <a:alpha val="24313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 flipV="1">
              <a:off x="969120" y="2202120"/>
              <a:ext cx="1223640" cy="28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73"/>
                  </a:moveTo>
                  <a:arcTo wR="10800" hR="10800" stAng="10744826" swAng="108551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73"/>
                  </a:moveTo>
                  <a:arcTo wR="10800" hR="10800" stAng="10744826" swAng="10855174"/>
                </a:path>
              </a:pathLst>
            </a:custGeom>
            <a:gradFill rotWithShape="0">
              <a:gsLst>
                <a:gs pos="0">
                  <a:srgbClr val="33f81e">
                    <a:alpha val="30196"/>
                  </a:srgbClr>
                </a:gs>
                <a:gs pos="100000">
                  <a:srgbClr val="000000">
                    <a:alpha val="24313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969120" y="1557360"/>
              <a:ext cx="1223640" cy="28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73"/>
                  </a:moveTo>
                  <a:arcTo wR="10800" hR="10800" stAng="10744826" swAng="108551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73"/>
                  </a:moveTo>
                  <a:arcTo wR="10800" hR="10800" stAng="10744826" swAng="10855174"/>
                </a:path>
              </a:pathLst>
            </a:custGeom>
            <a:gradFill rotWithShape="0">
              <a:gsLst>
                <a:gs pos="0">
                  <a:srgbClr val="33f81e">
                    <a:alpha val="26274"/>
                  </a:srgbClr>
                </a:gs>
                <a:gs pos="100000">
                  <a:srgbClr val="000000">
                    <a:alpha val="24313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1" name=""/>
          <p:cNvGrpSpPr/>
          <p:nvPr/>
        </p:nvGrpSpPr>
        <p:grpSpPr>
          <a:xfrm>
            <a:off x="5724360" y="836640"/>
            <a:ext cx="2087640" cy="2376360"/>
            <a:chOff x="5724360" y="836640"/>
            <a:chExt cx="2087640" cy="2376360"/>
          </a:xfrm>
        </p:grpSpPr>
        <p:sp>
          <p:nvSpPr>
            <p:cNvPr id="1762" name=""/>
            <p:cNvSpPr/>
            <p:nvPr/>
          </p:nvSpPr>
          <p:spPr>
            <a:xfrm>
              <a:off x="6156000" y="836640"/>
              <a:ext cx="1224000" cy="649440"/>
            </a:xfrm>
            <a:prstGeom prst="triangle">
              <a:avLst>
                <a:gd name="adj" fmla="val 50000"/>
              </a:avLst>
            </a:prstGeom>
            <a:solidFill>
              <a:srgbClr val="bbe0e3">
                <a:alpha val="7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156000" y="1486080"/>
              <a:ext cx="1224000" cy="647640"/>
            </a:xfrm>
            <a:prstGeom prst="rect">
              <a:avLst/>
            </a:prstGeom>
            <a:solidFill>
              <a:srgbClr val="bbe0e3">
                <a:alpha val="7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5724360" y="2133720"/>
              <a:ext cx="2087640" cy="1079280"/>
            </a:xfrm>
            <a:custGeom>
              <a:avLst/>
              <a:gdLst>
                <a:gd name="textAreaLeft" fmla="*/ 407880 w 2087640"/>
                <a:gd name="textAreaRight" fmla="*/ 1679760 w 2087640"/>
                <a:gd name="textAreaTop" fmla="*/ 210960 h 1079280"/>
                <a:gd name="textAreaBottom" fmla="*/ 86832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149" y="21600"/>
                  </a:lnTo>
                  <a:lnTo>
                    <a:pt x="4451" y="21600"/>
                  </a:lnTo>
                  <a:close/>
                </a:path>
              </a:pathLst>
            </a:custGeom>
            <a:solidFill>
              <a:srgbClr val="bbe0e3">
                <a:alpha val="7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5" name=""/>
          <p:cNvSpPr/>
          <p:nvPr/>
        </p:nvSpPr>
        <p:spPr>
          <a:xfrm>
            <a:off x="1138320" y="2221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画下例几何体的三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904560" y="62784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视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3861720" y="35002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视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6352560" y="35002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左视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6" dur="indefinite" restart="never" nodeType="tmRoot">
          <p:childTnLst>
            <p:seq>
              <p:cTn id="2357" dur="indefinite" nodeType="mainSeq">
                <p:childTnLst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2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7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8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95280" y="765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下图是同一本书的三个不同的视图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rcRect l="34900" t="67822" r="11591" b="13077"/>
          <a:stretch/>
        </p:blipFill>
        <p:spPr>
          <a:xfrm>
            <a:off x="1187280" y="1628640"/>
            <a:ext cx="5761080" cy="2880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562200" y="4365720"/>
            <a:ext cx="4970520" cy="2087640"/>
          </a:xfrm>
          <a:prstGeom prst="cloudCallout">
            <a:avLst>
              <a:gd name="adj1" fmla="val -46740"/>
              <a:gd name="adj2" fmla="val -70226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你能说出这三个视图分别是从哪个方向观察这本书时得到的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9" name=""/>
          <p:cNvGrpSpPr/>
          <p:nvPr/>
        </p:nvGrpSpPr>
        <p:grpSpPr>
          <a:xfrm>
            <a:off x="395280" y="1628640"/>
            <a:ext cx="2015280" cy="2734200"/>
            <a:chOff x="395280" y="1628640"/>
            <a:chExt cx="2015280" cy="2734200"/>
          </a:xfrm>
        </p:grpSpPr>
        <p:grpSp>
          <p:nvGrpSpPr>
            <p:cNvPr id="1770" name=""/>
            <p:cNvGrpSpPr/>
            <p:nvPr/>
          </p:nvGrpSpPr>
          <p:grpSpPr>
            <a:xfrm>
              <a:off x="395280" y="1991880"/>
              <a:ext cx="2015280" cy="2370960"/>
              <a:chOff x="395280" y="1991880"/>
              <a:chExt cx="2015280" cy="2370960"/>
            </a:xfrm>
          </p:grpSpPr>
          <p:sp>
            <p:nvSpPr>
              <p:cNvPr id="1771" name=""/>
              <p:cNvSpPr/>
              <p:nvPr/>
            </p:nvSpPr>
            <p:spPr>
              <a:xfrm>
                <a:off x="395280" y="1991880"/>
                <a:ext cx="2015280" cy="976320"/>
              </a:xfrm>
              <a:prstGeom prst="ellipse">
                <a:avLst/>
              </a:prstGeom>
              <a:solidFill>
                <a:srgbClr val="bbe0e3">
                  <a:alpha val="69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71760" y="3525480"/>
                <a:ext cx="1459440" cy="837360"/>
              </a:xfrm>
              <a:prstGeom prst="ellipse">
                <a:avLst/>
              </a:prstGeom>
              <a:solidFill>
                <a:srgbClr val="bbe0e3">
                  <a:alpha val="73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95280" y="2410560"/>
                <a:ext cx="276480" cy="153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H="1">
                <a:off x="2131560" y="2548800"/>
                <a:ext cx="276480" cy="139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5" name=""/>
            <p:cNvSpPr/>
            <p:nvPr/>
          </p:nvSpPr>
          <p:spPr>
            <a:xfrm>
              <a:off x="955800" y="1628640"/>
              <a:ext cx="896760" cy="840960"/>
            </a:xfrm>
            <a:prstGeom prst="ellipse">
              <a:avLst/>
            </a:prstGeom>
            <a:solidFill>
              <a:srgbClr val="333399">
                <a:alpha val="76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6" name=""/>
          <p:cNvGrpSpPr/>
          <p:nvPr/>
        </p:nvGrpSpPr>
        <p:grpSpPr>
          <a:xfrm>
            <a:off x="2987640" y="4365720"/>
            <a:ext cx="2015640" cy="1871280"/>
            <a:chOff x="2987640" y="4365720"/>
            <a:chExt cx="2015640" cy="1871280"/>
          </a:xfrm>
        </p:grpSpPr>
        <p:sp>
          <p:nvSpPr>
            <p:cNvPr id="1777" name=""/>
            <p:cNvSpPr/>
            <p:nvPr/>
          </p:nvSpPr>
          <p:spPr>
            <a:xfrm>
              <a:off x="2987640" y="4365720"/>
              <a:ext cx="2015640" cy="1871280"/>
            </a:xfrm>
            <a:prstGeom prst="donut">
              <a:avLst>
                <a:gd name="adj" fmla="val 25000"/>
              </a:avLst>
            </a:prstGeom>
            <a:solidFill>
              <a:srgbClr val="bbe0e3">
                <a:alpha val="86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323160" y="4583880"/>
              <a:ext cx="1420920" cy="139788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9" name=""/>
          <p:cNvGrpSpPr/>
          <p:nvPr/>
        </p:nvGrpSpPr>
        <p:grpSpPr>
          <a:xfrm>
            <a:off x="3132000" y="981000"/>
            <a:ext cx="2016000" cy="2447640"/>
            <a:chOff x="3132000" y="981000"/>
            <a:chExt cx="2016000" cy="2447640"/>
          </a:xfrm>
        </p:grpSpPr>
        <p:sp>
          <p:nvSpPr>
            <p:cNvPr id="1780" name=""/>
            <p:cNvSpPr/>
            <p:nvPr/>
          </p:nvSpPr>
          <p:spPr>
            <a:xfrm>
              <a:off x="3132000" y="1796040"/>
              <a:ext cx="2016000" cy="1632600"/>
            </a:xfrm>
            <a:custGeom>
              <a:avLst/>
              <a:gdLst>
                <a:gd name="textAreaLeft" fmla="*/ 337320 w 2016000"/>
                <a:gd name="textAreaRight" fmla="*/ 1678680 w 2016000"/>
                <a:gd name="textAreaTop" fmla="*/ 273240 h 1632600"/>
                <a:gd name="textAreaBottom" fmla="*/ 1359360 h 163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2" y="21600"/>
                  </a:lnTo>
                  <a:lnTo>
                    <a:pt x="3358" y="21600"/>
                  </a:lnTo>
                  <a:close/>
                </a:path>
              </a:pathLst>
            </a:custGeom>
            <a:solidFill>
              <a:srgbClr val="bbe0e3">
                <a:alpha val="7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689640" y="981000"/>
              <a:ext cx="895320" cy="815040"/>
            </a:xfrm>
            <a:prstGeom prst="ellipse">
              <a:avLst/>
            </a:prstGeom>
            <a:solidFill>
              <a:srgbClr val="bbe0e3">
                <a:alpha val="7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5724360" y="981000"/>
            <a:ext cx="2016000" cy="2447640"/>
            <a:chOff x="5724360" y="981000"/>
            <a:chExt cx="2016000" cy="2447640"/>
          </a:xfrm>
        </p:grpSpPr>
        <p:sp>
          <p:nvSpPr>
            <p:cNvPr id="1783" name=""/>
            <p:cNvSpPr/>
            <p:nvPr/>
          </p:nvSpPr>
          <p:spPr>
            <a:xfrm>
              <a:off x="5724360" y="1796040"/>
              <a:ext cx="2016000" cy="1632600"/>
            </a:xfrm>
            <a:custGeom>
              <a:avLst/>
              <a:gdLst>
                <a:gd name="textAreaLeft" fmla="*/ 337320 w 2016000"/>
                <a:gd name="textAreaRight" fmla="*/ 1678680 w 2016000"/>
                <a:gd name="textAreaTop" fmla="*/ 273240 h 1632600"/>
                <a:gd name="textAreaBottom" fmla="*/ 1359360 h 163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2" y="21600"/>
                  </a:lnTo>
                  <a:lnTo>
                    <a:pt x="3358" y="21600"/>
                  </a:lnTo>
                  <a:close/>
                </a:path>
              </a:pathLst>
            </a:custGeom>
            <a:solidFill>
              <a:srgbClr val="bbe0e3">
                <a:alpha val="8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282000" y="981000"/>
              <a:ext cx="895320" cy="815040"/>
            </a:xfrm>
            <a:prstGeom prst="ellipse">
              <a:avLst/>
            </a:prstGeom>
            <a:solidFill>
              <a:srgbClr val="bbe0e3">
                <a:alpha val="8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5" name=""/>
          <p:cNvSpPr/>
          <p:nvPr/>
        </p:nvSpPr>
        <p:spPr>
          <a:xfrm>
            <a:off x="1138320" y="2221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画下例几何体的三视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3588120" y="618480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俯视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3530520" y="4822920"/>
            <a:ext cx="935280" cy="936360"/>
          </a:xfrm>
          <a:prstGeom prst="ellipse">
            <a:avLst/>
          </a:prstGeom>
          <a:solidFill>
            <a:srgbClr val="ff0066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3660840" y="36640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视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6272280" y="364500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视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7" dur="indefinite" restart="never" nodeType="tmRoot">
          <p:childTnLst>
            <p:seq>
              <p:cTn id="2428" dur="indefinite" nodeType="mainSeq">
                <p:childTnLst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3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0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7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0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179280" y="53820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几何体的三种视图有没有错误（不考虑尺寸）？为什么？如果错了，应该怎样改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未知"/>
          <p:cNvSpPr/>
          <p:nvPr/>
        </p:nvSpPr>
        <p:spPr>
          <a:xfrm>
            <a:off x="755640" y="2131920"/>
            <a:ext cx="2448000" cy="1441440"/>
          </a:xfrm>
          <a:custGeom>
            <a:avLst/>
            <a:gdLst/>
            <a:ahLst/>
            <a:rect l="l" t="t" r="r" b="b"/>
            <a:pathLst>
              <a:path w="1542" h="908">
                <a:moveTo>
                  <a:pt x="0" y="454"/>
                </a:moveTo>
                <a:lnTo>
                  <a:pt x="0" y="908"/>
                </a:lnTo>
                <a:lnTo>
                  <a:pt x="1542" y="908"/>
                </a:lnTo>
                <a:lnTo>
                  <a:pt x="1542" y="454"/>
                </a:lnTo>
                <a:lnTo>
                  <a:pt x="1089" y="454"/>
                </a:lnTo>
                <a:lnTo>
                  <a:pt x="1089" y="0"/>
                </a:lnTo>
                <a:lnTo>
                  <a:pt x="635" y="0"/>
                </a:ln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798720" y="2602080"/>
            <a:ext cx="4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516720" y="443700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6462720" y="2637000"/>
            <a:ext cx="2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未知"/>
          <p:cNvSpPr/>
          <p:nvPr/>
        </p:nvSpPr>
        <p:spPr>
          <a:xfrm>
            <a:off x="4356000" y="2492280"/>
            <a:ext cx="1944720" cy="1297080"/>
          </a:xfrm>
          <a:custGeom>
            <a:avLst/>
            <a:gdLst/>
            <a:ahLst/>
            <a:rect l="l" t="t" r="r" b="b"/>
            <a:pathLst>
              <a:path w="1542" h="908">
                <a:moveTo>
                  <a:pt x="0" y="454"/>
                </a:moveTo>
                <a:lnTo>
                  <a:pt x="0" y="908"/>
                </a:lnTo>
                <a:lnTo>
                  <a:pt x="1542" y="908"/>
                </a:lnTo>
                <a:lnTo>
                  <a:pt x="1542" y="454"/>
                </a:lnTo>
                <a:lnTo>
                  <a:pt x="1089" y="454"/>
                </a:lnTo>
                <a:lnTo>
                  <a:pt x="1089" y="0"/>
                </a:lnTo>
                <a:lnTo>
                  <a:pt x="635" y="0"/>
                </a:ln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4327560" y="4508640"/>
            <a:ext cx="1998720" cy="1222200"/>
            <a:chOff x="4327560" y="4508640"/>
            <a:chExt cx="1998720" cy="1222200"/>
          </a:xfrm>
        </p:grpSpPr>
        <p:sp>
          <p:nvSpPr>
            <p:cNvPr id="1797" name=""/>
            <p:cNvSpPr/>
            <p:nvPr/>
          </p:nvSpPr>
          <p:spPr>
            <a:xfrm>
              <a:off x="4327560" y="4508640"/>
              <a:ext cx="1998720" cy="12222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952160" y="4508640"/>
              <a:ext cx="0" cy="1222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672160" y="4508640"/>
              <a:ext cx="0" cy="1222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0" name="未知"/>
          <p:cNvSpPr/>
          <p:nvPr/>
        </p:nvSpPr>
        <p:spPr>
          <a:xfrm>
            <a:off x="755640" y="3973680"/>
            <a:ext cx="1338120" cy="787320"/>
          </a:xfrm>
          <a:custGeom>
            <a:avLst/>
            <a:gdLst/>
            <a:ahLst/>
            <a:rect l="l" t="t" r="r" b="b"/>
            <a:pathLst>
              <a:path w="1542" h="908">
                <a:moveTo>
                  <a:pt x="0" y="454"/>
                </a:moveTo>
                <a:lnTo>
                  <a:pt x="0" y="908"/>
                </a:lnTo>
                <a:lnTo>
                  <a:pt x="1542" y="908"/>
                </a:lnTo>
                <a:lnTo>
                  <a:pt x="1542" y="454"/>
                </a:lnTo>
                <a:lnTo>
                  <a:pt x="1089" y="454"/>
                </a:lnTo>
                <a:lnTo>
                  <a:pt x="1089" y="0"/>
                </a:lnTo>
                <a:lnTo>
                  <a:pt x="635" y="0"/>
                </a:ln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2700360" y="3933720"/>
            <a:ext cx="904680" cy="9050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755640" y="5270400"/>
            <a:ext cx="1368360" cy="708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250920" y="378936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250920" y="501336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2268360" y="3716280"/>
            <a:ext cx="2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6" name=""/>
          <p:cNvGrpSpPr/>
          <p:nvPr/>
        </p:nvGrpSpPr>
        <p:grpSpPr>
          <a:xfrm>
            <a:off x="7093080" y="2492280"/>
            <a:ext cx="1008000" cy="1297080"/>
            <a:chOff x="7093080" y="2492280"/>
            <a:chExt cx="1008000" cy="1297080"/>
          </a:xfrm>
        </p:grpSpPr>
        <p:sp>
          <p:nvSpPr>
            <p:cNvPr id="1807" name=""/>
            <p:cNvSpPr/>
            <p:nvPr/>
          </p:nvSpPr>
          <p:spPr>
            <a:xfrm>
              <a:off x="7093080" y="2492280"/>
              <a:ext cx="1006920" cy="12970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093080" y="312372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9" name=""/>
          <p:cNvSpPr/>
          <p:nvPr/>
        </p:nvSpPr>
        <p:spPr>
          <a:xfrm>
            <a:off x="5483160" y="1720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主确三视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453" dur="indefinite" restart="never" nodeType="tmRoot">
          <p:childTnLst>
            <p:seq>
              <p:cTn id="2454" dur="indefinite" nodeType="mainSeq">
                <p:childTnLst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9" dur="2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7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2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5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0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3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未知"/>
          <p:cNvSpPr/>
          <p:nvPr/>
        </p:nvSpPr>
        <p:spPr>
          <a:xfrm>
            <a:off x="1042920" y="1268280"/>
            <a:ext cx="1871640" cy="1287720"/>
          </a:xfrm>
          <a:custGeom>
            <a:avLst/>
            <a:gdLst/>
            <a:ahLst/>
            <a:rect l="l" t="t" r="r" b="b"/>
            <a:pathLst>
              <a:path w="1815" h="1249">
                <a:moveTo>
                  <a:pt x="1" y="0"/>
                </a:moveTo>
                <a:lnTo>
                  <a:pt x="0" y="1249"/>
                </a:lnTo>
                <a:lnTo>
                  <a:pt x="1812" y="1249"/>
                </a:lnTo>
                <a:lnTo>
                  <a:pt x="1815" y="0"/>
                </a:lnTo>
                <a:lnTo>
                  <a:pt x="1226" y="0"/>
                </a:lnTo>
                <a:lnTo>
                  <a:pt x="1226" y="681"/>
                </a:lnTo>
                <a:lnTo>
                  <a:pt x="545" y="681"/>
                </a:lnTo>
                <a:lnTo>
                  <a:pt x="551" y="1"/>
                </a:ln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未知"/>
          <p:cNvSpPr/>
          <p:nvPr/>
        </p:nvSpPr>
        <p:spPr>
          <a:xfrm>
            <a:off x="4572000" y="333360"/>
            <a:ext cx="1871640" cy="1287360"/>
          </a:xfrm>
          <a:custGeom>
            <a:avLst/>
            <a:gdLst/>
            <a:ahLst/>
            <a:rect l="l" t="t" r="r" b="b"/>
            <a:pathLst>
              <a:path w="1815" h="1249">
                <a:moveTo>
                  <a:pt x="1" y="0"/>
                </a:moveTo>
                <a:lnTo>
                  <a:pt x="0" y="1249"/>
                </a:lnTo>
                <a:lnTo>
                  <a:pt x="1812" y="1249"/>
                </a:lnTo>
                <a:lnTo>
                  <a:pt x="1815" y="0"/>
                </a:lnTo>
                <a:lnTo>
                  <a:pt x="1226" y="0"/>
                </a:lnTo>
                <a:lnTo>
                  <a:pt x="1226" y="681"/>
                </a:lnTo>
                <a:lnTo>
                  <a:pt x="545" y="681"/>
                </a:lnTo>
                <a:lnTo>
                  <a:pt x="551" y="1"/>
                </a:lnTo>
                <a:lnTo>
                  <a:pt x="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7093080" y="333360"/>
            <a:ext cx="129528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572000" y="1989000"/>
            <a:ext cx="1873080" cy="12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140360" y="587520"/>
            <a:ext cx="3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主视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102200" y="2171880"/>
            <a:ext cx="54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俯视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6661080" y="620640"/>
            <a:ext cx="4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左视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755640" y="3754440"/>
            <a:ext cx="48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主视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828720" y="5627520"/>
            <a:ext cx="3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俯视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997440" y="3898800"/>
            <a:ext cx="2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99"/>
                </a:solidFill>
                <a:latin typeface="Times New Roman"/>
              </a:rPr>
              <a:t>左视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"/>
          <p:cNvGrpSpPr/>
          <p:nvPr/>
        </p:nvGrpSpPr>
        <p:grpSpPr>
          <a:xfrm>
            <a:off x="1547640" y="5340240"/>
            <a:ext cx="1872000" cy="1052640"/>
            <a:chOff x="1547640" y="5340240"/>
            <a:chExt cx="1872000" cy="1052640"/>
          </a:xfrm>
        </p:grpSpPr>
        <p:sp>
          <p:nvSpPr>
            <p:cNvPr id="1821" name=""/>
            <p:cNvSpPr/>
            <p:nvPr/>
          </p:nvSpPr>
          <p:spPr>
            <a:xfrm>
              <a:off x="1547640" y="5340240"/>
              <a:ext cx="1872000" cy="1052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132640" y="5340240"/>
              <a:ext cx="0" cy="10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806920" y="5340240"/>
              <a:ext cx="0" cy="10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4" name=""/>
          <p:cNvGrpSpPr/>
          <p:nvPr/>
        </p:nvGrpSpPr>
        <p:grpSpPr>
          <a:xfrm>
            <a:off x="4570560" y="3611520"/>
            <a:ext cx="1369800" cy="1368360"/>
            <a:chOff x="4570560" y="3611520"/>
            <a:chExt cx="1369800" cy="1368360"/>
          </a:xfrm>
        </p:grpSpPr>
        <p:sp>
          <p:nvSpPr>
            <p:cNvPr id="1825" name=""/>
            <p:cNvSpPr/>
            <p:nvPr/>
          </p:nvSpPr>
          <p:spPr>
            <a:xfrm>
              <a:off x="4570560" y="3611520"/>
              <a:ext cx="1368360" cy="1368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570560" y="4277880"/>
              <a:ext cx="1369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7" name="未知"/>
          <p:cNvSpPr/>
          <p:nvPr/>
        </p:nvSpPr>
        <p:spPr>
          <a:xfrm>
            <a:off x="1547640" y="3611520"/>
            <a:ext cx="1872000" cy="1287360"/>
          </a:xfrm>
          <a:custGeom>
            <a:avLst/>
            <a:gdLst/>
            <a:ahLst/>
            <a:rect l="l" t="t" r="r" b="b"/>
            <a:pathLst>
              <a:path w="1815" h="1249">
                <a:moveTo>
                  <a:pt x="1" y="0"/>
                </a:moveTo>
                <a:lnTo>
                  <a:pt x="0" y="1249"/>
                </a:lnTo>
                <a:lnTo>
                  <a:pt x="1812" y="1249"/>
                </a:lnTo>
                <a:lnTo>
                  <a:pt x="1815" y="0"/>
                </a:lnTo>
                <a:lnTo>
                  <a:pt x="1226" y="0"/>
                </a:lnTo>
                <a:lnTo>
                  <a:pt x="1226" y="681"/>
                </a:lnTo>
                <a:lnTo>
                  <a:pt x="545" y="681"/>
                </a:lnTo>
                <a:lnTo>
                  <a:pt x="551" y="1"/>
                </a:lnTo>
                <a:lnTo>
                  <a:pt x="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84" dur="indefinite" restart="never" nodeType="tmRoot">
          <p:childTnLst>
            <p:seq>
              <p:cTn id="2485" restart="whenNotActive" nodeType="interactiveSeq" fill="hold">
                <p:stCondLst>
                  <p:cond evt="onClick">
                    <p:tgtEl>
                      <p:spTgt spid="1818"/>
                    </p:tgtEl>
                  </p:cond>
                </p:stCondLst>
                <p:childTnLst>
                  <p:par>
                    <p:cTn id="2486" fill="hold">
                      <p:stCondLst>
                        <p:cond evt="onClick">
                          <p:tgtEl>
                            <p:spTgt spid="1818"/>
                          </p:tgtEl>
                        </p:cond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4" restart="whenNotActive" nodeType="interactiveSeq" fill="hold">
                <p:stCondLst>
                  <p:cond evt="onClick">
                    <p:tgtEl>
                      <p:spTgt spid="1819"/>
                    </p:tgtEl>
                  </p:cond>
                </p:stCondLst>
                <p:childTnLst>
                  <p:par>
                    <p:cTn id="2505" fill="hold">
                      <p:stCondLst>
                        <p:cond evt="onClick">
                          <p:tgtEl>
                            <p:spTgt spid="1819"/>
                          </p:tgtEl>
                        </p:cond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9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0" restart="whenNotActive" nodeType="interactiveSeq" fill="hold">
                <p:stCondLst>
                  <p:cond evt="onClick">
                    <p:tgtEl>
                      <p:spTgt spid="1817"/>
                    </p:tgtEl>
                  </p:cond>
                </p:stCondLst>
                <p:childTnLst>
                  <p:par>
                    <p:cTn id="2511" fill="hold">
                      <p:stCondLst>
                        <p:cond evt="onClick">
                          <p:tgtEl>
                            <p:spTgt spid="1817"/>
                          </p:tgtEl>
                        </p:cond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5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未知"/>
          <p:cNvSpPr/>
          <p:nvPr/>
        </p:nvSpPr>
        <p:spPr>
          <a:xfrm>
            <a:off x="755640" y="981000"/>
            <a:ext cx="1800360" cy="172728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0" y="907"/>
                </a:lnTo>
                <a:lnTo>
                  <a:pt x="908" y="907"/>
                </a:lnTo>
                <a:lnTo>
                  <a:pt x="908" y="453"/>
                </a:lnTo>
                <a:lnTo>
                  <a:pt x="454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未知"/>
          <p:cNvSpPr/>
          <p:nvPr/>
        </p:nvSpPr>
        <p:spPr>
          <a:xfrm>
            <a:off x="7394400" y="692280"/>
            <a:ext cx="1138320" cy="11808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0" y="907"/>
                </a:lnTo>
                <a:lnTo>
                  <a:pt x="908" y="907"/>
                </a:lnTo>
                <a:lnTo>
                  <a:pt x="908" y="453"/>
                </a:lnTo>
                <a:lnTo>
                  <a:pt x="454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364000" y="692280"/>
            <a:ext cx="1440000" cy="116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435640" y="2205000"/>
            <a:ext cx="1368360" cy="12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4930920" y="76500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4930920" y="231444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7020000" y="80316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917640" y="332100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900000" y="497844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2987640" y="3357720"/>
            <a:ext cx="4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1546200" y="3284640"/>
            <a:ext cx="1370160" cy="1368360"/>
            <a:chOff x="1546200" y="3284640"/>
            <a:chExt cx="1370160" cy="1368360"/>
          </a:xfrm>
        </p:grpSpPr>
        <p:sp>
          <p:nvSpPr>
            <p:cNvPr id="1839" name=""/>
            <p:cNvSpPr/>
            <p:nvPr/>
          </p:nvSpPr>
          <p:spPr>
            <a:xfrm>
              <a:off x="1546200" y="3284640"/>
              <a:ext cx="1368720" cy="1368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46200" y="3951000"/>
              <a:ext cx="1370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547640" y="4941720"/>
            <a:ext cx="1370160" cy="1368720"/>
            <a:chOff x="1547640" y="4941720"/>
            <a:chExt cx="1370160" cy="1368720"/>
          </a:xfrm>
        </p:grpSpPr>
        <p:sp>
          <p:nvSpPr>
            <p:cNvPr id="1842" name=""/>
            <p:cNvSpPr/>
            <p:nvPr/>
          </p:nvSpPr>
          <p:spPr>
            <a:xfrm>
              <a:off x="1547640" y="4941720"/>
              <a:ext cx="1368720" cy="136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547640" y="5608080"/>
              <a:ext cx="1370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4" name="未知"/>
          <p:cNvSpPr/>
          <p:nvPr/>
        </p:nvSpPr>
        <p:spPr>
          <a:xfrm>
            <a:off x="3705120" y="3284640"/>
            <a:ext cx="1366920" cy="136836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0" y="907"/>
                </a:lnTo>
                <a:lnTo>
                  <a:pt x="908" y="907"/>
                </a:lnTo>
                <a:lnTo>
                  <a:pt x="908" y="453"/>
                </a:lnTo>
                <a:lnTo>
                  <a:pt x="454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516" dur="indefinite" restart="never" nodeType="tmRoot">
          <p:childTnLst>
            <p:seq>
              <p:cTn id="2517" dur="indefinite" nodeType="mainSeq">
                <p:childTnLst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2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5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0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3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8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1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2" restart="whenNotActive" nodeType="interactiveSeq" fill="hold">
                <p:stCondLst>
                  <p:cond evt="onClick">
                    <p:tgtEl>
                      <p:spTgt spid="1836"/>
                    </p:tgtEl>
                  </p:cond>
                </p:stCondLst>
                <p:childTnLst>
                  <p:par>
                    <p:cTn id="2543" fill="hold">
                      <p:stCondLst>
                        <p:cond evt="onClick">
                          <p:tgtEl>
                            <p:spTgt spid="1836"/>
                          </p:tgtEl>
                        </p:cond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7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未知"/>
          <p:cNvSpPr/>
          <p:nvPr/>
        </p:nvSpPr>
        <p:spPr>
          <a:xfrm>
            <a:off x="755640" y="1268280"/>
            <a:ext cx="2808360" cy="1440000"/>
          </a:xfrm>
          <a:custGeom>
            <a:avLst/>
            <a:gdLst/>
            <a:ahLst/>
            <a:rect l="l" t="t" r="r" b="b"/>
            <a:pathLst>
              <a:path w="1769" h="907">
                <a:moveTo>
                  <a:pt x="0" y="0"/>
                </a:moveTo>
                <a:lnTo>
                  <a:pt x="0" y="907"/>
                </a:lnTo>
                <a:lnTo>
                  <a:pt x="1769" y="907"/>
                </a:lnTo>
                <a:lnTo>
                  <a:pt x="1769" y="0"/>
                </a:lnTo>
                <a:lnTo>
                  <a:pt x="1043" y="0"/>
                </a:lnTo>
                <a:lnTo>
                  <a:pt x="1315" y="408"/>
                </a:lnTo>
                <a:lnTo>
                  <a:pt x="454" y="408"/>
                </a:lnTo>
                <a:lnTo>
                  <a:pt x="68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未知"/>
          <p:cNvSpPr/>
          <p:nvPr/>
        </p:nvSpPr>
        <p:spPr>
          <a:xfrm>
            <a:off x="4861080" y="746280"/>
            <a:ext cx="2808000" cy="1439640"/>
          </a:xfrm>
          <a:custGeom>
            <a:avLst/>
            <a:gdLst/>
            <a:ahLst/>
            <a:rect l="l" t="t" r="r" b="b"/>
            <a:pathLst>
              <a:path w="1769" h="907">
                <a:moveTo>
                  <a:pt x="0" y="0"/>
                </a:moveTo>
                <a:lnTo>
                  <a:pt x="0" y="907"/>
                </a:lnTo>
                <a:lnTo>
                  <a:pt x="1769" y="907"/>
                </a:lnTo>
                <a:lnTo>
                  <a:pt x="1769" y="0"/>
                </a:lnTo>
                <a:lnTo>
                  <a:pt x="1043" y="0"/>
                </a:lnTo>
                <a:lnTo>
                  <a:pt x="1315" y="408"/>
                </a:lnTo>
                <a:lnTo>
                  <a:pt x="454" y="408"/>
                </a:lnTo>
                <a:lnTo>
                  <a:pt x="68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8101080" y="746280"/>
            <a:ext cx="647640" cy="1511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4861080" y="2565360"/>
            <a:ext cx="2808000" cy="811080"/>
            <a:chOff x="4861080" y="2565360"/>
            <a:chExt cx="2808000" cy="811080"/>
          </a:xfrm>
        </p:grpSpPr>
        <p:sp>
          <p:nvSpPr>
            <p:cNvPr id="1849" name=""/>
            <p:cNvSpPr/>
            <p:nvPr/>
          </p:nvSpPr>
          <p:spPr>
            <a:xfrm>
              <a:off x="4861080" y="2565360"/>
              <a:ext cx="280800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797440" y="2565360"/>
              <a:ext cx="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713280" y="2584440"/>
              <a:ext cx="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2" name=""/>
          <p:cNvSpPr/>
          <p:nvPr/>
        </p:nvSpPr>
        <p:spPr>
          <a:xfrm>
            <a:off x="4427640" y="76500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4427640" y="227664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7667640" y="1033560"/>
            <a:ext cx="2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684360" y="385920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684360" y="522936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4140360" y="3860640"/>
            <a:ext cx="2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未知"/>
          <p:cNvSpPr/>
          <p:nvPr/>
        </p:nvSpPr>
        <p:spPr>
          <a:xfrm>
            <a:off x="1187280" y="3716280"/>
            <a:ext cx="2808360" cy="1440000"/>
          </a:xfrm>
          <a:custGeom>
            <a:avLst/>
            <a:gdLst/>
            <a:ahLst/>
            <a:rect l="l" t="t" r="r" b="b"/>
            <a:pathLst>
              <a:path w="1769" h="907">
                <a:moveTo>
                  <a:pt x="0" y="0"/>
                </a:moveTo>
                <a:lnTo>
                  <a:pt x="0" y="907"/>
                </a:lnTo>
                <a:lnTo>
                  <a:pt x="1769" y="907"/>
                </a:lnTo>
                <a:lnTo>
                  <a:pt x="1769" y="0"/>
                </a:lnTo>
                <a:lnTo>
                  <a:pt x="1043" y="0"/>
                </a:lnTo>
                <a:lnTo>
                  <a:pt x="1315" y="408"/>
                </a:lnTo>
                <a:lnTo>
                  <a:pt x="454" y="408"/>
                </a:lnTo>
                <a:lnTo>
                  <a:pt x="68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1187280" y="5516640"/>
            <a:ext cx="2808360" cy="822240"/>
            <a:chOff x="1187280" y="5516640"/>
            <a:chExt cx="2808360" cy="822240"/>
          </a:xfrm>
        </p:grpSpPr>
        <p:grpSp>
          <p:nvGrpSpPr>
            <p:cNvPr id="1860" name=""/>
            <p:cNvGrpSpPr/>
            <p:nvPr/>
          </p:nvGrpSpPr>
          <p:grpSpPr>
            <a:xfrm>
              <a:off x="1187280" y="5516640"/>
              <a:ext cx="2808360" cy="811080"/>
              <a:chOff x="1187280" y="5516640"/>
              <a:chExt cx="2808360" cy="811080"/>
            </a:xfrm>
          </p:grpSpPr>
          <p:sp>
            <p:nvSpPr>
              <p:cNvPr id="1861" name=""/>
              <p:cNvSpPr/>
              <p:nvPr/>
            </p:nvSpPr>
            <p:spPr>
              <a:xfrm>
                <a:off x="1187280" y="5516640"/>
                <a:ext cx="2808360" cy="7920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124000" y="5516640"/>
                <a:ext cx="0" cy="79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3039840" y="5535720"/>
                <a:ext cx="0" cy="79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>
              <a:off x="1893600" y="5546880"/>
              <a:ext cx="0" cy="792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284280" y="5516640"/>
              <a:ext cx="0" cy="792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6" name=""/>
          <p:cNvGrpSpPr/>
          <p:nvPr/>
        </p:nvGrpSpPr>
        <p:grpSpPr>
          <a:xfrm>
            <a:off x="4643280" y="3716280"/>
            <a:ext cx="649440" cy="1441440"/>
            <a:chOff x="4643280" y="3716280"/>
            <a:chExt cx="649440" cy="1441440"/>
          </a:xfrm>
        </p:grpSpPr>
        <p:sp>
          <p:nvSpPr>
            <p:cNvPr id="1867" name=""/>
            <p:cNvSpPr/>
            <p:nvPr/>
          </p:nvSpPr>
          <p:spPr>
            <a:xfrm>
              <a:off x="4643280" y="3716280"/>
              <a:ext cx="649440" cy="1441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643280" y="4402080"/>
              <a:ext cx="649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548" dur="indefinite" restart="never" nodeType="tmRoot">
          <p:childTnLst>
            <p:seq>
              <p:cTn id="2549" dur="indefinite" nodeType="mainSeq">
                <p:childTnLst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4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未知"/>
          <p:cNvSpPr/>
          <p:nvPr/>
        </p:nvSpPr>
        <p:spPr>
          <a:xfrm>
            <a:off x="2124000" y="1413000"/>
            <a:ext cx="1440000" cy="143964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0" y="0"/>
                </a:moveTo>
                <a:lnTo>
                  <a:pt x="0" y="907"/>
                </a:lnTo>
                <a:lnTo>
                  <a:pt x="907" y="907"/>
                </a:lnTo>
                <a:lnTo>
                  <a:pt x="907" y="454"/>
                </a:lnTo>
                <a:lnTo>
                  <a:pt x="454" y="454"/>
                </a:lnTo>
                <a:lnTo>
                  <a:pt x="454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未知"/>
          <p:cNvSpPr/>
          <p:nvPr/>
        </p:nvSpPr>
        <p:spPr>
          <a:xfrm>
            <a:off x="5437080" y="1052640"/>
            <a:ext cx="1440000" cy="143964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0" y="0"/>
                </a:moveTo>
                <a:lnTo>
                  <a:pt x="0" y="907"/>
                </a:lnTo>
                <a:lnTo>
                  <a:pt x="907" y="907"/>
                </a:lnTo>
                <a:lnTo>
                  <a:pt x="907" y="454"/>
                </a:lnTo>
                <a:lnTo>
                  <a:pt x="454" y="454"/>
                </a:lnTo>
                <a:lnTo>
                  <a:pt x="454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5435640" y="2637000"/>
            <a:ext cx="1440000" cy="14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4788000" y="97776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4788000" y="2529000"/>
            <a:ext cx="50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69800" y="3284640"/>
            <a:ext cx="4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468360" y="494172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2700360" y="3284640"/>
            <a:ext cx="2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未知"/>
          <p:cNvSpPr/>
          <p:nvPr/>
        </p:nvSpPr>
        <p:spPr>
          <a:xfrm>
            <a:off x="1260360" y="3141720"/>
            <a:ext cx="1440000" cy="143964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0" y="0"/>
                </a:moveTo>
                <a:lnTo>
                  <a:pt x="0" y="907"/>
                </a:lnTo>
                <a:lnTo>
                  <a:pt x="907" y="907"/>
                </a:lnTo>
                <a:lnTo>
                  <a:pt x="907" y="454"/>
                </a:lnTo>
                <a:lnTo>
                  <a:pt x="454" y="454"/>
                </a:lnTo>
                <a:lnTo>
                  <a:pt x="454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1260360" y="4869000"/>
            <a:ext cx="1440000" cy="1439640"/>
            <a:chOff x="1260360" y="4869000"/>
            <a:chExt cx="1440000" cy="1439640"/>
          </a:xfrm>
        </p:grpSpPr>
        <p:sp>
          <p:nvSpPr>
            <p:cNvPr id="1879" name=""/>
            <p:cNvSpPr/>
            <p:nvPr/>
          </p:nvSpPr>
          <p:spPr>
            <a:xfrm>
              <a:off x="1260360" y="4869000"/>
              <a:ext cx="1440000" cy="14396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981080" y="4869000"/>
              <a:ext cx="0" cy="1439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360" y="3141720"/>
            <a:ext cx="1439640" cy="1439640"/>
            <a:chOff x="3276360" y="3141720"/>
            <a:chExt cx="1439640" cy="1439640"/>
          </a:xfrm>
        </p:grpSpPr>
        <p:sp>
          <p:nvSpPr>
            <p:cNvPr id="1882" name=""/>
            <p:cNvSpPr/>
            <p:nvPr/>
          </p:nvSpPr>
          <p:spPr>
            <a:xfrm rot="5400000">
              <a:off x="3276360" y="3141720"/>
              <a:ext cx="1439640" cy="14396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276360" y="3862080"/>
              <a:ext cx="143964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8532720" y="1054080"/>
            <a:ext cx="2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rot="5400000">
            <a:off x="7092720" y="982440"/>
            <a:ext cx="1439640" cy="14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580" dur="indefinite" restart="never" nodeType="tmRoot">
          <p:childTnLst>
            <p:seq>
              <p:cTn id="2581" dur="indefinite" nodeType="mainSeq">
                <p:childTnLst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6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9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4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7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2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5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未知"/>
          <p:cNvSpPr/>
          <p:nvPr/>
        </p:nvSpPr>
        <p:spPr>
          <a:xfrm>
            <a:off x="1258920" y="1411200"/>
            <a:ext cx="2160720" cy="1081080"/>
          </a:xfrm>
          <a:custGeom>
            <a:avLst/>
            <a:gdLst/>
            <a:ahLst/>
            <a:rect l="l" t="t" r="r" b="b"/>
            <a:pathLst>
              <a:path w="1361" h="681">
                <a:moveTo>
                  <a:pt x="0" y="0"/>
                </a:moveTo>
                <a:lnTo>
                  <a:pt x="0" y="681"/>
                </a:lnTo>
                <a:lnTo>
                  <a:pt x="1361" y="681"/>
                </a:lnTo>
                <a:lnTo>
                  <a:pt x="1361" y="0"/>
                </a:lnTo>
                <a:lnTo>
                  <a:pt x="817" y="0"/>
                </a:lnTo>
                <a:lnTo>
                  <a:pt x="680" y="272"/>
                </a:lnTo>
                <a:lnTo>
                  <a:pt x="499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未知"/>
          <p:cNvSpPr/>
          <p:nvPr/>
        </p:nvSpPr>
        <p:spPr>
          <a:xfrm>
            <a:off x="5292720" y="1160640"/>
            <a:ext cx="2160720" cy="1081080"/>
          </a:xfrm>
          <a:custGeom>
            <a:avLst/>
            <a:gdLst/>
            <a:ahLst/>
            <a:rect l="l" t="t" r="r" b="b"/>
            <a:pathLst>
              <a:path w="1361" h="681">
                <a:moveTo>
                  <a:pt x="0" y="0"/>
                </a:moveTo>
                <a:lnTo>
                  <a:pt x="0" y="681"/>
                </a:lnTo>
                <a:lnTo>
                  <a:pt x="1361" y="681"/>
                </a:lnTo>
                <a:lnTo>
                  <a:pt x="1361" y="0"/>
                </a:lnTo>
                <a:lnTo>
                  <a:pt x="817" y="0"/>
                </a:lnTo>
                <a:lnTo>
                  <a:pt x="680" y="272"/>
                </a:lnTo>
                <a:lnTo>
                  <a:pt x="499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292720" y="2529000"/>
            <a:ext cx="2158920" cy="107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4788000" y="108900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4788000" y="245736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108000" y="285264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181080" y="472608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2986200" y="2998800"/>
            <a:ext cx="2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未知"/>
          <p:cNvSpPr/>
          <p:nvPr/>
        </p:nvSpPr>
        <p:spPr>
          <a:xfrm>
            <a:off x="681120" y="2997360"/>
            <a:ext cx="2160360" cy="1081080"/>
          </a:xfrm>
          <a:custGeom>
            <a:avLst/>
            <a:gdLst/>
            <a:ahLst/>
            <a:rect l="l" t="t" r="r" b="b"/>
            <a:pathLst>
              <a:path w="1361" h="681">
                <a:moveTo>
                  <a:pt x="0" y="0"/>
                </a:moveTo>
                <a:lnTo>
                  <a:pt x="0" y="681"/>
                </a:lnTo>
                <a:lnTo>
                  <a:pt x="1361" y="681"/>
                </a:lnTo>
                <a:lnTo>
                  <a:pt x="1361" y="0"/>
                </a:lnTo>
                <a:lnTo>
                  <a:pt x="817" y="0"/>
                </a:lnTo>
                <a:lnTo>
                  <a:pt x="662" y="275"/>
                </a:lnTo>
                <a:lnTo>
                  <a:pt x="499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681120" y="4797360"/>
            <a:ext cx="2158920" cy="1096920"/>
            <a:chOff x="681120" y="4797360"/>
            <a:chExt cx="2158920" cy="1096920"/>
          </a:xfrm>
        </p:grpSpPr>
        <p:sp>
          <p:nvSpPr>
            <p:cNvPr id="1896" name=""/>
            <p:cNvSpPr/>
            <p:nvPr/>
          </p:nvSpPr>
          <p:spPr>
            <a:xfrm>
              <a:off x="681120" y="4797360"/>
              <a:ext cx="2158920" cy="10796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760760" y="4797360"/>
              <a:ext cx="0" cy="1081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976400" y="4811760"/>
              <a:ext cx="0" cy="1081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544760" y="4813200"/>
              <a:ext cx="0" cy="1081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3560760" y="2997360"/>
            <a:ext cx="1152360" cy="1079280"/>
            <a:chOff x="3560760" y="2997360"/>
            <a:chExt cx="1152360" cy="1079280"/>
          </a:xfrm>
        </p:grpSpPr>
        <p:sp>
          <p:nvSpPr>
            <p:cNvPr id="1901" name=""/>
            <p:cNvSpPr/>
            <p:nvPr/>
          </p:nvSpPr>
          <p:spPr>
            <a:xfrm>
              <a:off x="3560760" y="2997360"/>
              <a:ext cx="1152360" cy="1079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560760" y="3428640"/>
              <a:ext cx="11523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3" name=""/>
          <p:cNvSpPr/>
          <p:nvPr/>
        </p:nvSpPr>
        <p:spPr>
          <a:xfrm>
            <a:off x="7738920" y="1160640"/>
            <a:ext cx="1152720" cy="107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7903080" y="2492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606" dur="indefinite" restart="never" nodeType="tmRoot">
          <p:childTnLst>
            <p:seq>
              <p:cTn id="2607" dur="indefinite" nodeType="mainSeq">
                <p:childTnLst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2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5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0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3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8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1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"/>
          <p:cNvSpPr/>
          <p:nvPr/>
        </p:nvSpPr>
        <p:spPr>
          <a:xfrm>
            <a:off x="324000" y="863640"/>
            <a:ext cx="60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画出下列立体图形的三视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304920" y="323388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指出左面三个平面图形是右面这个物体的三视图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哪个视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2590920" y="4419720"/>
            <a:ext cx="1371600" cy="1218960"/>
            <a:chOff x="2590920" y="4419720"/>
            <a:chExt cx="1371600" cy="1218960"/>
          </a:xfrm>
        </p:grpSpPr>
        <p:sp>
          <p:nvSpPr>
            <p:cNvPr id="1908" name=""/>
            <p:cNvSpPr/>
            <p:nvPr/>
          </p:nvSpPr>
          <p:spPr>
            <a:xfrm flipV="1">
              <a:off x="2590920" y="4419360"/>
              <a:ext cx="1371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>
              <a:off x="2590920" y="4419720"/>
              <a:ext cx="68580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4419720"/>
            <a:ext cx="1371600" cy="1218960"/>
            <a:chOff x="4800600" y="4419720"/>
            <a:chExt cx="1371600" cy="1218960"/>
          </a:xfrm>
        </p:grpSpPr>
        <p:sp>
          <p:nvSpPr>
            <p:cNvPr id="1911" name=""/>
            <p:cNvSpPr/>
            <p:nvPr/>
          </p:nvSpPr>
          <p:spPr>
            <a:xfrm>
              <a:off x="4800600" y="5029200"/>
              <a:ext cx="1371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800600" y="4419720"/>
              <a:ext cx="68580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457200" y="4419720"/>
            <a:ext cx="1371600" cy="1218960"/>
            <a:chOff x="457200" y="4419720"/>
            <a:chExt cx="1371600" cy="1218960"/>
          </a:xfrm>
        </p:grpSpPr>
        <p:sp>
          <p:nvSpPr>
            <p:cNvPr id="1914" name=""/>
            <p:cNvSpPr/>
            <p:nvPr/>
          </p:nvSpPr>
          <p:spPr>
            <a:xfrm>
              <a:off x="457200" y="5029200"/>
              <a:ext cx="1371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57200" y="4419720"/>
              <a:ext cx="68580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6" name=""/>
          <p:cNvSpPr/>
          <p:nvPr/>
        </p:nvSpPr>
        <p:spPr>
          <a:xfrm>
            <a:off x="7164360" y="4365720"/>
            <a:ext cx="876240" cy="75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6943680" y="5105520"/>
            <a:ext cx="905040" cy="75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7837560" y="4924440"/>
            <a:ext cx="876240" cy="75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304920" y="58118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2438280" y="5791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4495680" y="579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762120" y="5791320"/>
            <a:ext cx="12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主视图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895480" y="579132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俯视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876920" y="5791320"/>
            <a:ext cx="15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左视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2760" cy="716040"/>
          </a:xfrm>
          <a:prstGeom prst="rect">
            <a:avLst/>
          </a:prstGeom>
          <a:ln w="0">
            <a:noFill/>
          </a:ln>
        </p:spPr>
      </p:pic>
      <p:sp>
        <p:nvSpPr>
          <p:cNvPr id="1926" name=""/>
          <p:cNvSpPr/>
          <p:nvPr/>
        </p:nvSpPr>
        <p:spPr>
          <a:xfrm>
            <a:off x="547560" y="0"/>
            <a:ext cx="230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7" name=""/>
          <p:cNvGrpSpPr/>
          <p:nvPr/>
        </p:nvGrpSpPr>
        <p:grpSpPr>
          <a:xfrm>
            <a:off x="1828800" y="1371600"/>
            <a:ext cx="957240" cy="1771560"/>
            <a:chOff x="1828800" y="1371600"/>
            <a:chExt cx="957240" cy="1771560"/>
          </a:xfrm>
        </p:grpSpPr>
        <p:sp>
          <p:nvSpPr>
            <p:cNvPr id="1928" name=""/>
            <p:cNvSpPr/>
            <p:nvPr/>
          </p:nvSpPr>
          <p:spPr>
            <a:xfrm>
              <a:off x="1828800" y="2088720"/>
              <a:ext cx="957240" cy="1054440"/>
            </a:xfrm>
            <a:prstGeom prst="can">
              <a:avLst>
                <a:gd name="adj" fmla="val 28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9" name=""/>
            <p:cNvGrpSpPr/>
            <p:nvPr/>
          </p:nvGrpSpPr>
          <p:grpSpPr>
            <a:xfrm>
              <a:off x="1828800" y="1371600"/>
              <a:ext cx="957240" cy="1012320"/>
              <a:chOff x="1828800" y="1371600"/>
              <a:chExt cx="957240" cy="1012320"/>
            </a:xfrm>
          </p:grpSpPr>
          <p:sp>
            <p:nvSpPr>
              <p:cNvPr id="1930" name=""/>
              <p:cNvSpPr/>
              <p:nvPr/>
            </p:nvSpPr>
            <p:spPr>
              <a:xfrm>
                <a:off x="1828800" y="1371600"/>
                <a:ext cx="957240" cy="885600"/>
              </a:xfrm>
              <a:prstGeom prst="flowChartExtra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828800" y="2130840"/>
                <a:ext cx="957240" cy="253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2" name=""/>
          <p:cNvGrpSpPr/>
          <p:nvPr/>
        </p:nvGrpSpPr>
        <p:grpSpPr>
          <a:xfrm>
            <a:off x="4724280" y="1447920"/>
            <a:ext cx="1331640" cy="1618920"/>
            <a:chOff x="4724280" y="1447920"/>
            <a:chExt cx="1331640" cy="1618920"/>
          </a:xfrm>
        </p:grpSpPr>
        <p:sp>
          <p:nvSpPr>
            <p:cNvPr id="1933" name=""/>
            <p:cNvSpPr/>
            <p:nvPr/>
          </p:nvSpPr>
          <p:spPr>
            <a:xfrm>
              <a:off x="4724280" y="1897560"/>
              <a:ext cx="1331640" cy="1169280"/>
            </a:xfrm>
            <a:prstGeom prst="can">
              <a:avLst>
                <a:gd name="adj" fmla="val 44870"/>
              </a:avLst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037120" y="1447920"/>
              <a:ext cx="704880" cy="854640"/>
            </a:xfrm>
            <a:prstGeom prst="can">
              <a:avLst>
                <a:gd name="adj" fmla="val 41666"/>
              </a:avLst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2" dur="indefinite" restart="never" nodeType="tmRoot">
          <p:childTnLst>
            <p:seq>
              <p:cTn id="2633" dur="indefinite" nodeType="mainSeq">
                <p:childTnLst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8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3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8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5" name="ShockwaveFlash1"/>
          <p:cNvGraphicFramePr/>
          <p:nvPr/>
        </p:nvGraphicFramePr>
        <p:xfrm>
          <a:off x="0" y="0"/>
          <a:ext cx="57340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3408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37" name=""/>
          <p:cNvSpPr/>
          <p:nvPr/>
        </p:nvSpPr>
        <p:spPr>
          <a:xfrm>
            <a:off x="5734080" y="247680"/>
            <a:ext cx="312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我相信你一定能画出这个复杂几何体的三视图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9" dur="indefinite" restart="never" nodeType="tmRoot">
          <p:childTnLst>
            <p:seq>
              <p:cTn id="2650" dur="indefinite" nodeType="mainSeq">
                <p:childTnLst>
                  <p:par>
                    <p:cTn id="2651" fill="hold">
                      <p:stCondLst>
                        <p:cond delay="0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5" dur="20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8" name=""/>
          <p:cNvGrpSpPr/>
          <p:nvPr/>
        </p:nvGrpSpPr>
        <p:grpSpPr>
          <a:xfrm>
            <a:off x="609480" y="2819160"/>
            <a:ext cx="1685880" cy="1871640"/>
            <a:chOff x="609480" y="2819160"/>
            <a:chExt cx="1685880" cy="1871640"/>
          </a:xfrm>
        </p:grpSpPr>
        <p:sp>
          <p:nvSpPr>
            <p:cNvPr id="1939" name=""/>
            <p:cNvSpPr/>
            <p:nvPr/>
          </p:nvSpPr>
          <p:spPr>
            <a:xfrm rot="16200000">
              <a:off x="516600" y="2912040"/>
              <a:ext cx="1871640" cy="1685880"/>
            </a:xfrm>
            <a:prstGeom prst="flowChartDelay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296000" y="3196440"/>
              <a:ext cx="499320" cy="49932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ffff"/>
                </a:gs>
                <a:gs pos="100000">
                  <a:srgbClr val="0000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 rot="1917000">
              <a:off x="1437480" y="3222720"/>
              <a:ext cx="374040" cy="217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4284720" y="2637000"/>
            <a:ext cx="1620720" cy="1800000"/>
            <a:chOff x="4284720" y="2637000"/>
            <a:chExt cx="1620720" cy="1800000"/>
          </a:xfrm>
        </p:grpSpPr>
        <p:sp>
          <p:nvSpPr>
            <p:cNvPr id="1943" name=""/>
            <p:cNvSpPr/>
            <p:nvPr/>
          </p:nvSpPr>
          <p:spPr>
            <a:xfrm rot="16200000">
              <a:off x="4195080" y="2726640"/>
              <a:ext cx="1800000" cy="1620720"/>
            </a:xfrm>
            <a:prstGeom prst="flowChartDelay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897080" y="2999520"/>
              <a:ext cx="407160" cy="4078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5" name=""/>
          <p:cNvGrpSpPr/>
          <p:nvPr/>
        </p:nvGrpSpPr>
        <p:grpSpPr>
          <a:xfrm>
            <a:off x="6948360" y="2708280"/>
            <a:ext cx="1224000" cy="1657440"/>
            <a:chOff x="6948360" y="2708280"/>
            <a:chExt cx="1224000" cy="1657440"/>
          </a:xfrm>
        </p:grpSpPr>
        <p:sp>
          <p:nvSpPr>
            <p:cNvPr id="1946" name=""/>
            <p:cNvSpPr/>
            <p:nvPr/>
          </p:nvSpPr>
          <p:spPr>
            <a:xfrm>
              <a:off x="6948360" y="2708280"/>
              <a:ext cx="1224000" cy="16574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48360" y="2974320"/>
              <a:ext cx="12240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948360" y="3411000"/>
              <a:ext cx="12240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4284360" y="4941720"/>
            <a:ext cx="1655640" cy="1224000"/>
            <a:chOff x="4284360" y="4941720"/>
            <a:chExt cx="1655640" cy="1224000"/>
          </a:xfrm>
        </p:grpSpPr>
        <p:sp>
          <p:nvSpPr>
            <p:cNvPr id="1950" name=""/>
            <p:cNvSpPr/>
            <p:nvPr/>
          </p:nvSpPr>
          <p:spPr>
            <a:xfrm rot="5400000">
              <a:off x="4500000" y="4725720"/>
              <a:ext cx="1224000" cy="16556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369400" y="4941720"/>
              <a:ext cx="0" cy="122400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816080" y="4941720"/>
              <a:ext cx="0" cy="122400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3" name=""/>
          <p:cNvSpPr/>
          <p:nvPr/>
        </p:nvSpPr>
        <p:spPr>
          <a:xfrm>
            <a:off x="3638520" y="299736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635280" y="490860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6372360" y="3033720"/>
            <a:ext cx="2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457200" y="7621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画出下列几何体的三种视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656" dur="indefinite" restart="never" nodeType="tmRoot">
          <p:childTnLst>
            <p:seq>
              <p:cTn id="2657" dur="indefinite" nodeType="mainSeq">
                <p:childTnLst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2700360" y="3645000"/>
            <a:ext cx="2881080" cy="2808360"/>
            <a:chOff x="2700360" y="3645000"/>
            <a:chExt cx="2881080" cy="2808360"/>
          </a:xfrm>
        </p:grpSpPr>
        <p:sp>
          <p:nvSpPr>
            <p:cNvPr id="407" name=""/>
            <p:cNvSpPr/>
            <p:nvPr/>
          </p:nvSpPr>
          <p:spPr>
            <a:xfrm>
              <a:off x="2700360" y="3645000"/>
              <a:ext cx="2161080" cy="2063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5400000">
              <a:off x="3814560" y="4688280"/>
              <a:ext cx="2808360" cy="721440"/>
            </a:xfrm>
            <a:prstGeom prst="parallelogram">
              <a:avLst>
                <a:gd name="adj" fmla="val 97318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 rot="21580800">
              <a:off x="2703240" y="5715000"/>
              <a:ext cx="2876040" cy="693720"/>
            </a:xfrm>
            <a:prstGeom prst="parallelogram">
              <a:avLst>
                <a:gd name="adj" fmla="val 10364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 rot="5400000">
            <a:off x="4709160" y="4804560"/>
            <a:ext cx="790560" cy="201600"/>
          </a:xfrm>
          <a:prstGeom prst="parallelogram">
            <a:avLst>
              <a:gd name="adj" fmla="val 9211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rot="10800000">
            <a:off x="3487680" y="5805360"/>
            <a:ext cx="719280" cy="216000"/>
          </a:xfrm>
          <a:prstGeom prst="parallelogram">
            <a:avLst>
              <a:gd name="adj" fmla="val 91143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492360" y="4510080"/>
            <a:ext cx="720720" cy="792000"/>
            <a:chOff x="3492360" y="4510080"/>
            <a:chExt cx="720720" cy="792000"/>
          </a:xfrm>
        </p:grpSpPr>
        <p:sp>
          <p:nvSpPr>
            <p:cNvPr id="413" name=""/>
            <p:cNvSpPr/>
            <p:nvPr/>
          </p:nvSpPr>
          <p:spPr>
            <a:xfrm flipH="1">
              <a:off x="3493800" y="4510080"/>
              <a:ext cx="719280" cy="792000"/>
            </a:xfrm>
            <a:prstGeom prst="cube">
              <a:avLst>
                <a:gd name="adj" fmla="val 250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92360" y="51148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3997080" y="4510080"/>
              <a:ext cx="1800" cy="604800"/>
            </a:xfrm>
            <a:custGeom>
              <a:avLst/>
              <a:gdLst/>
              <a:ahLst/>
              <a:rect l="l" t="t" r="r" b="b"/>
              <a:pathLst>
                <a:path w="1" h="381">
                  <a:moveTo>
                    <a:pt x="0" y="0"/>
                  </a:moveTo>
                  <a:lnTo>
                    <a:pt x="1" y="3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4008240" y="5114880"/>
              <a:ext cx="204840" cy="187200"/>
            </a:xfrm>
            <a:custGeom>
              <a:avLst/>
              <a:gdLst/>
              <a:ahLst/>
              <a:rect l="l" t="t" r="r" b="b"/>
              <a:pathLst>
                <a:path w="129" h="118">
                  <a:moveTo>
                    <a:pt x="0" y="0"/>
                  </a:moveTo>
                  <a:lnTo>
                    <a:pt x="129" y="1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2867040" y="3789360"/>
            <a:ext cx="504720" cy="647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24240" y="46911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40360" y="451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006800" y="45100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25880" y="51004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27480" y="530064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未知"/>
          <p:cNvSpPr/>
          <p:nvPr/>
        </p:nvSpPr>
        <p:spPr>
          <a:xfrm>
            <a:off x="3670200" y="5313240"/>
            <a:ext cx="7920" cy="725760"/>
          </a:xfrm>
          <a:custGeom>
            <a:avLst/>
            <a:gdLst/>
            <a:ahLst/>
            <a:rect l="l" t="t" r="r" b="b"/>
            <a:pathLst>
              <a:path w="5" h="457">
                <a:moveTo>
                  <a:pt x="0" y="0"/>
                </a:moveTo>
                <a:lnTo>
                  <a:pt x="5" y="457"/>
                </a:lnTo>
              </a:path>
            </a:pathLst>
          </a:custGeom>
          <a:noFill/>
          <a:ln w="255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未知"/>
          <p:cNvSpPr/>
          <p:nvPr/>
        </p:nvSpPr>
        <p:spPr>
          <a:xfrm>
            <a:off x="4199040" y="5315040"/>
            <a:ext cx="4680" cy="714240"/>
          </a:xfrm>
          <a:custGeom>
            <a:avLst/>
            <a:gdLst/>
            <a:ahLst/>
            <a:rect l="l" t="t" r="r" b="b"/>
            <a:pathLst>
              <a:path w="3" h="450">
                <a:moveTo>
                  <a:pt x="3" y="0"/>
                </a:moveTo>
                <a:lnTo>
                  <a:pt x="0" y="450"/>
                </a:lnTo>
              </a:path>
            </a:pathLst>
          </a:custGeom>
          <a:noFill/>
          <a:ln w="255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未知"/>
          <p:cNvSpPr/>
          <p:nvPr/>
        </p:nvSpPr>
        <p:spPr>
          <a:xfrm>
            <a:off x="3494160" y="5110200"/>
            <a:ext cx="4680" cy="695160"/>
          </a:xfrm>
          <a:custGeom>
            <a:avLst/>
            <a:gdLst/>
            <a:ahLst/>
            <a:rect l="l" t="t" r="r" b="b"/>
            <a:pathLst>
              <a:path w="3" h="438">
                <a:moveTo>
                  <a:pt x="3" y="0"/>
                </a:moveTo>
                <a:lnTo>
                  <a:pt x="0" y="438"/>
                </a:lnTo>
              </a:path>
            </a:pathLst>
          </a:custGeom>
          <a:noFill/>
          <a:ln w="255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95640" y="5084640"/>
            <a:ext cx="0" cy="720720"/>
          </a:xfrm>
          <a:prstGeom prst="line">
            <a:avLst/>
          </a:prstGeom>
          <a:ln w="255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未知"/>
          <p:cNvSpPr/>
          <p:nvPr/>
        </p:nvSpPr>
        <p:spPr>
          <a:xfrm>
            <a:off x="2870280" y="3800520"/>
            <a:ext cx="636480" cy="718920"/>
          </a:xfrm>
          <a:custGeom>
            <a:avLst/>
            <a:gdLst/>
            <a:ahLst/>
            <a:rect l="l" t="t" r="r" b="b"/>
            <a:pathLst>
              <a:path w="401" h="453">
                <a:moveTo>
                  <a:pt x="401" y="453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未知"/>
          <p:cNvSpPr/>
          <p:nvPr/>
        </p:nvSpPr>
        <p:spPr>
          <a:xfrm>
            <a:off x="2874960" y="4433760"/>
            <a:ext cx="619200" cy="679680"/>
          </a:xfrm>
          <a:custGeom>
            <a:avLst/>
            <a:gdLst/>
            <a:ahLst/>
            <a:rect l="l" t="t" r="r" b="b"/>
            <a:pathLst>
              <a:path w="390" h="428">
                <a:moveTo>
                  <a:pt x="390" y="428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3368160" y="3789360"/>
            <a:ext cx="660600" cy="7207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未知"/>
          <p:cNvSpPr/>
          <p:nvPr/>
        </p:nvSpPr>
        <p:spPr>
          <a:xfrm>
            <a:off x="3360600" y="4433760"/>
            <a:ext cx="851040" cy="866880"/>
          </a:xfrm>
          <a:custGeom>
            <a:avLst/>
            <a:gdLst/>
            <a:ahLst/>
            <a:rect l="l" t="t" r="r" b="b"/>
            <a:pathLst>
              <a:path w="536" h="546">
                <a:moveTo>
                  <a:pt x="0" y="0"/>
                </a:moveTo>
                <a:lnTo>
                  <a:pt x="536" y="546"/>
                </a:lnTo>
              </a:path>
            </a:pathLst>
          </a:custGeom>
          <a:noFill/>
          <a:ln w="25560">
            <a:solidFill>
              <a:srgbClr val="0099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11640" y="451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2200" y="83664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我们用三个互相垂直的平面（例如墙角处的三面墙壁）作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投影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3840" y="1973160"/>
            <a:ext cx="47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主对着我们的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主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26938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主面下方的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水平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427640" y="2637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右边的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左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0360" y="5300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48360" y="5516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左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60148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水平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90920" y="37400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9961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俯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146560" y="4653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左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859280" y="3500280"/>
            <a:ext cx="2016000" cy="459720"/>
            <a:chOff x="4859280" y="3500280"/>
            <a:chExt cx="2016000" cy="459720"/>
          </a:xfrm>
        </p:grpSpPr>
        <p:sp>
          <p:nvSpPr>
            <p:cNvPr id="443" name=""/>
            <p:cNvSpPr/>
            <p:nvPr/>
          </p:nvSpPr>
          <p:spPr>
            <a:xfrm>
              <a:off x="5719320" y="3500280"/>
              <a:ext cx="115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投影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59280" y="3657600"/>
              <a:ext cx="900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395280" y="1916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物体（例如一个长方体）在三个投影面内同时进行主投影，在主面内得到的由前向后观察物体的视图，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主视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0920" y="3357720"/>
            <a:ext cx="25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水平面内得到的由上向下观察物体的视图，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俯视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373800" y="4149720"/>
            <a:ext cx="237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左面内得到由左向右观察物体的视图，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左视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539640" y="384120"/>
            <a:ext cx="71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本几何体的三视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0" y="990720"/>
            <a:ext cx="929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正方体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三视图都是</a:t>
            </a: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正方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（三视图</a:t>
            </a: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都相同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0" y="1676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圆柱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三视图中有两个是</a:t>
            </a: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长方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，另一个是</a:t>
            </a: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圆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（三视图中有</a:t>
            </a: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两个相同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304920" y="27432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圆锥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三视图中有两个是</a:t>
            </a: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等腰三角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，另一个是</a:t>
            </a: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圆和一个点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三视图中有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两个相同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380880" y="3962520"/>
            <a:ext cx="746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四</a:t>
            </a: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棱锥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三视图中有两个是</a:t>
            </a: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三角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，另一个是</a:t>
            </a: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矩形和它的对角线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80880" y="50292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球体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三视图都是</a:t>
            </a:r>
            <a:r>
              <a:rPr b="1" lang="zh-CN" sz="3000" spc="-1" strike="noStrike">
                <a:solidFill>
                  <a:srgbClr val="ffcc00"/>
                </a:solidFill>
                <a:latin typeface="Times New Roman"/>
              </a:rPr>
              <a:t>圆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黑体"/>
              </a:rPr>
              <a:t>（三视图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  <a:ea typeface="黑体"/>
              </a:rPr>
              <a:t>都相同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2" dur="indefinite" restart="never" nodeType="tmRoot">
          <p:childTnLst>
            <p:seq>
              <p:cTn id="2683" dur="indefinite" nodeType="mainSeq">
                <p:childTnLst>
                  <p:par>
                    <p:cTn id="2684" fill="hold">
                      <p:stCondLst>
                        <p:cond delay="indefinite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4" dur="20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9" dur="5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4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0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ShockwaveFlash1"/>
          <p:cNvGraphicFramePr/>
          <p:nvPr/>
        </p:nvGraphicFramePr>
        <p:xfrm>
          <a:off x="0" y="990720"/>
          <a:ext cx="9144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6172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441360" y="0"/>
            <a:ext cx="78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起来学习简单物体的三视图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nextslide"/>
            <a:hlinkClick r:id="rId3"/>
          </p:cNvPr>
          <p:cNvSpPr/>
          <p:nvPr/>
        </p:nvSpPr>
        <p:spPr>
          <a:xfrm>
            <a:off x="8686800" y="655308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8307360" y="228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425920" y="1494000"/>
            <a:ext cx="3718080" cy="3535200"/>
          </a:xfrm>
          <a:prstGeom prst="bevel">
            <a:avLst>
              <a:gd name="adj" fmla="val 1310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rot="10800000">
            <a:off x="340200" y="1487520"/>
            <a:ext cx="4995720" cy="3781440"/>
          </a:xfrm>
          <a:prstGeom prst="cube">
            <a:avLst>
              <a:gd name="adj" fmla="val 25023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4271760" y="3271680"/>
            <a:ext cx="1042920" cy="262080"/>
          </a:xfrm>
          <a:prstGeom prst="parallelogram">
            <a:avLst>
              <a:gd name="adj" fmla="val 97513"/>
            </a:avLst>
          </a:prstGeom>
          <a:solidFill>
            <a:srgbClr val="8fe991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077200" y="4778280"/>
            <a:ext cx="1497240" cy="263520"/>
          </a:xfrm>
          <a:prstGeom prst="parallelogram">
            <a:avLst>
              <a:gd name="adj" fmla="val 100613"/>
            </a:avLst>
          </a:prstGeom>
          <a:solidFill>
            <a:srgbClr val="8fe991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197000" y="1990800"/>
            <a:ext cx="1228680" cy="776160"/>
          </a:xfrm>
          <a:prstGeom prst="rect">
            <a:avLst/>
          </a:prstGeom>
          <a:solidFill>
            <a:srgbClr val="84e886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197000" y="2754360"/>
            <a:ext cx="890640" cy="919080"/>
          </a:xfrm>
          <a:custGeom>
            <a:avLst/>
            <a:gdLst/>
            <a:ahLst/>
            <a:rect l="l" t="t" r="r" b="b"/>
            <a:pathLst>
              <a:path w="747" h="729">
                <a:moveTo>
                  <a:pt x="747" y="729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422440" y="2766960"/>
            <a:ext cx="885960" cy="905040"/>
          </a:xfrm>
          <a:custGeom>
            <a:avLst/>
            <a:gdLst/>
            <a:ahLst/>
            <a:rect l="l" t="t" r="r" b="b"/>
            <a:pathLst>
              <a:path w="732" h="732">
                <a:moveTo>
                  <a:pt x="732" y="732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95560" y="1986120"/>
            <a:ext cx="901440" cy="903240"/>
          </a:xfrm>
          <a:custGeom>
            <a:avLst/>
            <a:gdLst/>
            <a:ahLst/>
            <a:rect l="l" t="t" r="r" b="b"/>
            <a:pathLst>
              <a:path w="751" h="734">
                <a:moveTo>
                  <a:pt x="751" y="734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2420640" y="1994040"/>
            <a:ext cx="1160280" cy="11649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81280" y="3139920"/>
            <a:ext cx="1351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311640" y="3654360"/>
            <a:ext cx="1346040" cy="12600"/>
          </a:xfrm>
          <a:custGeom>
            <a:avLst/>
            <a:gdLst/>
            <a:ahLst/>
            <a:rect l="l" t="t" r="r" b="b"/>
            <a:pathLst>
              <a:path w="848" h="8">
                <a:moveTo>
                  <a:pt x="0" y="0"/>
                </a:moveTo>
                <a:lnTo>
                  <a:pt x="848" y="8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581280" y="3924360"/>
            <a:ext cx="1351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311640" y="2889360"/>
            <a:ext cx="135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087640" y="3654360"/>
            <a:ext cx="0" cy="1123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347920" y="3933720"/>
            <a:ext cx="4680" cy="1119240"/>
          </a:xfrm>
          <a:custGeom>
            <a:avLst/>
            <a:gdLst/>
            <a:ahLst/>
            <a:rect l="l" t="t" r="r" b="b"/>
            <a:pathLst>
              <a:path w="3" h="705">
                <a:moveTo>
                  <a:pt x="0" y="0"/>
                </a:moveTo>
                <a:lnTo>
                  <a:pt x="3" y="705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64000" y="3924360"/>
            <a:ext cx="4680" cy="1100160"/>
          </a:xfrm>
          <a:custGeom>
            <a:avLst/>
            <a:gdLst/>
            <a:ahLst/>
            <a:rect l="l" t="t" r="r" b="b"/>
            <a:pathLst>
              <a:path w="3" h="693">
                <a:moveTo>
                  <a:pt x="3" y="0"/>
                </a:moveTo>
                <a:lnTo>
                  <a:pt x="0" y="693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11640" y="3654360"/>
            <a:ext cx="0" cy="1123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840800" y="1989000"/>
            <a:ext cx="720720" cy="779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0800000">
            <a:off x="5876640" y="3471840"/>
            <a:ext cx="1228680" cy="722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254240" y="1576440"/>
            <a:ext cx="1214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主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58080" y="1622520"/>
            <a:ext cx="9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72120" y="4149720"/>
            <a:ext cx="12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俯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767720" y="1622520"/>
            <a:ext cx="13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左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22720" y="1943280"/>
            <a:ext cx="103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主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2502000" y="1359000"/>
            <a:ext cx="581040" cy="6192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 rot="5400000">
            <a:off x="630000" y="3049560"/>
            <a:ext cx="581040" cy="6192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 rot="2813400">
            <a:off x="3555720" y="4130280"/>
            <a:ext cx="581040" cy="6192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446640" y="954000"/>
            <a:ext cx="2249280" cy="360360"/>
          </a:xfrm>
          <a:prstGeom prst="cloudCallout">
            <a:avLst>
              <a:gd name="adj1" fmla="val -73078"/>
              <a:gd name="adj2" fmla="val 53083"/>
            </a:avLst>
          </a:prstGeom>
          <a:solidFill>
            <a:srgbClr val="ffcccc"/>
          </a:solidFill>
          <a:ln w="0">
            <a:noFill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  <a:ea typeface="隶书"/>
              </a:rPr>
              <a:t>从上面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032360" y="5363280"/>
            <a:ext cx="2205000" cy="405000"/>
          </a:xfrm>
          <a:prstGeom prst="cloudCallout">
            <a:avLst>
              <a:gd name="adj1" fmla="val -47625"/>
              <a:gd name="adj2" fmla="val 225291"/>
            </a:avLst>
          </a:prstGeom>
          <a:solidFill>
            <a:srgbClr val="ffcccc"/>
          </a:solidFill>
          <a:ln w="0">
            <a:noFill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  <a:ea typeface="隶书"/>
              </a:rPr>
              <a:t>从主面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-720" y="998640"/>
            <a:ext cx="2322360" cy="360360"/>
          </a:xfrm>
          <a:prstGeom prst="cloudCallout">
            <a:avLst>
              <a:gd name="adj1" fmla="val 20810"/>
              <a:gd name="adj2" fmla="val 548675"/>
            </a:avLst>
          </a:prstGeom>
          <a:solidFill>
            <a:srgbClr val="ffcccc"/>
          </a:solidFill>
          <a:ln w="0">
            <a:noFill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  <a:ea typeface="隶书"/>
              </a:rPr>
              <a:t>从左面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886360" y="1998720"/>
            <a:ext cx="1228680" cy="7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7130880" y="1982880"/>
            <a:ext cx="682560" cy="780840"/>
            <a:chOff x="7130880" y="1982880"/>
            <a:chExt cx="682560" cy="780840"/>
          </a:xfrm>
        </p:grpSpPr>
        <p:sp>
          <p:nvSpPr>
            <p:cNvPr id="485" name=""/>
            <p:cNvSpPr/>
            <p:nvPr/>
          </p:nvSpPr>
          <p:spPr>
            <a:xfrm>
              <a:off x="7140240" y="1982880"/>
              <a:ext cx="270000" cy="0"/>
            </a:xfrm>
            <a:prstGeom prst="line">
              <a:avLst/>
            </a:prstGeom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30880" y="2763720"/>
              <a:ext cx="269640" cy="0"/>
            </a:xfrm>
            <a:prstGeom prst="line">
              <a:avLst/>
            </a:prstGeom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00600" y="1982880"/>
              <a:ext cx="270000" cy="0"/>
            </a:xfrm>
            <a:prstGeom prst="line">
              <a:avLst/>
            </a:prstGeom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43440" y="2763720"/>
              <a:ext cx="270000" cy="0"/>
            </a:xfrm>
            <a:prstGeom prst="line">
              <a:avLst/>
            </a:prstGeom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75240" y="1982880"/>
              <a:ext cx="0" cy="7650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51440" y="1987560"/>
              <a:ext cx="0" cy="764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35640" y="215100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873760" y="2798640"/>
            <a:ext cx="1238400" cy="644760"/>
            <a:chOff x="5873760" y="2798640"/>
            <a:chExt cx="1238400" cy="644760"/>
          </a:xfrm>
        </p:grpSpPr>
        <p:sp>
          <p:nvSpPr>
            <p:cNvPr id="493" name=""/>
            <p:cNvSpPr/>
            <p:nvPr/>
          </p:nvSpPr>
          <p:spPr>
            <a:xfrm>
              <a:off x="5877000" y="2798640"/>
              <a:ext cx="0" cy="225720"/>
            </a:xfrm>
            <a:prstGeom prst="line">
              <a:avLst/>
            </a:prstGeom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12160" y="2798640"/>
              <a:ext cx="0" cy="225720"/>
            </a:xfrm>
            <a:prstGeom prst="line">
              <a:avLst/>
            </a:prstGeom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07120" y="3218040"/>
              <a:ext cx="0" cy="225360"/>
            </a:xfrm>
            <a:prstGeom prst="line">
              <a:avLst/>
            </a:prstGeom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73760" y="3218040"/>
              <a:ext cx="0" cy="225360"/>
            </a:xfrm>
            <a:prstGeom prst="line">
              <a:avLst/>
            </a:prstGeom>
            <a:ln w="31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77000" y="2889360"/>
              <a:ext cx="12160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877000" y="3338640"/>
              <a:ext cx="12160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81640" y="288936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704200" y="1393200"/>
            <a:ext cx="2859840" cy="2800800"/>
            <a:chOff x="5704200" y="1393200"/>
            <a:chExt cx="2859840" cy="2800800"/>
          </a:xfrm>
        </p:grpSpPr>
        <p:grpSp>
          <p:nvGrpSpPr>
            <p:cNvPr id="501" name=""/>
            <p:cNvGrpSpPr/>
            <p:nvPr/>
          </p:nvGrpSpPr>
          <p:grpSpPr>
            <a:xfrm>
              <a:off x="5704200" y="1393200"/>
              <a:ext cx="2859840" cy="2793960"/>
              <a:chOff x="5704200" y="1393200"/>
              <a:chExt cx="2859840" cy="2793960"/>
            </a:xfrm>
          </p:grpSpPr>
          <p:sp>
            <p:nvSpPr>
              <p:cNvPr id="502" name=""/>
              <p:cNvSpPr/>
              <p:nvPr/>
            </p:nvSpPr>
            <p:spPr>
              <a:xfrm rot="5400000">
                <a:off x="6426360" y="2062080"/>
                <a:ext cx="1389600" cy="143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168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5704200" y="1392480"/>
                <a:ext cx="2859840" cy="27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94" y="1"/>
                    </a:moveTo>
                    <a:arcTo wR="10800" hR="10800" stAng="-5433870" swAng="546826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94" y="1"/>
                    </a:moveTo>
                    <a:arcTo wR="10800" hR="10800" stAng="-5433870" swAng="5468266"/>
                  </a:path>
                </a:pathLst>
              </a:custGeom>
              <a:noFill/>
              <a:ln w="3168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7812000" y="2889360"/>
              <a:ext cx="72072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72360" y="3473280"/>
              <a:ext cx="0" cy="7207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7720" y="360216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74000" y="281304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 txBox="1"/>
          <p:nvPr/>
        </p:nvSpPr>
        <p:spPr>
          <a:xfrm>
            <a:off x="4656240" y="2362320"/>
            <a:ext cx="31428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2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黑体"/>
              </a:rPr>
              <a:t>左视图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641840" y="4013280"/>
            <a:ext cx="3348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黑体"/>
              </a:rPr>
              <a:t>侧面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241280" y="4734000"/>
            <a:ext cx="763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黑体"/>
              </a:rPr>
              <a:t>水平面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2276640" y="4464000"/>
            <a:ext cx="86832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黑体"/>
              </a:rPr>
              <a:t>俯视图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084040" y="2889360"/>
            <a:ext cx="1500120" cy="1050480"/>
            <a:chOff x="2084040" y="2889360"/>
            <a:chExt cx="1500120" cy="1050480"/>
          </a:xfrm>
        </p:grpSpPr>
        <p:grpSp>
          <p:nvGrpSpPr>
            <p:cNvPr id="513" name=""/>
            <p:cNvGrpSpPr/>
            <p:nvPr/>
          </p:nvGrpSpPr>
          <p:grpSpPr>
            <a:xfrm>
              <a:off x="2084040" y="2889360"/>
              <a:ext cx="1500120" cy="1050480"/>
              <a:chOff x="2084040" y="2889360"/>
              <a:chExt cx="1500120" cy="1050480"/>
            </a:xfrm>
          </p:grpSpPr>
          <p:sp>
            <p:nvSpPr>
              <p:cNvPr id="514" name=""/>
              <p:cNvSpPr/>
              <p:nvPr/>
            </p:nvSpPr>
            <p:spPr>
              <a:xfrm flipH="1">
                <a:off x="2087280" y="3676680"/>
                <a:ext cx="1496880" cy="263160"/>
              </a:xfrm>
              <a:prstGeom prst="parallelogram">
                <a:avLst>
                  <a:gd name="adj" fmla="val 100727"/>
                </a:avLst>
              </a:prstGeom>
              <a:gradFill rotWithShape="0">
                <a:gsLst>
                  <a:gs pos="0">
                    <a:srgbClr val="3366ff">
                      <a:alpha val="79215"/>
                    </a:srgbClr>
                  </a:gs>
                  <a:gs pos="100000">
                    <a:srgbClr val="ff3399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5400000">
                <a:off x="2923560" y="3279960"/>
                <a:ext cx="1042920" cy="261720"/>
              </a:xfrm>
              <a:prstGeom prst="parallelogram">
                <a:avLst>
                  <a:gd name="adj" fmla="val 97648"/>
                </a:avLst>
              </a:prstGeom>
              <a:gradFill rotWithShape="0">
                <a:gsLst>
                  <a:gs pos="0">
                    <a:srgbClr val="3366ff">
                      <a:alpha val="79215"/>
                    </a:srgbClr>
                  </a:gs>
                  <a:gs pos="100000">
                    <a:srgbClr val="ff3399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2083680" y="2892240"/>
                <a:ext cx="1495080" cy="1037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3366ff">
                      <a:alpha val="79215"/>
                    </a:srgbClr>
                  </a:gs>
                  <a:gs pos="100000">
                    <a:srgbClr val="ff3399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 flipH="1">
              <a:off x="2083680" y="2889360"/>
              <a:ext cx="1498680" cy="253800"/>
            </a:xfrm>
            <a:prstGeom prst="parallelogram">
              <a:avLst>
                <a:gd name="adj" fmla="val 102571"/>
              </a:avLst>
            </a:prstGeom>
            <a:gradFill rotWithShape="0">
              <a:gsLst>
                <a:gs pos="0">
                  <a:srgbClr val="3366ff">
                    <a:alpha val="49019"/>
                  </a:srgbClr>
                </a:gs>
                <a:gs pos="100000">
                  <a:srgbClr val="ff3399">
                    <a:alpha val="1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5400000">
              <a:off x="1692360" y="3284640"/>
              <a:ext cx="1041120" cy="257040"/>
            </a:xfrm>
            <a:prstGeom prst="parallelogram">
              <a:avLst>
                <a:gd name="adj" fmla="val 101261"/>
              </a:avLst>
            </a:prstGeom>
            <a:gradFill rotWithShape="0">
              <a:gsLst>
                <a:gs pos="0">
                  <a:srgbClr val="3366ff">
                    <a:alpha val="13333"/>
                  </a:srgbClr>
                </a:gs>
                <a:gs pos="100000">
                  <a:srgbClr val="ff3399">
                    <a:alpha val="13333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2000" y="119160"/>
            <a:ext cx="27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、三视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051720" y="5670720"/>
            <a:ext cx="32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右图：将三个投影面展开在一个平面内，得到一张三视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视图、俯视图和左视图组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视图中的各视图，分别从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面表示物体，三者合起来就能够较全面地反映物体的形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-0.00394 L -0.51511 -0.00394 E">
                                      <p:cBhvr>
                                        <p:cTn id="425" dur="1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33333E-006 L -0.37466 0.15185 E">
                                      <p:cBhvr>
                                        <p:cTn id="435" dur="1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92 L -0.40365 0.15648 E">
                                      <p:cBhvr>
                                        <p:cTn id="445" dur="1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4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17T08:07:48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